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EFD-AF62-4B3D-B40F-69DDDEB5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67B-AEB5-4CE6-9980-A1E4DC1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2F0-7228-4A1E-8BEE-E0D2C65E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547-E8D9-40CA-BC81-2ECA9FD3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617-8DDC-49C1-8E27-D620AF3C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3D0-F2AC-4F5F-9300-2F6113CC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A30-C21E-41E4-BB00-F27EFC4A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FF6-006B-4381-B857-214CD9A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4640" y="328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298-E683-46EF-882A-7DAF5DAB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2CB-1F2A-471B-8346-256D90AC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6A8-E5EC-477F-8C86-20AD38D2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19F-1D85-4663-87BD-2B4720E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464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23C8-37AE-40E0-9456-CA07F6F5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ster05_image002" descr=""/>
          <p:cNvPicPr/>
          <p:nvPr/>
        </p:nvPicPr>
        <p:blipFill>
          <a:blip r:embed="rId9"/>
          <a:srcRect l="0" t="0" r="11998" b="0"/>
          <a:stretch/>
        </p:blipFill>
        <p:spPr>
          <a:xfrm>
            <a:off x="8066160" y="5931000"/>
            <a:ext cx="9302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120" y="30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76480" y="1787400"/>
            <a:ext cx="7138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Times New Roman"/>
              </a:rPr>
              <a:t>WP1: Task 3</a:t>
            </a:r>
            <a:br>
              <a:rPr sz="40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lgoritmi end-to-end per il controllo del traffico e della congest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1200" y="369900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CP over wireless: controllo di congestione con stima esplicita della b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5720" y="457200"/>
            <a:ext cx="51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Politecnico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Dipartimento Elettronica e 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aster05_image002" descr=""/>
          <p:cNvPicPr/>
          <p:nvPr/>
        </p:nvPicPr>
        <p:blipFill>
          <a:blip r:embed="rId1"/>
          <a:srcRect l="0" t="0" r="11998" b="0"/>
          <a:stretch/>
        </p:blipFill>
        <p:spPr>
          <a:xfrm>
            <a:off x="380880" y="152280"/>
            <a:ext cx="16765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QoS Rout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3920" y="1065240"/>
            <a:ext cx="85597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gni connessione è caratterizzata da 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cammino è scelto sulla base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ncoli (banda, ritardo, perdita, jitt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ettivi (instradare c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-h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mi proposti in lettera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HA: Min-Hop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SP: Widest Shortes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RA: Minimum Interference Rout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Chen, K. Nahrstedt, “An Overview of Quality of Service Routing for Next-Generation High-Speed Networks: Problems and Solutions”, IEEE Network, Nov/Dec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VC" descr=""/>
          <p:cNvPicPr/>
          <p:nvPr/>
        </p:nvPicPr>
        <p:blipFill>
          <a:blip r:embed="rId1"/>
          <a:stretch/>
        </p:blipFill>
        <p:spPr>
          <a:xfrm>
            <a:off x="4568760" y="3305160"/>
            <a:ext cx="4249800" cy="26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904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irtual Flow Deviation (VF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200" y="1341360"/>
            <a:ext cx="904896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PETTI CHI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FD non si basa su un approccio “shortest path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FD instrada più connessioni contempora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0520" y="3454560"/>
            <a:ext cx="44956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FD instrada ogni connessione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rea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ieme ad un set di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hiamate virtual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he rappresentano una stima delle connessioni che interferiranno con la connessione re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838080" y="2876400"/>
            <a:ext cx="7282080" cy="2586240"/>
            <a:chOff x="838080" y="2876400"/>
            <a:chExt cx="7282080" cy="2586240"/>
          </a:xfrm>
        </p:grpSpPr>
        <p:sp>
          <p:nvSpPr>
            <p:cNvPr id="132" name=""/>
            <p:cNvSpPr/>
            <p:nvPr/>
          </p:nvSpPr>
          <p:spPr>
            <a:xfrm>
              <a:off x="838080" y="2876400"/>
              <a:ext cx="7101000" cy="258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1414440" y="3076560"/>
                  <a:ext cx="157968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num>
                        <m:den>
                          <m:r>
                            <m:t xml:space="preserve">Λ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432080" y="4257720"/>
                  <a:ext cx="119196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35" name=""/>
            <p:cNvGrpSpPr/>
            <p:nvPr/>
          </p:nvGrpSpPr>
          <p:grpSpPr>
            <a:xfrm>
              <a:off x="3701880" y="3031920"/>
              <a:ext cx="4081680" cy="673200"/>
              <a:chOff x="3701880" y="3031920"/>
              <a:chExt cx="4081680" cy="673200"/>
            </a:xfrm>
          </p:grpSpPr>
          <mc:AlternateContent>
            <mc:Choice xmlns:a14="http://schemas.microsoft.com/office/drawing/2010/main" Requires="a14">
              <p:sp>
                <p:nvSpPr>
                  <p:cNvPr id="136" name=""/>
                  <p:cNvSpPr txBox="1"/>
                  <p:nvPr/>
                </p:nvSpPr>
                <p:spPr>
                  <a:xfrm>
                    <a:off x="3701880" y="3047760"/>
                    <a:ext cx="582840" cy="55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7" name=""/>
              <p:cNvSpPr/>
              <p:nvPr/>
            </p:nvSpPr>
            <p:spPr>
              <a:xfrm>
                <a:off x="4313160" y="3031920"/>
                <a:ext cx="3470400" cy="673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30844" dir="9062235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=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numero medio di connessio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3673440" y="3582720"/>
                  <a:ext cx="16099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3730680" y="4171680"/>
                  <a:ext cx="33336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4911840" y="3627360"/>
              <a:ext cx="3208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30844" dir="906223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= carico totale offer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76560" y="4243320"/>
              <a:ext cx="33274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30844" dir="906223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numero di connessioni che hanno richiest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unità di banda nelle ultim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hiam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1904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 Chiamate Virtu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8720" y="1077840"/>
            <a:ext cx="8585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i chiamata è identificata da un nodo sorgente, un nodo destinazione e una banda richi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parametri delle chiamate virtuali vengono scelti sulla base delle statistiche del traffico misu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570640"/>
            <a:ext cx="95583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hiamata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rea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 quelle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virtual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sì generate vengono instradate all’ottimo utilizzando il metod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lla Flow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net_particolare" descr=""/>
          <p:cNvPicPr/>
          <p:nvPr/>
        </p:nvPicPr>
        <p:blipFill>
          <a:blip r:embed="rId1"/>
          <a:stretch/>
        </p:blipFill>
        <p:spPr>
          <a:xfrm>
            <a:off x="2644920" y="1432080"/>
            <a:ext cx="4289400" cy="3143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1904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te con carico offerto sbilanci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120" y="4753080"/>
            <a:ext cx="777240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tti i link sono monodire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sorgen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frono alla rete un carico 4 volte maggiore rispetto a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connessioni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1-D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3-D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seguono cammini obbligati, mentre le connessioni fra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2-D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possono essere instradate lungo 2 camm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200" y="195120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o Ca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720" y="356544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so Ca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344680" y="1742760"/>
            <a:ext cx="457200" cy="45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6280" y="2302560"/>
            <a:ext cx="452160" cy="45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09400" y="3873960"/>
            <a:ext cx="451800" cy="45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sbilanciato" descr=""/>
          <p:cNvPicPr/>
          <p:nvPr/>
        </p:nvPicPr>
        <p:blipFill>
          <a:blip r:embed="rId1"/>
          <a:stretch/>
        </p:blipFill>
        <p:spPr>
          <a:xfrm>
            <a:off x="1763640" y="689040"/>
            <a:ext cx="5516640" cy="4137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33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isultati Numer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360" y="4741920"/>
            <a:ext cx="777240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performance di MHA, MIRA, VFD sono valutate utilizzando la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probabilità di rifiut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 una connessione in funzione del carico offe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questa topologia MIRA e Min Hop si equival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FD ottiene prestazioni migliori bilanciando le connessioni tra (S2-D2) sui due cammini dispon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1573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Sviluppi Futur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9760" y="1741320"/>
            <a:ext cx="881388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nalisi delle prestazioni dell’algoritmo di Virtual Flow Deviation in scenari più complessi e realis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nalisi dell’impatto delle distribuzioni del traffico offerto sulle prestazioni dell’algoritmo V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nalisi dell’impatto di errori nella stima del traffico offerto sulle prestazioni di V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Sviluppo di un modello matematico che permetta di prevedere le performance dell’algoritmo di V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1573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Sommari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9760" y="1371240"/>
            <a:ext cx="88138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TCP over wireless: controllo di congestione con stima esplicita della banda (TIB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Valutazione della precisione del meccanismo di stima della banda fisica e utilizzata da una sorgente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Valutazione prestazioni di TIBET in scenari caratterizzati da collegamenti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44000" y="3716280"/>
            <a:ext cx="2811240" cy="2742840"/>
            <a:chOff x="1044000" y="3716280"/>
            <a:chExt cx="2811240" cy="2742840"/>
          </a:xfrm>
        </p:grpSpPr>
        <p:grpSp>
          <p:nvGrpSpPr>
            <p:cNvPr id="50" name=""/>
            <p:cNvGrpSpPr/>
            <p:nvPr/>
          </p:nvGrpSpPr>
          <p:grpSpPr>
            <a:xfrm>
              <a:off x="1112760" y="4782960"/>
              <a:ext cx="2209680" cy="1676160"/>
              <a:chOff x="1112760" y="4782960"/>
              <a:chExt cx="2209680" cy="1676160"/>
            </a:xfrm>
          </p:grpSpPr>
          <p:sp>
            <p:nvSpPr>
              <p:cNvPr id="51" name=""/>
              <p:cNvSpPr/>
              <p:nvPr/>
            </p:nvSpPr>
            <p:spPr>
              <a:xfrm>
                <a:off x="1112760" y="4858920"/>
                <a:ext cx="1325880" cy="10670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43040" y="4782960"/>
                <a:ext cx="1325880" cy="10666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12760" y="5316120"/>
                <a:ext cx="1325880" cy="10670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31600" y="5392440"/>
                <a:ext cx="1325880" cy="10666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96560" y="5087520"/>
                <a:ext cx="1325880" cy="10670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386720" y="5164200"/>
              <a:ext cx="155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no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Q/F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044000" y="3716280"/>
              <a:ext cx="2811240" cy="1067400"/>
              <a:chOff x="1044000" y="3716280"/>
              <a:chExt cx="2811240" cy="1067400"/>
            </a:xfrm>
          </p:grpSpPr>
          <p:sp>
            <p:nvSpPr>
              <p:cNvPr id="58" name=""/>
              <p:cNvSpPr/>
              <p:nvPr/>
            </p:nvSpPr>
            <p:spPr>
              <a:xfrm>
                <a:off x="1044000" y="4323960"/>
                <a:ext cx="2431800" cy="4597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on end-to-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2407680" y="3716280"/>
                <a:ext cx="1447560" cy="5331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5321160" y="3716280"/>
            <a:ext cx="2514240" cy="2775960"/>
            <a:chOff x="5321160" y="3716280"/>
            <a:chExt cx="2514240" cy="2775960"/>
          </a:xfrm>
        </p:grpSpPr>
        <p:grpSp>
          <p:nvGrpSpPr>
            <p:cNvPr id="61" name=""/>
            <p:cNvGrpSpPr/>
            <p:nvPr/>
          </p:nvGrpSpPr>
          <p:grpSpPr>
            <a:xfrm>
              <a:off x="5625720" y="4885920"/>
              <a:ext cx="2209680" cy="1606320"/>
              <a:chOff x="5625720" y="4885920"/>
              <a:chExt cx="2209680" cy="1606320"/>
            </a:xfrm>
          </p:grpSpPr>
          <p:sp>
            <p:nvSpPr>
              <p:cNvPr id="62" name=""/>
              <p:cNvSpPr/>
              <p:nvPr/>
            </p:nvSpPr>
            <p:spPr>
              <a:xfrm>
                <a:off x="5625720" y="4958640"/>
                <a:ext cx="1325880" cy="10227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156000" y="4885920"/>
                <a:ext cx="1325880" cy="10224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625720" y="5396760"/>
                <a:ext cx="1325880" cy="10227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244560" y="5469840"/>
                <a:ext cx="1325880" cy="10224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509520" y="5177520"/>
                <a:ext cx="1325880" cy="10227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5556960" y="4446360"/>
              <a:ext cx="1788480" cy="459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d-to-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54320" y="51768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Modifi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al 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21160" y="3716280"/>
              <a:ext cx="1218960" cy="584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5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CP over wireless</a:t>
            </a:r>
            <a:br>
              <a:rPr sz="4400"/>
            </a:b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Modifica del congestion control mediante stima esplicita della band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74600" y="1455840"/>
            <a:ext cx="7086600" cy="1364400"/>
            <a:chOff x="1074600" y="1455840"/>
            <a:chExt cx="7086600" cy="1364400"/>
          </a:xfrm>
        </p:grpSpPr>
        <p:sp>
          <p:nvSpPr>
            <p:cNvPr id="72" name=""/>
            <p:cNvSpPr/>
            <p:nvPr/>
          </p:nvSpPr>
          <p:spPr>
            <a:xfrm>
              <a:off x="3442320" y="1455840"/>
              <a:ext cx="1811520" cy="581400"/>
            </a:xfrm>
            <a:prstGeom prst="rect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3200" spc="-1" strike="noStrike">
                  <a:solidFill>
                    <a:srgbClr val="003399"/>
                  </a:solidFill>
                  <a:latin typeface="Times New Roman"/>
                </a:rPr>
                <a:t>Problem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74600" y="2141640"/>
              <a:ext cx="70866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99"/>
                  </a:solidFill>
                  <a:latin typeface="Times New Roman"/>
                </a:rPr>
                <a:t>Le perdite di pacchetti dovute al canale sono interpretate come eventi di congest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892960" y="3160800"/>
            <a:ext cx="3222720" cy="5814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3399"/>
                </a:solidFill>
                <a:latin typeface="Times New Roman"/>
              </a:rPr>
              <a:t>Possibili solu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1520" y="202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CP over wireless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6840" y="5024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vece di inserire in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mplicemente il valore dell’ultimo campione di banda stimato è possibile usare un algoritmo di stima con memoria in grado di filtrare gli errori causali dovuti al ca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82680" y="1220760"/>
            <a:ext cx="8544960" cy="3123720"/>
            <a:chOff x="382680" y="1220760"/>
            <a:chExt cx="8544960" cy="3123720"/>
          </a:xfrm>
        </p:grpSpPr>
        <p:sp>
          <p:nvSpPr>
            <p:cNvPr id="78" name=""/>
            <p:cNvSpPr/>
            <p:nvPr/>
          </p:nvSpPr>
          <p:spPr>
            <a:xfrm>
              <a:off x="389160" y="1220760"/>
              <a:ext cx="1933200" cy="581400"/>
            </a:xfrm>
            <a:prstGeom prst="rect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99"/>
                  </a:solidFill>
                  <a:latin typeface="Times New Roman"/>
                </a:rPr>
                <a:t>TCP Re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2680" y="1906200"/>
              <a:ext cx="854496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70000"/>
                </a:lnSpc>
                <a:spcBef>
                  <a:spcPts val="601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urier New"/>
                </a:rPr>
                <a:t>ssthres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è una stima della banda disponibile (in realtà di quella utilizzat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0000"/>
                </a:lnSpc>
                <a:spcBef>
                  <a:spcPts val="601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 convergenza d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urier New"/>
                </a:rPr>
                <a:t>ssthres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 stima di band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è strettamente dipendente dagli eventi di congest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70000"/>
                </a:lnSpc>
                <a:spcBef>
                  <a:spcPts val="601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e le perdite possono essere anche dovute al canale la stima può non essere corret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5520" y="3932280"/>
            <a:ext cx="7592040" cy="1138320"/>
            <a:chOff x="605520" y="3932280"/>
            <a:chExt cx="7592040" cy="1138320"/>
          </a:xfrm>
        </p:grpSpPr>
        <p:sp>
          <p:nvSpPr>
            <p:cNvPr id="81" name=""/>
            <p:cNvSpPr/>
            <p:nvPr/>
          </p:nvSpPr>
          <p:spPr>
            <a:xfrm>
              <a:off x="605520" y="4008600"/>
              <a:ext cx="6346800" cy="581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99"/>
                  </a:solidFill>
                  <a:latin typeface="Times New Roman"/>
                </a:rPr>
                <a:t>Explicit (used) bandwidth estim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>
              <a:off x="7157880" y="3932280"/>
              <a:ext cx="1039680" cy="113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"/>
          <p:cNvSpPr/>
          <p:nvPr/>
        </p:nvSpPr>
        <p:spPr>
          <a:xfrm>
            <a:off x="2698920" y="838080"/>
            <a:ext cx="565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Ruolo della stima di banda nel controllo di congestione del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9560" y="41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CP over wireless</a:t>
            </a:r>
            <a:br>
              <a:rPr sz="4400"/>
            </a:b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modifica del congestion control mediante stima esplicita della banda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1640" y="1779480"/>
            <a:ext cx="832032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ttività di ricerca svo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udio dei problemi di stima end-to-end della banda fisica e di quella utilizzata da una sorgente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viluppo di un algoritmo (TIBET) che sfrutta questa stima nel meccanismo di controllo di congest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valutazione delle prestazioni mediante simulazione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    (Network Simulator, ns - v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TIBET </a:t>
            </a: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ime Interval based Bandwidth Estimation Technique</a:t>
            </a: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10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timare separatamente lunghezza dei pacchetti e interarrivi per stimare la b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0280" y="479124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sservazi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vece che stimare la banda usando gli ACK è possibile usare direttamente il flusso di segmenti trasm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7080" y="2911320"/>
            <a:ext cx="8788320" cy="2057400"/>
            <a:chOff x="127080" y="2911320"/>
            <a:chExt cx="8788320" cy="2057400"/>
          </a:xfrm>
        </p:grpSpPr>
        <p:grpSp>
          <p:nvGrpSpPr>
            <p:cNvPr id="90" name=""/>
            <p:cNvGrpSpPr/>
            <p:nvPr/>
          </p:nvGrpSpPr>
          <p:grpSpPr>
            <a:xfrm>
              <a:off x="3505320" y="2987640"/>
              <a:ext cx="1218960" cy="762120"/>
              <a:chOff x="3505320" y="2987640"/>
              <a:chExt cx="1218960" cy="762120"/>
            </a:xfrm>
          </p:grpSpPr>
          <p:sp>
            <p:nvSpPr>
              <p:cNvPr id="91" name=""/>
              <p:cNvSpPr/>
              <p:nvPr/>
            </p:nvSpPr>
            <p:spPr>
              <a:xfrm>
                <a:off x="3505320" y="2987640"/>
                <a:ext cx="1218960" cy="7621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17360" y="3181320"/>
                <a:ext cx="91080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505320" y="4206960"/>
              <a:ext cx="1218960" cy="761760"/>
              <a:chOff x="3505320" y="4206960"/>
              <a:chExt cx="1218960" cy="761760"/>
            </a:xfrm>
          </p:grpSpPr>
          <p:sp>
            <p:nvSpPr>
              <p:cNvPr id="94" name=""/>
              <p:cNvSpPr/>
              <p:nvPr/>
            </p:nvSpPr>
            <p:spPr>
              <a:xfrm>
                <a:off x="3505320" y="4206960"/>
                <a:ext cx="1218960" cy="7617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17360" y="4400280"/>
                <a:ext cx="91080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286000" y="3368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45878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562720" y="3597120"/>
              <a:ext cx="1218960" cy="762120"/>
              <a:chOff x="5562720" y="3597120"/>
              <a:chExt cx="1218960" cy="762120"/>
            </a:xfrm>
          </p:grpSpPr>
          <p:sp>
            <p:nvSpPr>
              <p:cNvPr id="99" name=""/>
              <p:cNvSpPr/>
              <p:nvPr/>
            </p:nvSpPr>
            <p:spPr>
              <a:xfrm>
                <a:off x="5562720" y="3597120"/>
                <a:ext cx="1218960" cy="7621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76920" y="3790800"/>
                <a:ext cx="58752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/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724280" y="3368520"/>
              <a:ext cx="1447920" cy="228600"/>
            </a:xfrm>
            <a:custGeom>
              <a:avLst/>
              <a:gdLst/>
              <a:ahLst/>
              <a:rect l="l" t="t" r="r" b="b"/>
              <a:pathLst>
                <a:path w="912" h="144">
                  <a:moveTo>
                    <a:pt x="0" y="0"/>
                  </a:moveTo>
                  <a:lnTo>
                    <a:pt x="912" y="0"/>
                  </a:lnTo>
                  <a:lnTo>
                    <a:pt x="912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24280" y="4358520"/>
              <a:ext cx="1447920" cy="228600"/>
            </a:xfrm>
            <a:custGeom>
              <a:avLst/>
              <a:gdLst/>
              <a:ahLst/>
              <a:rect l="l" t="t" r="r" b="b"/>
              <a:pathLst>
                <a:path w="912" h="144">
                  <a:moveTo>
                    <a:pt x="0" y="0"/>
                  </a:moveTo>
                  <a:lnTo>
                    <a:pt x="912" y="0"/>
                  </a:lnTo>
                  <a:lnTo>
                    <a:pt x="912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4800" y="2911320"/>
              <a:ext cx="14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 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47680" y="4054320"/>
              <a:ext cx="149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 s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680" y="39783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391520" y="3597120"/>
              <a:ext cx="1218960" cy="762120"/>
              <a:chOff x="7391520" y="3597120"/>
              <a:chExt cx="1218960" cy="762120"/>
            </a:xfrm>
          </p:grpSpPr>
          <p:sp>
            <p:nvSpPr>
              <p:cNvPr id="107" name=""/>
              <p:cNvSpPr/>
              <p:nvPr/>
            </p:nvSpPr>
            <p:spPr>
              <a:xfrm>
                <a:off x="7391520" y="3597120"/>
                <a:ext cx="1218960" cy="7621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03560" y="3790800"/>
                <a:ext cx="91080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467120" y="443556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t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978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5520" y="292248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arri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80" y="40273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nghez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estazioni su link wireles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4100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rori indipend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TT=10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TCP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37280" y="1112760"/>
            <a:ext cx="175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65280" y="111276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5Mb" descr=""/>
          <p:cNvPicPr/>
          <p:nvPr/>
        </p:nvPicPr>
        <p:blipFill>
          <a:blip r:embed="rId4"/>
          <a:stretch/>
        </p:blipFill>
        <p:spPr>
          <a:xfrm>
            <a:off x="-104760" y="1655640"/>
            <a:ext cx="4735440" cy="3552840"/>
          </a:xfrm>
          <a:prstGeom prst="rect">
            <a:avLst/>
          </a:prstGeom>
          <a:ln w="0">
            <a:noFill/>
          </a:ln>
        </p:spPr>
      </p:pic>
      <p:pic>
        <p:nvPicPr>
          <p:cNvPr id="118" name="10Mb" descr=""/>
          <p:cNvPicPr/>
          <p:nvPr/>
        </p:nvPicPr>
        <p:blipFill>
          <a:blip r:embed="rId5"/>
          <a:stretch/>
        </p:blipFill>
        <p:spPr>
          <a:xfrm>
            <a:off x="4648320" y="1735200"/>
            <a:ext cx="46609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9280" y="1573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99"/>
                </a:solidFill>
                <a:latin typeface="Times New Roman"/>
              </a:rPr>
              <a:t>Sviluppi Futur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9760" y="1076040"/>
            <a:ext cx="797868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Valutazione delle prestazioni in scenari più realistici, misti wired/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Studio dell’impatto dell’algoritmo proposto sulle versioni del TCP esistenti (fairness/friendl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nalisi della implementabilità dei nuovi TCP nello stack protocollare del kernel di Linux (in collaborazione con progetto FIRB VI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progetto di scenari e test-bed che consentano una valutazione delle prestazioni dei nuovi meccanismi di stima della b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05720" y="457200"/>
            <a:ext cx="51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Politecnico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Dipartimento Elettronica e 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aster05_image002" descr=""/>
          <p:cNvPicPr/>
          <p:nvPr/>
        </p:nvPicPr>
        <p:blipFill>
          <a:blip r:embed="rId1"/>
          <a:srcRect l="0" t="0" r="11998" b="0"/>
          <a:stretch/>
        </p:blipFill>
        <p:spPr>
          <a:xfrm>
            <a:off x="380880" y="152280"/>
            <a:ext cx="1676520" cy="164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4200" y="405288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Virtual Flow Deviation: Instradamento Dinamico di Connessioni a Banda Garan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6560" y="1887480"/>
            <a:ext cx="7139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Times New Roman"/>
              </a:rPr>
              <a:t>WP1: Task 4</a:t>
            </a:r>
            <a:br>
              <a:rPr sz="40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rchitettura e protocolli per il controllo integrato degli strati IP/MPLS e W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8:41:28Z</dcterms:created>
  <dc:creator>Antonio Capone</dc:creator>
  <dc:description/>
  <dc:language>en-US</dc:language>
  <cp:lastModifiedBy>Fabio Martignon</cp:lastModifiedBy>
  <dcterms:modified xsi:type="dcterms:W3CDTF">2003-06-28T10:29:34Z</dcterms:modified>
  <cp:revision>483</cp:revision>
  <dc:subject/>
  <dc:title>Optimizing IP Routing</dc:title>
</cp:coreProperties>
</file>