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media/image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5430-D03B-4550-BFCD-5CD7731067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9480" y="711360"/>
            <a:ext cx="4564080" cy="342252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5840" y="4346640"/>
            <a:ext cx="502632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adays to maintain a certain level of service grade, the bandwidth between two nodes must be engineered to a level that will satisfy traffic requirement most of the time or all the time. A link is over engineered and therefore most of the time under-utilized (figure 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: when the OPTera Network Controller detects traffic level increases beyond a configurable threshold, the OPTera Network Controller increases the bandwidth assigned to the path. When the traffic level drops below a configurable threshold, the OPTera Network Controller decreases the bandwidth of the path, but by a value smaller than the previous inc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etwork performance is optimized by dynamically adjusting bandwidth supply to bandwidth dem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1516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49440" y="224748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88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1516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49440" y="3873240"/>
            <a:ext cx="26989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6040" y="387324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474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873240"/>
            <a:ext cx="8382240" cy="1484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372360"/>
            <a:ext cx="89154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cccc"/>
            </a:outerShdw>
          </a:effectLst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47480"/>
            <a:ext cx="83822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c82b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c82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txtFooterRight"/>
          <p:cNvSpPr/>
          <p:nvPr/>
        </p:nvSpPr>
        <p:spPr>
          <a:xfrm>
            <a:off x="5791320" y="648504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6172200" y="0"/>
            <a:ext cx="548640" cy="429840"/>
            <a:chOff x="6172200" y="0"/>
            <a:chExt cx="548640" cy="429840"/>
          </a:xfrm>
        </p:grpSpPr>
        <p:grpSp>
          <p:nvGrpSpPr>
            <p:cNvPr id="8" name=""/>
            <p:cNvGrpSpPr/>
            <p:nvPr/>
          </p:nvGrpSpPr>
          <p:grpSpPr>
            <a:xfrm>
              <a:off x="6172200" y="0"/>
              <a:ext cx="503280" cy="374760"/>
              <a:chOff x="6172200" y="0"/>
              <a:chExt cx="503280" cy="37476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6172200" y="0"/>
                <a:ext cx="503280" cy="374760"/>
                <a:chOff x="6172200" y="0"/>
                <a:chExt cx="503280" cy="37476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6172200" y="115200"/>
                  <a:ext cx="349560" cy="254160"/>
                </a:xfrm>
                <a:custGeom>
                  <a:avLst/>
                  <a:gdLst/>
                  <a:ahLst/>
                  <a:rect l="l" t="t" r="r" b="b"/>
                  <a:pathLst>
                    <a:path w="100" h="97">
                      <a:moveTo>
                        <a:pt x="8" y="0"/>
                      </a:moveTo>
                      <a:lnTo>
                        <a:pt x="0" y="8"/>
                      </a:lnTo>
                      <a:lnTo>
                        <a:pt x="93" y="97"/>
                      </a:lnTo>
                      <a:lnTo>
                        <a:pt x="100" y="8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6329880" y="117720"/>
                  <a:ext cx="345600" cy="257040"/>
                </a:xfrm>
                <a:custGeom>
                  <a:avLst/>
                  <a:gdLst/>
                  <a:ahLst/>
                  <a:rect l="l" t="t" r="r" b="b"/>
                  <a:pathLst>
                    <a:path w="99" h="98">
                      <a:moveTo>
                        <a:pt x="99" y="8"/>
                      </a:moveTo>
                      <a:lnTo>
                        <a:pt x="92" y="0"/>
                      </a:lnTo>
                      <a:lnTo>
                        <a:pt x="0" y="90"/>
                      </a:lnTo>
                      <a:lnTo>
                        <a:pt x="7" y="98"/>
                      </a:lnTo>
                      <a:lnTo>
                        <a:pt x="99" y="8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175080" y="10080"/>
                  <a:ext cx="346320" cy="254880"/>
                </a:xfrm>
                <a:custGeom>
                  <a:avLst/>
                  <a:gdLst/>
                  <a:ahLst/>
                  <a:rect l="l" t="t" r="r" b="b"/>
                  <a:pathLst>
                    <a:path w="99" h="97">
                      <a:moveTo>
                        <a:pt x="99" y="7"/>
                      </a:moveTo>
                      <a:lnTo>
                        <a:pt x="93" y="0"/>
                      </a:lnTo>
                      <a:lnTo>
                        <a:pt x="0" y="90"/>
                      </a:lnTo>
                      <a:lnTo>
                        <a:pt x="7" y="97"/>
                      </a:lnTo>
                      <a:lnTo>
                        <a:pt x="99" y="7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6315480" y="0"/>
                  <a:ext cx="356760" cy="251640"/>
                </a:xfrm>
                <a:custGeom>
                  <a:avLst/>
                  <a:gdLst/>
                  <a:ahLst/>
                  <a:rect l="l" t="t" r="r" b="b"/>
                  <a:pathLst>
                    <a:path w="102" h="96">
                      <a:moveTo>
                        <a:pt x="8" y="0"/>
                      </a:moveTo>
                      <a:lnTo>
                        <a:pt x="0" y="7"/>
                      </a:lnTo>
                      <a:lnTo>
                        <a:pt x="94" y="96"/>
                      </a:lnTo>
                      <a:lnTo>
                        <a:pt x="102" y="88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"/>
              <p:cNvSpPr/>
              <p:nvPr/>
            </p:nvSpPr>
            <p:spPr>
              <a:xfrm>
                <a:off x="6388920" y="60120"/>
                <a:ext cx="56160" cy="3384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2960" y="67680"/>
                <a:ext cx="56160" cy="3456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231600" y="168120"/>
                <a:ext cx="52200" cy="3384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6385680" y="280800"/>
                <a:ext cx="48960" cy="3672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546960" y="170280"/>
                <a:ext cx="52200" cy="3456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550200" y="175680"/>
                <a:ext cx="56160" cy="3672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246000" y="173160"/>
                <a:ext cx="55440" cy="3384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0080" y="283680"/>
                <a:ext cx="48240" cy="3672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6214320" y="52200"/>
              <a:ext cx="506520" cy="377640"/>
              <a:chOff x="6214320" y="52200"/>
              <a:chExt cx="506520" cy="377640"/>
            </a:xfrm>
          </p:grpSpPr>
          <p:grpSp>
            <p:nvGrpSpPr>
              <p:cNvPr id="23" name=""/>
              <p:cNvGrpSpPr/>
              <p:nvPr/>
            </p:nvGrpSpPr>
            <p:grpSpPr>
              <a:xfrm>
                <a:off x="6214320" y="52200"/>
                <a:ext cx="506520" cy="377640"/>
                <a:chOff x="6214320" y="52200"/>
                <a:chExt cx="506520" cy="37764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214320" y="169920"/>
                  <a:ext cx="356760" cy="252360"/>
                </a:xfrm>
                <a:custGeom>
                  <a:avLst/>
                  <a:gdLst/>
                  <a:ahLst/>
                  <a:rect l="l" t="t" r="r" b="b"/>
                  <a:pathLst>
                    <a:path w="102" h="96">
                      <a:moveTo>
                        <a:pt x="8" y="0"/>
                      </a:moveTo>
                      <a:lnTo>
                        <a:pt x="0" y="8"/>
                      </a:lnTo>
                      <a:lnTo>
                        <a:pt x="94" y="96"/>
                      </a:lnTo>
                      <a:lnTo>
                        <a:pt x="102" y="8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6375240" y="172800"/>
                  <a:ext cx="345600" cy="257040"/>
                </a:xfrm>
                <a:custGeom>
                  <a:avLst/>
                  <a:gdLst/>
                  <a:ahLst/>
                  <a:rect l="l" t="t" r="r" b="b"/>
                  <a:pathLst>
                    <a:path w="99" h="98">
                      <a:moveTo>
                        <a:pt x="99" y="8"/>
                      </a:moveTo>
                      <a:lnTo>
                        <a:pt x="93" y="0"/>
                      </a:lnTo>
                      <a:lnTo>
                        <a:pt x="0" y="90"/>
                      </a:lnTo>
                      <a:lnTo>
                        <a:pt x="7" y="98"/>
                      </a:lnTo>
                      <a:lnTo>
                        <a:pt x="99" y="8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6221160" y="62280"/>
                  <a:ext cx="349560" cy="257760"/>
                </a:xfrm>
                <a:custGeom>
                  <a:avLst/>
                  <a:gdLst/>
                  <a:ahLst/>
                  <a:rect l="l" t="t" r="r" b="b"/>
                  <a:pathLst>
                    <a:path w="100" h="98">
                      <a:moveTo>
                        <a:pt x="100" y="8"/>
                      </a:moveTo>
                      <a:lnTo>
                        <a:pt x="93" y="0"/>
                      </a:lnTo>
                      <a:lnTo>
                        <a:pt x="0" y="90"/>
                      </a:lnTo>
                      <a:lnTo>
                        <a:pt x="7" y="98"/>
                      </a:lnTo>
                      <a:lnTo>
                        <a:pt x="100" y="8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60840" y="52200"/>
                  <a:ext cx="353520" cy="254520"/>
                </a:xfrm>
                <a:custGeom>
                  <a:avLst/>
                  <a:gdLst/>
                  <a:ahLst/>
                  <a:rect l="l" t="t" r="r" b="b"/>
                  <a:pathLst>
                    <a:path w="101" h="97">
                      <a:moveTo>
                        <a:pt x="8" y="0"/>
                      </a:moveTo>
                      <a:lnTo>
                        <a:pt x="0" y="8"/>
                      </a:lnTo>
                      <a:lnTo>
                        <a:pt x="93" y="97"/>
                      </a:lnTo>
                      <a:lnTo>
                        <a:pt x="101" y="8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" name=""/>
              <p:cNvSpPr/>
              <p:nvPr/>
            </p:nvSpPr>
            <p:spPr>
              <a:xfrm>
                <a:off x="6435000" y="115200"/>
                <a:ext cx="52200" cy="3384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448320" y="117720"/>
                <a:ext cx="52920" cy="3384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273720" y="219960"/>
                <a:ext cx="56160" cy="3672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431040" y="335880"/>
                <a:ext cx="52920" cy="3672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589080" y="225360"/>
                <a:ext cx="52200" cy="3384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599520" y="230760"/>
                <a:ext cx="48960" cy="3384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291360" y="227880"/>
                <a:ext cx="52200" cy="3456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445440" y="338040"/>
                <a:ext cx="52200" cy="36720"/>
              </a:xfrm>
              <a:prstGeom prst="ellipse">
                <a:avLst/>
              </a:prstGeom>
              <a:solidFill>
                <a:srgbClr val="000099"/>
              </a:solidFill>
              <a:ln w="79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"/>
          <p:cNvSpPr/>
          <p:nvPr/>
        </p:nvSpPr>
        <p:spPr>
          <a:xfrm>
            <a:off x="6881400" y="1440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oRi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4000" y="101520"/>
            <a:ext cx="1558800" cy="376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71680"/>
            <a:ext cx="9144000" cy="144360"/>
          </a:xfrm>
          <a:prstGeom prst="rect">
            <a:avLst/>
          </a:prstGeom>
          <a:solidFill>
            <a:srgbClr val="4c8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372360"/>
            <a:ext cx="9144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365880"/>
            <a:ext cx="9144000" cy="71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7880" y="2286000"/>
            <a:ext cx="7758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9" name="txtFooterLeft"/>
          <p:cNvSpPr/>
          <p:nvPr/>
        </p:nvSpPr>
        <p:spPr>
          <a:xfrm>
            <a:off x="793800" y="6508800"/>
            <a:ext cx="253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xtFooterRight"/>
          <p:cNvSpPr/>
          <p:nvPr/>
        </p:nvSpPr>
        <p:spPr>
          <a:xfrm>
            <a:off x="6019920" y="6508800"/>
            <a:ext cx="28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X/D/NP Örjan Matts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xtFooterDate"/>
          <p:cNvSpPr/>
          <p:nvPr/>
        </p:nvSpPr>
        <p:spPr>
          <a:xfrm>
            <a:off x="33750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1-11-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xtFooterCVLPage"/>
          <p:cNvSpPr/>
          <p:nvPr/>
        </p:nvSpPr>
        <p:spPr>
          <a:xfrm>
            <a:off x="4678200" y="6508800"/>
            <a:ext cx="10796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7EAC-89C1-481A-96F9-279C72D2BD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oritel.it/publications/Opt_download/TE_System_for_GMPLS_networks.pdf" TargetMode="External"/><Relationship Id="rId2" Type="http://schemas.openxmlformats.org/officeDocument/2006/relationships/hyperlink" Target="http://www.coritel.it/publications/Opt_download/TE_System_for_GMPLS_networks.pdf" TargetMode="External"/><Relationship Id="rId3" Type="http://schemas.openxmlformats.org/officeDocument/2006/relationships/hyperlink" Target="http://www.coritel.it/publications/Opt_download/TE_System_for_GMPLS_networks.pdf" TargetMode="External"/><Relationship Id="rId4" Type="http://schemas.openxmlformats.org/officeDocument/2006/relationships/hyperlink" Target="http://www.coritel.it/publications/Opt_download/TE_System_for_GMPLS_networks.pdf" TargetMode="External"/><Relationship Id="rId5" Type="http://schemas.openxmlformats.org/officeDocument/2006/relationships/hyperlink" Target="http://www.coritel.it/publications/Opt_download/TE_System_for_GMPLS_networks.pdf" TargetMode="External"/><Relationship Id="rId6" Type="http://schemas.openxmlformats.org/officeDocument/2006/relationships/hyperlink" Target="http://www.coritel.it/publications/Opt_download/TE_System_for_GMPLS_networks.pdf" TargetMode="External"/><Relationship Id="rId7" Type="http://schemas.openxmlformats.org/officeDocument/2006/relationships/hyperlink" Target="http://www.coritel.it/publications/Opt_download/TE_System_for_GMPLS_networks.pdf" TargetMode="External"/><Relationship Id="rId8" Type="http://schemas.openxmlformats.org/officeDocument/2006/relationships/hyperlink" Target="http://www.coritel.it/publications/Opt_download/TE_System_for_GMPLS_networks.pdf" TargetMode="External"/><Relationship Id="rId9" Type="http://schemas.openxmlformats.org/officeDocument/2006/relationships/hyperlink" Target="http://www.coritel.it/publications/IP_download/CL2002-616.pdf" TargetMode="External"/><Relationship Id="rId10" Type="http://schemas.openxmlformats.org/officeDocument/2006/relationships/hyperlink" Target="http://www.coritel.it/publications/IP_download/CL2002-616.pdf" TargetMode="External"/><Relationship Id="rId11" Type="http://schemas.openxmlformats.org/officeDocument/2006/relationships/hyperlink" Target="http://www.coritel.it/publications/IP_download/CL2002-616.pdf" TargetMode="External"/><Relationship Id="rId12" Type="http://schemas.openxmlformats.org/officeDocument/2006/relationships/hyperlink" Target="http://www.coritel.it/publications/IP_download/CL2002-616.pdf" TargetMode="External"/><Relationship Id="rId13" Type="http://schemas.openxmlformats.org/officeDocument/2006/relationships/hyperlink" Target="http://www.coritel.it/publications/IP_download/CL2002-616.pdf" TargetMode="External"/><Relationship Id="rId14" Type="http://schemas.openxmlformats.org/officeDocument/2006/relationships/hyperlink" Target="http://www.coritel.it/publications/IP_download/CL2002-616.pdf" TargetMode="External"/><Relationship Id="rId15" Type="http://schemas.openxmlformats.org/officeDocument/2006/relationships/hyperlink" Target="http://www.coritel.it/publications/IP_download/CL2002-616.pdf" TargetMode="External"/><Relationship Id="rId16" Type="http://schemas.openxmlformats.org/officeDocument/2006/relationships/hyperlink" Target="http://www.coritel.it/publications/IP_download/CL2002-616.pdf" TargetMode="External"/><Relationship Id="rId17" Type="http://schemas.openxmlformats.org/officeDocument/2006/relationships/hyperlink" Target="http://www.coritel.it/publications/IP_download/CL2002-616.pdf" TargetMode="External"/><Relationship Id="rId18" Type="http://schemas.openxmlformats.org/officeDocument/2006/relationships/hyperlink" Target="http://www.coritel.it/publications/IP_download/ONDM_2003.pdf" TargetMode="External"/><Relationship Id="rId19" Type="http://schemas.openxmlformats.org/officeDocument/2006/relationships/hyperlink" Target="http://www.coritel.it/publications/IP_download/ONDM_2003.pdf" TargetMode="External"/><Relationship Id="rId20" Type="http://schemas.openxmlformats.org/officeDocument/2006/relationships/hyperlink" Target="http://www.coritel.it/publications/IP_download/ONDM_2003.pdf" TargetMode="External"/><Relationship Id="rId21" Type="http://schemas.openxmlformats.org/officeDocument/2006/relationships/hyperlink" Target="http://www.coritel.it/publications/IP_download/ONDM_2003.pdf" TargetMode="External"/><Relationship Id="rId22" Type="http://schemas.openxmlformats.org/officeDocument/2006/relationships/hyperlink" Target="http://www.coritel.it/publications/IP_download/ONDM_2003.pdf" TargetMode="External"/><Relationship Id="rId23" Type="http://schemas.openxmlformats.org/officeDocument/2006/relationships/hyperlink" Target="http://www.coritel.it/publications/IP_download/ONDM_2003.pdf" TargetMode="External"/><Relationship Id="rId24" Type="http://schemas.openxmlformats.org/officeDocument/2006/relationships/hyperlink" Target="http://www.coritel.it/publications/IP_download/ONDM_2003.pdf" TargetMode="External"/><Relationship Id="rId25" Type="http://schemas.openxmlformats.org/officeDocument/2006/relationships/hyperlink" Target="http://www.coritel.it/publications/IP_download/ONDM_2003.pdf" TargetMode="External"/><Relationship Id="rId26" Type="http://schemas.openxmlformats.org/officeDocument/2006/relationships/hyperlink" Target="http://www.coritel.it/publications/IP_download/ONDM_2003.pdf" TargetMode="External"/><Relationship Id="rId27" Type="http://schemas.openxmlformats.org/officeDocument/2006/relationships/hyperlink" Target="http://www.coritel.it/publications/IP_download/ONDM_2003.pdf" TargetMode="External"/><Relationship Id="rId28" Type="http://schemas.openxmlformats.org/officeDocument/2006/relationships/hyperlink" Target="http://www.coritel.it/publications/IP_download/ONDM_2003.pdf" TargetMode="External"/><Relationship Id="rId29" Type="http://schemas.openxmlformats.org/officeDocument/2006/relationships/hyperlink" Target="http://www.coritel.it/publications/Opt_download/ConteONDM03.pdf" TargetMode="External"/><Relationship Id="rId30" Type="http://schemas.openxmlformats.org/officeDocument/2006/relationships/hyperlink" Target="http://www.coritel.it/publications/Opt_download/ConteONDM03.pdf" TargetMode="External"/><Relationship Id="rId31" Type="http://schemas.openxmlformats.org/officeDocument/2006/relationships/hyperlink" Target="http://www.coritel.it/publications/Opt_download/ConteONDM03.pdf" TargetMode="External"/><Relationship Id="rId32" Type="http://schemas.openxmlformats.org/officeDocument/2006/relationships/hyperlink" Target="http://www.coritel.it/publications/Opt_download/ConteONDM03.pdf" TargetMode="External"/><Relationship Id="rId33" Type="http://schemas.openxmlformats.org/officeDocument/2006/relationships/hyperlink" Target="http://www.coritel.it/publications/Opt_download/ConteONDM03.pdf" TargetMode="External"/><Relationship Id="rId34" Type="http://schemas.openxmlformats.org/officeDocument/2006/relationships/hyperlink" Target="http://www.coritel.it/publications/Opt_download/ConteONDM03.pdf" TargetMode="External"/><Relationship Id="rId35" Type="http://schemas.openxmlformats.org/officeDocument/2006/relationships/hyperlink" Target="http://www.coritel.it/publications/Opt_download/ConteONDM03.pdf" TargetMode="External"/><Relationship Id="rId36" Type="http://schemas.openxmlformats.org/officeDocument/2006/relationships/hyperlink" Target="http://www.coritel.it/publications/Opt_download/ConteONDM03.pdf" TargetMode="External"/><Relationship Id="rId37" Type="http://schemas.openxmlformats.org/officeDocument/2006/relationships/hyperlink" Target="http://www.coritel.it/publications/Opt_download/ConteONDM03.pdf" TargetMode="External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5.wmf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723960"/>
          <a:ext cx="9144000" cy="56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23960"/>
                    <a:ext cx="9144000" cy="56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47560" y="2233080"/>
            <a:ext cx="6933960" cy="3589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70a2"/>
                </a:solidFill>
                <a:latin typeface="Arial"/>
              </a:rPr>
              <a:t>Traffic Engineering solution for GMPLS network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e70a2"/>
                </a:solidFill>
                <a:latin typeface="Arial"/>
              </a:rPr>
              <a:t>Paola Iovanna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70a2"/>
                </a:solidFill>
                <a:latin typeface="Arial"/>
              </a:rPr>
              <a:t>paola.iovanna@ericsson.com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609480"/>
            <a:ext cx="9144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Global Path Provisioning</a:t>
            </a:r>
            <a:r>
              <a:rPr b="1" lang="it-IT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2360" y="1749600"/>
            <a:ext cx="417852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=(V,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physical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=(V,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logical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set of network nodes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R integrated with an OXC or a stand-alone OXC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set of physical ar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set of lightpa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set of commodities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LS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subset of lightpath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sing the physical arc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Times New Roman"/>
              </a:rPr>
              <a:t>F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subset of lightpath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tarting from nod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Times New Roman"/>
              </a:rPr>
              <a:t>F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subset of lightpath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nding in nod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capacity of a wavelength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total number of wavelengths available on the physical arc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i,j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number of intra-office ports outgoing from nod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he number of intra-office ports incoming to nod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522680" y="2997360"/>
                <a:ext cx="4149720" cy="32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α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  <m:r>
                              <m:t xml:space="preserve">∈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t xml:space="preserve">∈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t xml:space="preserve">∈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nary>
                        <m:r>
                          <m:t xml:space="preserve">α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t xml:space="preserve">∈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nary>
                        <m:r>
                          <m:t xml:space="preserve">α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t xml:space="preserve">∈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t xml:space="preserve">∈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t xml:space="preserve">∈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r>
                              <m:t xml:space="preserve">∈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4560840" y="2038320"/>
                <a:ext cx="361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the commodity </m:t>
                              </m:r>
                              <m:r>
                                <m:t xml:space="preserve">k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routed through lightpath </m:t>
                              </m:r>
                              <m:r>
                                <m:t xml:space="preserve">f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                                                           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529160" y="1557360"/>
                <a:ext cx="2171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lightpath </m:t>
                              </m:r>
                              <m:r>
                                <m:t xml:space="preserve">f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selecte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                     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530600" y="2556000"/>
                <a:ext cx="5241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255600" y="133992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ations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90200" y="261936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mulat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0120" y="1339920"/>
            <a:ext cx="20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cision variabl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609480"/>
            <a:ext cx="9144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On-line Routing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7080" y="3344760"/>
            <a:ext cx="442908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It is a shortest path algorithm with an adaptive weight function that takes into accou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c82b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Number of h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c82b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Capacity availability in logical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c82b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Capacity availability in individual lightpaths on the logical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20840" y="4019400"/>
            <a:ext cx="3186000" cy="2109960"/>
            <a:chOff x="420840" y="4019400"/>
            <a:chExt cx="3186000" cy="2109960"/>
          </a:xfrm>
        </p:grpSpPr>
        <p:sp>
          <p:nvSpPr>
            <p:cNvPr id="538" name=""/>
            <p:cNvSpPr/>
            <p:nvPr/>
          </p:nvSpPr>
          <p:spPr>
            <a:xfrm flipH="1">
              <a:off x="2045880" y="4649760"/>
              <a:ext cx="1252440" cy="13827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150920" y="4616280"/>
              <a:ext cx="2098800" cy="5400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35040" y="4601880"/>
              <a:ext cx="392040" cy="10047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104840" y="4702320"/>
              <a:ext cx="739800" cy="5126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890720" y="4660560"/>
              <a:ext cx="1352520" cy="5619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88840" y="4541760"/>
              <a:ext cx="425520" cy="279360"/>
            </a:xfrm>
            <a:prstGeom prst="cube">
              <a:avLst>
                <a:gd name="adj" fmla="val 17157"/>
              </a:avLst>
            </a:prstGeom>
            <a:solidFill>
              <a:srgbClr val="c7d03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76520" y="5094360"/>
              <a:ext cx="425160" cy="279360"/>
            </a:xfrm>
            <a:prstGeom prst="cube">
              <a:avLst>
                <a:gd name="adj" fmla="val 17157"/>
              </a:avLst>
            </a:prstGeom>
            <a:solidFill>
              <a:srgbClr val="c7d03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104920" y="5713560"/>
              <a:ext cx="1016280" cy="3189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273480" y="4692600"/>
              <a:ext cx="156960" cy="105732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16080" y="5564160"/>
              <a:ext cx="425520" cy="279360"/>
            </a:xfrm>
            <a:prstGeom prst="cube">
              <a:avLst>
                <a:gd name="adj" fmla="val 17157"/>
              </a:avLst>
            </a:prstGeom>
            <a:solidFill>
              <a:srgbClr val="c7d03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81320" y="4510080"/>
              <a:ext cx="425520" cy="279360"/>
            </a:xfrm>
            <a:prstGeom prst="cube">
              <a:avLst>
                <a:gd name="adj" fmla="val 17157"/>
              </a:avLst>
            </a:prstGeom>
            <a:solidFill>
              <a:srgbClr val="c7d03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46200" y="5271840"/>
              <a:ext cx="1228680" cy="32868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2200" y="5638680"/>
              <a:ext cx="1353960" cy="3938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1058400" y="4181040"/>
              <a:ext cx="11160" cy="3999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106720" y="5554440"/>
              <a:ext cx="3240" cy="45396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3197160" y="5273640"/>
              <a:ext cx="6480" cy="325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6480" y="5192640"/>
              <a:ext cx="0" cy="4604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54480" y="4246560"/>
              <a:ext cx="0" cy="35892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3155760" y="4332240"/>
              <a:ext cx="152280" cy="88272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9320" y="5259240"/>
              <a:ext cx="1314720" cy="34956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43000" y="4332240"/>
              <a:ext cx="2025720" cy="9334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5800" y="5234040"/>
              <a:ext cx="1263600" cy="336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181320" y="4351320"/>
              <a:ext cx="152280" cy="8510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20680" y="4354560"/>
              <a:ext cx="199404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209680" y="5335200"/>
              <a:ext cx="914400" cy="26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235240" y="5354280"/>
              <a:ext cx="914400" cy="266760"/>
            </a:xfrm>
            <a:prstGeom prst="line">
              <a:avLst/>
            </a:prstGeom>
            <a:ln w="38160">
              <a:solidFill>
                <a:srgbClr val="dc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247840" y="5373360"/>
              <a:ext cx="914400" cy="266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3920" y="4389480"/>
              <a:ext cx="1994040" cy="9144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206880" y="4344840"/>
              <a:ext cx="152280" cy="85104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3225960" y="4357440"/>
              <a:ext cx="152280" cy="8506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279520" y="5385960"/>
              <a:ext cx="914400" cy="26676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2184480" y="5316120"/>
              <a:ext cx="914400" cy="26676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6720" y="5310360"/>
              <a:ext cx="1314360" cy="34920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3200" y="5284800"/>
              <a:ext cx="1263600" cy="33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36520" y="4218120"/>
              <a:ext cx="21528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36520" y="4243320"/>
              <a:ext cx="215280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30400" y="4167360"/>
              <a:ext cx="2151000" cy="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30400" y="4192560"/>
              <a:ext cx="2151000" cy="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44440" y="4319640"/>
              <a:ext cx="21513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4440" y="4344840"/>
              <a:ext cx="215136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36520" y="4268880"/>
              <a:ext cx="2152800" cy="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36520" y="4294080"/>
              <a:ext cx="21528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250800" y="4332240"/>
              <a:ext cx="152280" cy="88272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276720" y="4351320"/>
              <a:ext cx="152280" cy="8510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301920" y="4344840"/>
              <a:ext cx="152640" cy="85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321000" y="4357440"/>
              <a:ext cx="152280" cy="85068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55600" y="4299120"/>
              <a:ext cx="1994040" cy="91440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104840" y="4408560"/>
              <a:ext cx="1994040" cy="91440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68560" y="4281480"/>
              <a:ext cx="1993680" cy="91440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939960" y="4338720"/>
              <a:ext cx="1085760" cy="13208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23920" y="4287960"/>
              <a:ext cx="1085760" cy="132084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11320" y="4313160"/>
              <a:ext cx="1085760" cy="132084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77760" y="4344840"/>
              <a:ext cx="1086120" cy="132084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28880" y="4370400"/>
              <a:ext cx="1085760" cy="13208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71400" y="4357800"/>
              <a:ext cx="292320" cy="780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691920" y="4370400"/>
              <a:ext cx="291960" cy="7812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44400" y="4354560"/>
              <a:ext cx="292320" cy="7808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711000" y="4395960"/>
              <a:ext cx="291960" cy="78084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84280" y="4300560"/>
              <a:ext cx="317520" cy="83808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22080" y="4338720"/>
              <a:ext cx="291960" cy="780840"/>
            </a:xfrm>
            <a:prstGeom prst="line">
              <a:avLst/>
            </a:prstGeom>
            <a:ln w="38160">
              <a:solidFill>
                <a:srgbClr val="dc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4880" y="5342040"/>
              <a:ext cx="1263600" cy="33660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3200" y="5386320"/>
              <a:ext cx="1263600" cy="33660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6720" y="5354640"/>
              <a:ext cx="1314360" cy="35568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79640" y="4313160"/>
              <a:ext cx="1085760" cy="1320840"/>
            </a:xfrm>
            <a:prstGeom prst="line">
              <a:avLst/>
            </a:prstGeom>
            <a:ln w="38160">
              <a:solidFill>
                <a:srgbClr val="dc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66680" y="4376880"/>
              <a:ext cx="1086120" cy="132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66680" y="4338720"/>
              <a:ext cx="1086120" cy="132084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" descr=""/>
            <p:cNvPicPr/>
            <p:nvPr/>
          </p:nvPicPr>
          <p:blipFill>
            <a:blip r:embed="rId1"/>
            <a:stretch/>
          </p:blipFill>
          <p:spPr>
            <a:xfrm>
              <a:off x="776160" y="4038480"/>
              <a:ext cx="45720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66960" y="5850000"/>
              <a:ext cx="425520" cy="279360"/>
            </a:xfrm>
            <a:prstGeom prst="cube">
              <a:avLst>
                <a:gd name="adj" fmla="val 17157"/>
              </a:avLst>
            </a:prstGeom>
            <a:solidFill>
              <a:srgbClr val="c7d03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5520" y="5487840"/>
              <a:ext cx="425520" cy="279720"/>
            </a:xfrm>
            <a:prstGeom prst="cube">
              <a:avLst>
                <a:gd name="adj" fmla="val 17157"/>
              </a:avLst>
            </a:prstGeom>
            <a:solidFill>
              <a:srgbClr val="c7d039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7" name="" descr=""/>
            <p:cNvPicPr/>
            <p:nvPr/>
          </p:nvPicPr>
          <p:blipFill>
            <a:blip r:embed="rId2"/>
            <a:stretch/>
          </p:blipFill>
          <p:spPr>
            <a:xfrm>
              <a:off x="420840" y="5048280"/>
              <a:ext cx="457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3"/>
            <a:stretch/>
          </p:blipFill>
          <p:spPr>
            <a:xfrm>
              <a:off x="1874880" y="5416560"/>
              <a:ext cx="457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4"/>
            <a:stretch/>
          </p:blipFill>
          <p:spPr>
            <a:xfrm>
              <a:off x="3125880" y="4019400"/>
              <a:ext cx="457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5"/>
            <a:stretch/>
          </p:blipFill>
          <p:spPr>
            <a:xfrm>
              <a:off x="2986200" y="5041800"/>
              <a:ext cx="457200" cy="36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1" name=""/>
          <p:cNvGrpSpPr/>
          <p:nvPr/>
        </p:nvGrpSpPr>
        <p:grpSpPr>
          <a:xfrm>
            <a:off x="528480" y="1523880"/>
            <a:ext cx="2087640" cy="1128600"/>
            <a:chOff x="528480" y="1523880"/>
            <a:chExt cx="2087640" cy="1128600"/>
          </a:xfrm>
        </p:grpSpPr>
        <p:sp>
          <p:nvSpPr>
            <p:cNvPr id="612" name=""/>
            <p:cNvSpPr/>
            <p:nvPr/>
          </p:nvSpPr>
          <p:spPr>
            <a:xfrm>
              <a:off x="528480" y="2373120"/>
              <a:ext cx="37152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44600" y="2060280"/>
              <a:ext cx="37152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71640" y="1950840"/>
              <a:ext cx="37116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81040" y="2257200"/>
              <a:ext cx="37152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03240" y="1618920"/>
              <a:ext cx="37152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87400" y="1523880"/>
              <a:ext cx="37152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14240" y="1676160"/>
              <a:ext cx="293760" cy="80496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85760" y="1692000"/>
              <a:ext cx="92160" cy="46368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60320" y="2079360"/>
              <a:ext cx="479520" cy="51120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628640" y="1722240"/>
              <a:ext cx="387360" cy="66672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1255680" y="1784160"/>
              <a:ext cx="620640" cy="27936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1736640" y="2155680"/>
              <a:ext cx="666720" cy="24912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08160" y="1815840"/>
              <a:ext cx="325440" cy="32544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771480" y="2357280"/>
              <a:ext cx="806400" cy="13968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31840" y="1644480"/>
              <a:ext cx="884160" cy="7776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324000" y="1628640"/>
            <a:ext cx="3163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Logical T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Single LSP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390840" y="1382760"/>
            <a:ext cx="5600520" cy="1469880"/>
            <a:chOff x="3390840" y="1382760"/>
            <a:chExt cx="5600520" cy="1469880"/>
          </a:xfrm>
        </p:grpSpPr>
        <p:sp>
          <p:nvSpPr>
            <p:cNvPr id="629" name=""/>
            <p:cNvSpPr/>
            <p:nvPr/>
          </p:nvSpPr>
          <p:spPr>
            <a:xfrm>
              <a:off x="6003720" y="1889280"/>
              <a:ext cx="29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f5f5f"/>
                  </a:solidFill>
                  <a:latin typeface="Arial"/>
                </a:rPr>
                <a:t>LSP accommod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90840" y="1382760"/>
              <a:ext cx="2428200" cy="1469880"/>
            </a:xfrm>
            <a:prstGeom prst="rightArrow">
              <a:avLst>
                <a:gd name="adj1" fmla="val 50000"/>
                <a:gd name="adj2" fmla="val 41299"/>
              </a:avLst>
            </a:prstGeom>
            <a:gradFill rotWithShape="0">
              <a:gsLst>
                <a:gs pos="0">
                  <a:srgbClr val="99ccff">
                    <a:alpha val="40000"/>
                  </a:srgbClr>
                </a:gs>
                <a:gs pos="100000">
                  <a:srgbClr val="e7f2f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f5f5f"/>
                  </a:solidFill>
                  <a:latin typeface="Arial"/>
                </a:rPr>
                <a:t>Dynamic</a:t>
              </a:r>
              <a:br>
                <a:rPr sz="2000"/>
              </a:br>
              <a:r>
                <a:rPr b="1" lang="en-US" sz="2000" spc="-1" strike="noStrike">
                  <a:solidFill>
                    <a:srgbClr val="5f5f5f"/>
                  </a:solidFill>
                  <a:latin typeface="Arial"/>
                </a:rPr>
                <a:t>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4040" y="27687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6e35"/>
                </a:solidFill>
                <a:latin typeface="Arial"/>
              </a:rPr>
              <a:t>Goal: find a route by using less congested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93760" y="3516480"/>
            <a:ext cx="3646440" cy="1839600"/>
            <a:chOff x="293760" y="3516480"/>
            <a:chExt cx="3646440" cy="1839600"/>
          </a:xfrm>
        </p:grpSpPr>
        <p:sp>
          <p:nvSpPr>
            <p:cNvPr id="633" name=""/>
            <p:cNvSpPr/>
            <p:nvPr/>
          </p:nvSpPr>
          <p:spPr>
            <a:xfrm>
              <a:off x="293760" y="3516480"/>
              <a:ext cx="3646440" cy="1839600"/>
            </a:xfrm>
            <a:custGeom>
              <a:avLst/>
              <a:gdLst/>
              <a:ahLst/>
              <a:rect l="l" t="t" r="r" b="b"/>
              <a:pathLst>
                <a:path w="2297" h="1159">
                  <a:moveTo>
                    <a:pt x="108" y="1032"/>
                  </a:moveTo>
                  <a:cubicBezTo>
                    <a:pt x="101" y="913"/>
                    <a:pt x="0" y="429"/>
                    <a:pt x="66" y="319"/>
                  </a:cubicBezTo>
                  <a:cubicBezTo>
                    <a:pt x="132" y="209"/>
                    <a:pt x="344" y="407"/>
                    <a:pt x="506" y="372"/>
                  </a:cubicBezTo>
                  <a:cubicBezTo>
                    <a:pt x="668" y="337"/>
                    <a:pt x="825" y="0"/>
                    <a:pt x="1040" y="110"/>
                  </a:cubicBezTo>
                  <a:cubicBezTo>
                    <a:pt x="1255" y="220"/>
                    <a:pt x="1597" y="905"/>
                    <a:pt x="1794" y="1032"/>
                  </a:cubicBezTo>
                  <a:cubicBezTo>
                    <a:pt x="1991" y="1159"/>
                    <a:pt x="2151" y="963"/>
                    <a:pt x="2224" y="874"/>
                  </a:cubicBezTo>
                  <a:cubicBezTo>
                    <a:pt x="2297" y="785"/>
                    <a:pt x="2265" y="582"/>
                    <a:pt x="2234" y="497"/>
                  </a:cubicBezTo>
                  <a:cubicBezTo>
                    <a:pt x="2203" y="412"/>
                    <a:pt x="2076" y="389"/>
                    <a:pt x="2035" y="36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rot="16200000">
              <a:off x="3290760" y="4052520"/>
              <a:ext cx="22860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06200" y="4581360"/>
            <a:ext cx="5329440" cy="1584360"/>
          </a:xfrm>
          <a:prstGeom prst="rect">
            <a:avLst/>
          </a:prstGeom>
          <a:solidFill>
            <a:srgbClr val="8cafd2"/>
          </a:solidFill>
          <a:ln w="0">
            <a:noFill/>
          </a:ln>
          <a:effectLst>
            <a:outerShdw dist="107932" dir="2700000" blurRad="0" rotWithShape="0">
              <a:srgbClr val="cc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4920" y="1844640"/>
            <a:ext cx="5329080" cy="18716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cc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609480"/>
            <a:ext cx="9144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On-line Routing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665680" y="1454040"/>
            <a:ext cx="3132360" cy="1407600"/>
            <a:chOff x="5665680" y="1454040"/>
            <a:chExt cx="3132360" cy="1407600"/>
          </a:xfrm>
        </p:grpSpPr>
        <p:sp>
          <p:nvSpPr>
            <p:cNvPr id="639" name=""/>
            <p:cNvSpPr/>
            <p:nvPr/>
          </p:nvSpPr>
          <p:spPr>
            <a:xfrm>
              <a:off x="6524640" y="145404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otation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70680" y="2136600"/>
              <a:ext cx="21524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70680" y="2162160"/>
              <a:ext cx="215244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70680" y="2085840"/>
              <a:ext cx="2151000" cy="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70680" y="2111400"/>
              <a:ext cx="2151000" cy="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70680" y="2238480"/>
              <a:ext cx="215100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070680" y="2263680"/>
              <a:ext cx="21510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70680" y="2187720"/>
              <a:ext cx="2152440" cy="0"/>
            </a:xfrm>
            <a:prstGeom prst="line">
              <a:avLst/>
            </a:prstGeom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70680" y="2212920"/>
              <a:ext cx="21524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070680" y="2289240"/>
              <a:ext cx="215244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72120" y="2365200"/>
              <a:ext cx="21510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72120" y="2390760"/>
              <a:ext cx="21510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70680" y="2314440"/>
              <a:ext cx="2152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70680" y="2340000"/>
              <a:ext cx="21524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3" name="" descr=""/>
            <p:cNvPicPr/>
            <p:nvPr/>
          </p:nvPicPr>
          <p:blipFill>
            <a:blip r:embed="rId1"/>
            <a:stretch/>
          </p:blipFill>
          <p:spPr>
            <a:xfrm>
              <a:off x="7964640" y="1938240"/>
              <a:ext cx="70164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2"/>
            <a:stretch/>
          </p:blipFill>
          <p:spPr>
            <a:xfrm>
              <a:off x="5665680" y="1932120"/>
              <a:ext cx="70488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870160" y="14940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195760" y="14940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18400" y="2279520"/>
              <a:ext cx="789120" cy="498600"/>
            </a:xfrm>
            <a:custGeom>
              <a:avLst/>
              <a:gdLst/>
              <a:ahLst/>
              <a:rect l="l" t="t" r="r" b="b"/>
              <a:pathLst>
                <a:path w="497" h="314">
                  <a:moveTo>
                    <a:pt x="21" y="0"/>
                  </a:moveTo>
                  <a:cubicBezTo>
                    <a:pt x="10" y="118"/>
                    <a:pt x="0" y="236"/>
                    <a:pt x="79" y="275"/>
                  </a:cubicBezTo>
                  <a:cubicBezTo>
                    <a:pt x="158" y="314"/>
                    <a:pt x="427" y="240"/>
                    <a:pt x="497" y="2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481600" y="240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5289480" y="2703600"/>
            <a:ext cx="358956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set of logical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GB" sz="18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i="1" lang="en-GB" sz="18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set of lightpaths belonging to the logical link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18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total aggregated bandwidth of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18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available (unused) aggregated bandwidth of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A(k)</a:t>
            </a:r>
            <a:r>
              <a:rPr b="0" i="1" lang="en-GB" sz="1800" spc="-1" strike="noStrike" baseline="-30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available (unused) bandwidth of lightpath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f link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156360" y="5661000"/>
                <a:ext cx="1655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108000" y="1512720"/>
            <a:ext cx="54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Shortest path algorithm weight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2120" y="4237200"/>
            <a:ext cx="41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Lightpath se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24000" y="1890720"/>
                <a:ext cx="41227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limLow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e>
                                    <m:lim>
                                      <m:r>
                                        <m:t xml:space="preserve">(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d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∈</m:t>
                                      </m:r>
                                      <m:r>
                                        <m:t xml:space="preserve">L</m:t>
                                      </m:r>
                                    </m:lim>
                                  </m:limLow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sd</m:t>
                                          </m:r>
                                        </m:sub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bSup>
                                    </m:e>
                                  </m:d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A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if  </m:t>
                              </m:r>
                              <m:limLow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e>
                                <m:lim>
                                  <m:r>
                                    <m:t xml:space="preserve">k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</m:lim>
                              </m:limLow>
                              <m:sSubSup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S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         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34920" y="3075120"/>
            <a:ext cx="53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im: to privilege the choice of less congested links (as the least load resistant algorith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04640" y="4734000"/>
                <a:ext cx="28720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k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S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>
            <a:off x="222120" y="5275440"/>
            <a:ext cx="45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im: to privilege the choice of more filled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19240" y="3824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d6e35"/>
                </a:solidFill>
                <a:latin typeface="Arial"/>
              </a:rPr>
              <a:t>If there is a path with finite c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0920" y="1844640"/>
            <a:ext cx="446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769840" y="89064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Dynamic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30520" y="333864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LS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881440" y="1930320"/>
            <a:ext cx="5709240" cy="2622240"/>
            <a:chOff x="2881440" y="1930320"/>
            <a:chExt cx="5709240" cy="2622240"/>
          </a:xfrm>
        </p:grpSpPr>
        <p:sp>
          <p:nvSpPr>
            <p:cNvPr id="672" name=""/>
            <p:cNvSpPr/>
            <p:nvPr/>
          </p:nvSpPr>
          <p:spPr>
            <a:xfrm>
              <a:off x="6888960" y="2485800"/>
              <a:ext cx="644760" cy="23004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87880" y="2437920"/>
              <a:ext cx="644760" cy="165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87880" y="2437920"/>
              <a:ext cx="644760" cy="16560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88960" y="2321640"/>
              <a:ext cx="644760" cy="22968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6985440" y="2348280"/>
              <a:ext cx="447120" cy="176040"/>
              <a:chOff x="6985440" y="2348280"/>
              <a:chExt cx="447120" cy="17604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6985440" y="2348280"/>
                <a:ext cx="443520" cy="173160"/>
                <a:chOff x="6985440" y="2348280"/>
                <a:chExt cx="443520" cy="17316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7216560" y="2352600"/>
                  <a:ext cx="212400" cy="73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7216560" y="2352600"/>
                  <a:ext cx="212400" cy="73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985440" y="2439360"/>
                  <a:ext cx="212040" cy="7776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985440" y="2439360"/>
                  <a:ext cx="212040" cy="7776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996600" y="2348280"/>
                  <a:ext cx="212400" cy="745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996600" y="2348280"/>
                  <a:ext cx="212400" cy="745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7209360" y="2446920"/>
                  <a:ext cx="212040" cy="7452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209360" y="2446920"/>
                  <a:ext cx="212040" cy="7452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6988680" y="2352600"/>
                <a:ext cx="443880" cy="171720"/>
                <a:chOff x="6988680" y="2352600"/>
                <a:chExt cx="443880" cy="1717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7220520" y="2356920"/>
                  <a:ext cx="212040" cy="73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220520" y="2356920"/>
                  <a:ext cx="212040" cy="73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988680" y="2442240"/>
                  <a:ext cx="212400" cy="788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988680" y="2442240"/>
                  <a:ext cx="212400" cy="788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000200" y="2352600"/>
                  <a:ext cx="212040" cy="7308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000200" y="2352600"/>
                  <a:ext cx="212040" cy="7308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212600" y="2451240"/>
                  <a:ext cx="212400" cy="7308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212600" y="2451240"/>
                  <a:ext cx="212400" cy="7308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5" name=""/>
            <p:cNvSpPr/>
            <p:nvPr/>
          </p:nvSpPr>
          <p:spPr>
            <a:xfrm>
              <a:off x="6887880" y="2433960"/>
              <a:ext cx="1080" cy="165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32640" y="2433960"/>
              <a:ext cx="1080" cy="1656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30680" y="2553120"/>
              <a:ext cx="645840" cy="22968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29240" y="2504880"/>
              <a:ext cx="646200" cy="1641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29240" y="2504880"/>
              <a:ext cx="646200" cy="16416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30680" y="2388960"/>
              <a:ext cx="645840" cy="22968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5626800" y="2415240"/>
              <a:ext cx="450000" cy="174600"/>
              <a:chOff x="5626800" y="2415240"/>
              <a:chExt cx="450000" cy="17460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5626800" y="2415240"/>
                <a:ext cx="446400" cy="171720"/>
                <a:chOff x="5626800" y="2415240"/>
                <a:chExt cx="446400" cy="17172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5859360" y="2419560"/>
                  <a:ext cx="213840" cy="727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859360" y="2419560"/>
                  <a:ext cx="213840" cy="727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626800" y="2505600"/>
                  <a:ext cx="213480" cy="77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26800" y="2505600"/>
                  <a:ext cx="213480" cy="77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637960" y="2415240"/>
                  <a:ext cx="21384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637960" y="2415240"/>
                  <a:ext cx="21384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852160" y="2513160"/>
                  <a:ext cx="21348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852160" y="2513160"/>
                  <a:ext cx="21348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5630040" y="2419560"/>
                <a:ext cx="446760" cy="170280"/>
                <a:chOff x="5630040" y="2419560"/>
                <a:chExt cx="446760" cy="17028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5863320" y="2423880"/>
                  <a:ext cx="213480" cy="7236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863320" y="2423880"/>
                  <a:ext cx="213480" cy="7236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30040" y="2508480"/>
                  <a:ext cx="213840" cy="7812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30040" y="2508480"/>
                  <a:ext cx="213840" cy="7812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41560" y="2419560"/>
                  <a:ext cx="213480" cy="7236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641560" y="2419560"/>
                  <a:ext cx="213480" cy="7236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855400" y="2517480"/>
                  <a:ext cx="213840" cy="7236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855400" y="2517480"/>
                  <a:ext cx="213840" cy="7236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0" name=""/>
            <p:cNvSpPr/>
            <p:nvPr/>
          </p:nvSpPr>
          <p:spPr>
            <a:xfrm>
              <a:off x="5529240" y="2501280"/>
              <a:ext cx="1080" cy="1641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60320" y="2501280"/>
              <a:ext cx="1080" cy="1641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111920" y="2421360"/>
              <a:ext cx="643680" cy="22860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10840" y="2373480"/>
              <a:ext cx="642240" cy="1641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110840" y="2373480"/>
              <a:ext cx="642240" cy="16416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111920" y="2257200"/>
              <a:ext cx="643680" cy="22860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4208400" y="2283840"/>
              <a:ext cx="446040" cy="174600"/>
              <a:chOff x="4208400" y="2283840"/>
              <a:chExt cx="446040" cy="174600"/>
            </a:xfrm>
          </p:grpSpPr>
          <p:grpSp>
            <p:nvGrpSpPr>
              <p:cNvPr id="727" name=""/>
              <p:cNvGrpSpPr/>
              <p:nvPr/>
            </p:nvGrpSpPr>
            <p:grpSpPr>
              <a:xfrm>
                <a:off x="4208400" y="2283840"/>
                <a:ext cx="442800" cy="171720"/>
                <a:chOff x="4208400" y="2283840"/>
                <a:chExt cx="442800" cy="1717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4439160" y="2288160"/>
                  <a:ext cx="212040" cy="727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439160" y="2288160"/>
                  <a:ext cx="212040" cy="727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208400" y="2374200"/>
                  <a:ext cx="211680" cy="77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208400" y="2374200"/>
                  <a:ext cx="211680" cy="77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219560" y="2283840"/>
                  <a:ext cx="21204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219560" y="2283840"/>
                  <a:ext cx="21204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431600" y="2381760"/>
                  <a:ext cx="21168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431600" y="2381760"/>
                  <a:ext cx="21168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4211640" y="2288160"/>
                <a:ext cx="442800" cy="170280"/>
                <a:chOff x="4211640" y="2288160"/>
                <a:chExt cx="442800" cy="1702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442760" y="2292480"/>
                  <a:ext cx="211680" cy="7236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42760" y="2292480"/>
                  <a:ext cx="211680" cy="7236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211640" y="2377080"/>
                  <a:ext cx="212040" cy="7812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211640" y="2377080"/>
                  <a:ext cx="212040" cy="7812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223160" y="2288160"/>
                  <a:ext cx="211680" cy="7236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223160" y="2288160"/>
                  <a:ext cx="211680" cy="7236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434840" y="2386080"/>
                  <a:ext cx="212040" cy="7236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434840" y="2386080"/>
                  <a:ext cx="212040" cy="7236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5" name=""/>
            <p:cNvSpPr/>
            <p:nvPr/>
          </p:nvSpPr>
          <p:spPr>
            <a:xfrm>
              <a:off x="4110840" y="2369520"/>
              <a:ext cx="1080" cy="1641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53080" y="2369520"/>
              <a:ext cx="2520" cy="1641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811560" y="1979280"/>
              <a:ext cx="103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Garamond"/>
                </a:rPr>
                <a:t>LSR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69480" y="1995840"/>
              <a:ext cx="10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Garamond"/>
                </a:rPr>
                <a:t>LSR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21920" y="1930320"/>
              <a:ext cx="95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Garamond"/>
                </a:rPr>
                <a:t>LS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4755600" y="3960360"/>
              <a:ext cx="903960" cy="66960"/>
            </a:xfrm>
            <a:prstGeom prst="line">
              <a:avLst/>
            </a:prstGeom>
            <a:ln w="507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5723280" y="2782800"/>
              <a:ext cx="2520" cy="1177200"/>
            </a:xfrm>
            <a:prstGeom prst="line">
              <a:avLst/>
            </a:prstGeom>
            <a:ln w="507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3465720" y="2455200"/>
              <a:ext cx="2160720" cy="600120"/>
            </a:xfrm>
            <a:prstGeom prst="line">
              <a:avLst/>
            </a:prstGeom>
            <a:ln w="50760">
              <a:solidFill>
                <a:srgbClr val="f8f8f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82520" y="3077280"/>
              <a:ext cx="647280" cy="22860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81440" y="3029040"/>
              <a:ext cx="645840" cy="1641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81440" y="3029040"/>
              <a:ext cx="645840" cy="16416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82520" y="2913120"/>
              <a:ext cx="647280" cy="22860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2979000" y="2939400"/>
              <a:ext cx="449640" cy="174600"/>
              <a:chOff x="2979000" y="2939400"/>
              <a:chExt cx="449640" cy="174600"/>
            </a:xfrm>
          </p:grpSpPr>
          <p:grpSp>
            <p:nvGrpSpPr>
              <p:cNvPr id="758" name=""/>
              <p:cNvGrpSpPr/>
              <p:nvPr/>
            </p:nvGrpSpPr>
            <p:grpSpPr>
              <a:xfrm>
                <a:off x="2979000" y="2939400"/>
                <a:ext cx="446400" cy="171720"/>
                <a:chOff x="2979000" y="2939400"/>
                <a:chExt cx="446400" cy="17172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3211560" y="2943720"/>
                  <a:ext cx="213840" cy="727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211560" y="2943720"/>
                  <a:ext cx="213840" cy="727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979000" y="3029760"/>
                  <a:ext cx="213480" cy="77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979000" y="3029760"/>
                  <a:ext cx="213480" cy="77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990160" y="2939400"/>
                  <a:ext cx="21384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990160" y="2939400"/>
                  <a:ext cx="21384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204000" y="3037320"/>
                  <a:ext cx="21348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204000" y="3037320"/>
                  <a:ext cx="213480" cy="7380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2982240" y="2943720"/>
                <a:ext cx="446400" cy="170280"/>
                <a:chOff x="2982240" y="2943720"/>
                <a:chExt cx="446400" cy="17028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215160" y="2948040"/>
                  <a:ext cx="213480" cy="7236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215160" y="2948040"/>
                  <a:ext cx="213480" cy="7236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982240" y="3032640"/>
                  <a:ext cx="213840" cy="7812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982240" y="3032640"/>
                  <a:ext cx="213840" cy="7812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993760" y="2943720"/>
                  <a:ext cx="213480" cy="7236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993760" y="2943720"/>
                  <a:ext cx="213480" cy="7236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207240" y="3041640"/>
                  <a:ext cx="213840" cy="7236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207240" y="3041640"/>
                  <a:ext cx="213840" cy="7236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6" name=""/>
            <p:cNvSpPr/>
            <p:nvPr/>
          </p:nvSpPr>
          <p:spPr>
            <a:xfrm>
              <a:off x="2881440" y="3025440"/>
              <a:ext cx="1080" cy="1641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27280" y="3025440"/>
              <a:ext cx="2520" cy="1641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5000760" y="3817800"/>
              <a:ext cx="775800" cy="734760"/>
              <a:chOff x="5000760" y="3817800"/>
              <a:chExt cx="775800" cy="734760"/>
            </a:xfrm>
          </p:grpSpPr>
          <p:sp>
            <p:nvSpPr>
              <p:cNvPr id="779" name=""/>
              <p:cNvSpPr/>
              <p:nvPr/>
            </p:nvSpPr>
            <p:spPr>
              <a:xfrm>
                <a:off x="5000760" y="3817800"/>
                <a:ext cx="77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Garamond"/>
                  </a:rPr>
                  <a:t>LSR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40000" y="4323240"/>
                <a:ext cx="644760" cy="2293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38560" y="4277160"/>
                <a:ext cx="644760" cy="16200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8560" y="4277160"/>
                <a:ext cx="644760" cy="162000"/>
              </a:xfrm>
              <a:prstGeom prst="rect">
                <a:avLst/>
              </a:prstGeom>
              <a:solidFill>
                <a:srgbClr val="0000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040000" y="4160520"/>
                <a:ext cx="644760" cy="2293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5136840" y="4186800"/>
                <a:ext cx="447480" cy="173520"/>
                <a:chOff x="5136840" y="4186800"/>
                <a:chExt cx="447480" cy="173520"/>
              </a:xfrm>
            </p:grpSpPr>
            <p:grpSp>
              <p:nvGrpSpPr>
                <p:cNvPr id="785" name=""/>
                <p:cNvGrpSpPr/>
                <p:nvPr/>
              </p:nvGrpSpPr>
              <p:grpSpPr>
                <a:xfrm>
                  <a:off x="5136840" y="4186800"/>
                  <a:ext cx="444240" cy="170640"/>
                  <a:chOff x="5136840" y="4186800"/>
                  <a:chExt cx="444240" cy="17064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>
                    <a:off x="5368320" y="4191120"/>
                    <a:ext cx="212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5368320" y="4191120"/>
                    <a:ext cx="212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5136840" y="4276800"/>
                    <a:ext cx="2124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5136840" y="4276800"/>
                    <a:ext cx="2124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5148000" y="4186800"/>
                    <a:ext cx="21276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5148000" y="4186800"/>
                    <a:ext cx="21276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5360760" y="4284000"/>
                    <a:ext cx="21240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5360760" y="4284000"/>
                    <a:ext cx="21240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5140080" y="4191120"/>
                  <a:ext cx="444240" cy="169200"/>
                  <a:chOff x="5140080" y="4191120"/>
                  <a:chExt cx="444240" cy="16920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>
                    <a:off x="5371920" y="4195440"/>
                    <a:ext cx="212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5371920" y="4195440"/>
                    <a:ext cx="212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5140080" y="4279680"/>
                    <a:ext cx="2127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5140080" y="4279680"/>
                    <a:ext cx="2127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151600" y="4191120"/>
                    <a:ext cx="212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5151600" y="4191120"/>
                    <a:ext cx="212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5364000" y="4288320"/>
                    <a:ext cx="212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5364000" y="4288320"/>
                    <a:ext cx="212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03" name=""/>
              <p:cNvSpPr/>
              <p:nvPr/>
            </p:nvSpPr>
            <p:spPr>
              <a:xfrm>
                <a:off x="5038560" y="4273200"/>
                <a:ext cx="1440" cy="16236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683680" y="4273200"/>
                <a:ext cx="1440" cy="16236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7903080" y="3725280"/>
              <a:ext cx="618480" cy="23220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900560" y="3678840"/>
              <a:ext cx="619560" cy="1641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00560" y="3678840"/>
              <a:ext cx="619560" cy="16416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03080" y="3559680"/>
              <a:ext cx="618480" cy="23364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7994520" y="3587400"/>
              <a:ext cx="429840" cy="176040"/>
              <a:chOff x="7994520" y="3587400"/>
              <a:chExt cx="429840" cy="176040"/>
            </a:xfrm>
          </p:grpSpPr>
          <p:grpSp>
            <p:nvGrpSpPr>
              <p:cNvPr id="810" name=""/>
              <p:cNvGrpSpPr/>
              <p:nvPr/>
            </p:nvGrpSpPr>
            <p:grpSpPr>
              <a:xfrm>
                <a:off x="7994520" y="3587400"/>
                <a:ext cx="426240" cy="173160"/>
                <a:chOff x="7994520" y="3587400"/>
                <a:chExt cx="426240" cy="17316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8216640" y="3591720"/>
                  <a:ext cx="204120" cy="73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216640" y="3591720"/>
                  <a:ext cx="204120" cy="73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994520" y="3678480"/>
                  <a:ext cx="203760" cy="7776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994520" y="3678480"/>
                  <a:ext cx="203760" cy="7776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005320" y="3587400"/>
                  <a:ext cx="204120" cy="745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005320" y="3587400"/>
                  <a:ext cx="204120" cy="745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209800" y="3686040"/>
                  <a:ext cx="203760" cy="7452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209800" y="3686040"/>
                  <a:ext cx="203760" cy="7452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7997760" y="3591720"/>
                <a:ext cx="426600" cy="171720"/>
                <a:chOff x="7997760" y="3591720"/>
                <a:chExt cx="426600" cy="17172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8220600" y="3596040"/>
                  <a:ext cx="203760" cy="73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220600" y="3596040"/>
                  <a:ext cx="203760" cy="73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7997760" y="3681360"/>
                  <a:ext cx="204120" cy="788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997760" y="3681360"/>
                  <a:ext cx="204120" cy="788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8008920" y="3591720"/>
                  <a:ext cx="203760" cy="7308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8008920" y="3591720"/>
                  <a:ext cx="203760" cy="7308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213040" y="3690360"/>
                  <a:ext cx="204120" cy="7308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213040" y="3690360"/>
                  <a:ext cx="204120" cy="7308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8" name=""/>
            <p:cNvSpPr/>
            <p:nvPr/>
          </p:nvSpPr>
          <p:spPr>
            <a:xfrm>
              <a:off x="7900560" y="3674880"/>
              <a:ext cx="2520" cy="1641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520480" y="3674880"/>
              <a:ext cx="1080" cy="1641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36840" y="319212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Garamond"/>
                </a:rPr>
                <a:t>LSR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46600" y="2499840"/>
              <a:ext cx="75636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64280" y="2638800"/>
              <a:ext cx="80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518600" y="2570760"/>
              <a:ext cx="63108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1880" y="3252960"/>
              <a:ext cx="1734120" cy="11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5658120" y="3704760"/>
              <a:ext cx="2237400" cy="64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98480" y="3084840"/>
              <a:ext cx="4556160" cy="59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760640" y="2453040"/>
              <a:ext cx="80208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81920" y="3111480"/>
              <a:ext cx="4539960" cy="55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15760" y="3041640"/>
              <a:ext cx="4489920" cy="57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61600" y="3252960"/>
              <a:ext cx="182916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230640" y="3287160"/>
              <a:ext cx="1845360" cy="11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194160" y="2675520"/>
              <a:ext cx="85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4429800" y="2606760"/>
              <a:ext cx="723240" cy="162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4380840" y="2641320"/>
              <a:ext cx="724680" cy="15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447000" y="2539080"/>
              <a:ext cx="69732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3343320" y="2493360"/>
              <a:ext cx="77868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8057600">
              <a:off x="3762360" y="3117240"/>
              <a:ext cx="232560" cy="1031760"/>
            </a:xfrm>
            <a:prstGeom prst="can">
              <a:avLst>
                <a:gd name="adj" fmla="val 25000"/>
              </a:avLst>
            </a:prstGeom>
            <a:solidFill>
              <a:srgbClr val="c7d0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3200" y="3324960"/>
              <a:ext cx="19044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23240" y="3365280"/>
              <a:ext cx="21024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63120" y="3365280"/>
              <a:ext cx="18000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304920" y="4648320"/>
            <a:ext cx="77245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On each link (bundle of lightpath) connecting two adjacent integrated nodes, </a:t>
            </a:r>
            <a:r>
              <a:rPr b="1" lang="en-US" sz="2000" spc="-1" strike="noStrike">
                <a:solidFill>
                  <a:srgbClr val="fd6e35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d6e35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59b8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d6e3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a dynamic cost </a:t>
            </a:r>
            <a:r>
              <a:rPr b="1" lang="en-US" sz="2000" spc="-1" strike="noStrike">
                <a:solidFill>
                  <a:srgbClr val="fd6e35"/>
                </a:solidFill>
                <a:latin typeface="Times New Roman"/>
              </a:rPr>
              <a:t>W(ij)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is assigned taking into account the information learnt by the routing protocol (e.g. OSPF-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490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730600" y="3759120"/>
            <a:ext cx="971280" cy="622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828800" y="1600200"/>
            <a:ext cx="863640" cy="787320"/>
          </a:xfrm>
          <a:prstGeom prst="rect">
            <a:avLst/>
          </a:prstGeom>
          <a:solidFill>
            <a:srgbClr val="f5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44480" y="1685880"/>
            <a:ext cx="12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Dynamic ro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50920" y="2066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06520" y="1203480"/>
            <a:ext cx="8474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04920" y="129528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4902"/>
                </a:solidFill>
                <a:latin typeface="Times New Roman"/>
              </a:rPr>
              <a:t>L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4902"/>
                </a:solidFill>
                <a:latin typeface="Times New Roman"/>
              </a:rPr>
              <a:t>B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3800" y="2141640"/>
            <a:ext cx="84780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94280" y="227952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4902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4902"/>
                </a:solidFill>
                <a:latin typeface="Times New Roman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359000" y="2066400"/>
            <a:ext cx="465120" cy="590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400040" y="1536840"/>
            <a:ext cx="41940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692440" y="195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035160" y="166212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4902"/>
                </a:solidFill>
                <a:latin typeface="Times New Roman"/>
              </a:rPr>
              <a:t>LSP ro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84480" y="1698480"/>
            <a:ext cx="954000" cy="33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36400" y="3228840"/>
            <a:ext cx="88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ou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46120" y="3213000"/>
            <a:ext cx="888840" cy="635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965160" y="29332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609480"/>
            <a:ext cx="9144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Flexibility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6280" y="1413000"/>
            <a:ext cx="474660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o improve network performance to handle temporary congestion an opportune over-provisioning can be  int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By limiting the bandwidth of each </a:t>
            </a:r>
            <a:r>
              <a:rPr b="0" lang="en-GB" sz="2000" spc="-1" strike="noStrike">
                <a:solidFill>
                  <a:srgbClr val="5f5f5f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, constituting the lightpaths, more lightpaths are set up in the off-line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4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d6e35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As a result the DR can operate on a logical topology which is </a:t>
            </a:r>
            <a:r>
              <a:rPr b="0" lang="en-GB" sz="2000" spc="-1" strike="noStrike">
                <a:solidFill>
                  <a:srgbClr val="ec8c00"/>
                </a:solidFill>
                <a:latin typeface="Arial"/>
              </a:rPr>
              <a:t>ENFORCED WHERE THE TRAFFIC IS EXPECTED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4981680" y="1646280"/>
            <a:ext cx="4032000" cy="1638360"/>
            <a:chOff x="4981680" y="1646280"/>
            <a:chExt cx="4032000" cy="1638360"/>
          </a:xfrm>
        </p:grpSpPr>
        <p:sp>
          <p:nvSpPr>
            <p:cNvPr id="871" name=""/>
            <p:cNvSpPr/>
            <p:nvPr/>
          </p:nvSpPr>
          <p:spPr>
            <a:xfrm>
              <a:off x="5092560" y="2031840"/>
              <a:ext cx="393840" cy="722520"/>
            </a:xfrm>
            <a:prstGeom prst="ellipse">
              <a:avLst/>
            </a:prstGeom>
            <a:gradFill rotWithShape="0">
              <a:gsLst>
                <a:gs pos="0">
                  <a:srgbClr val="fd6e35"/>
                </a:gs>
                <a:gs pos="100000">
                  <a:srgbClr val="8037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62640" y="2035080"/>
              <a:ext cx="2693880" cy="720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b1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53120" y="2023920"/>
              <a:ext cx="220680" cy="731880"/>
            </a:xfrm>
            <a:custGeom>
              <a:avLst/>
              <a:gdLst/>
              <a:ahLst/>
              <a:rect l="l" t="t" r="r" b="b"/>
              <a:pathLst>
                <a:path w="156" h="1300">
                  <a:moveTo>
                    <a:pt x="12" y="4"/>
                  </a:moveTo>
                  <a:cubicBezTo>
                    <a:pt x="0" y="21"/>
                    <a:pt x="63" y="0"/>
                    <a:pt x="82" y="102"/>
                  </a:cubicBezTo>
                  <a:cubicBezTo>
                    <a:pt x="101" y="204"/>
                    <a:pt x="126" y="438"/>
                    <a:pt x="126" y="618"/>
                  </a:cubicBezTo>
                  <a:cubicBezTo>
                    <a:pt x="128" y="803"/>
                    <a:pt x="96" y="1070"/>
                    <a:pt x="80" y="1184"/>
                  </a:cubicBezTo>
                  <a:cubicBezTo>
                    <a:pt x="64" y="1298"/>
                    <a:pt x="22" y="1281"/>
                    <a:pt x="30" y="1300"/>
                  </a:cubicBezTo>
                  <a:lnTo>
                    <a:pt x="126" y="1300"/>
                  </a:lnTo>
                  <a:lnTo>
                    <a:pt x="150" y="1300"/>
                  </a:lnTo>
                  <a:lnTo>
                    <a:pt x="156" y="0"/>
                  </a:lnTo>
                  <a:lnTo>
                    <a:pt x="12" y="4"/>
                  </a:lnTo>
                  <a:close/>
                </a:path>
              </a:pathLst>
            </a:custGeom>
            <a:gradFill rotWithShape="0">
              <a:gsLst>
                <a:gs pos="0">
                  <a:srgbClr val="cc0066"/>
                </a:gs>
                <a:gs pos="50000">
                  <a:srgbClr val="5f5f5f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4" name="" descr=""/>
            <p:cNvPicPr/>
            <p:nvPr/>
          </p:nvPicPr>
          <p:blipFill>
            <a:blip r:embed="rId1"/>
            <a:srcRect l="0" t="1059" r="-12349" b="61579"/>
            <a:stretch/>
          </p:blipFill>
          <p:spPr>
            <a:xfrm>
              <a:off x="5089680" y="2014560"/>
              <a:ext cx="392400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4981680" y="2290680"/>
              <a:ext cx="3689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6237360" y="231264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66600" y="2300400"/>
              <a:ext cx="67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153280" y="1976400"/>
              <a:ext cx="649440" cy="86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8250120" y="203328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09160" y="2128680"/>
              <a:ext cx="52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01000" y="1646280"/>
              <a:ext cx="117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ghtp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5149800" y="2852640"/>
                  <a:ext cx="1041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∈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83" name=""/>
            <p:cNvSpPr/>
            <p:nvPr/>
          </p:nvSpPr>
          <p:spPr>
            <a:xfrm>
              <a:off x="6184080" y="2863800"/>
              <a:ext cx="19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lexibility fa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4627440" y="3789360"/>
            <a:ext cx="4265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59b8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59b8"/>
                </a:solidFill>
                <a:latin typeface="Arial"/>
              </a:rPr>
              <a:t>The “optimal” value of </a:t>
            </a:r>
            <a:r>
              <a:rPr b="0" i="1" lang="en-US" sz="2000" spc="-1" strike="noStrike">
                <a:solidFill>
                  <a:srgbClr val="0059b8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59b8"/>
                </a:solidFill>
                <a:latin typeface="Arial"/>
              </a:rPr>
              <a:t> depends on the traffic load and the relation between the actual and the foreseen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0" y="609480"/>
            <a:ext cx="9144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Relevant case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04920" y="3333600"/>
            <a:ext cx="8629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Relation between estimated (E) traffic and actual (A)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633240" y="3797280"/>
          <a:ext cx="8053560" cy="2298600"/>
        </p:xfrm>
        <a:graphic>
          <a:graphicData uri="http://schemas.openxmlformats.org/drawingml/2006/table">
            <a:tbl>
              <a:tblPr/>
              <a:tblGrid>
                <a:gridCol w="2338560"/>
                <a:gridCol w="2017800"/>
                <a:gridCol w="3697200"/>
              </a:tblGrid>
              <a:tr h="69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ood estimatio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80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s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ak estimatio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s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rong estimatio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3170160" y="3813120"/>
                <a:ext cx="12859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5195880" y="3841920"/>
                <a:ext cx="1836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7129440" y="3906720"/>
                <a:ext cx="12063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170160" y="4575240"/>
                <a:ext cx="1285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194440" y="4519440"/>
                <a:ext cx="1836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≠</m:t>
                    </m:r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3193920" y="5327640"/>
                <a:ext cx="1236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5194440" y="5289480"/>
                <a:ext cx="1836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≠</m:t>
                    </m:r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7161120" y="4603680"/>
                <a:ext cx="1206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7137360" y="5430960"/>
                <a:ext cx="1206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T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228600" y="1414440"/>
            <a:ext cx="8763120" cy="15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The case studies differ on level of accuracy of information in terms of :</a:t>
            </a:r>
            <a:r>
              <a:rPr b="1" lang="it-IT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0059b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45fa4"/>
                </a:solidFill>
                <a:latin typeface="Arial"/>
                <a:ea typeface="Times New Roman"/>
              </a:rPr>
              <a:t>network load parame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125"/>
              </a:spcBef>
              <a:buClr>
                <a:srgbClr val="0059b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45fa4"/>
                </a:solidFill>
                <a:latin typeface="Arial"/>
                <a:ea typeface="Times New Roman"/>
              </a:rPr>
              <a:t>aggregated bandwidth between each pair nod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1676520" cy="76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248520" y="2514600"/>
                <a:ext cx="224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B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V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</m:sub>
                      <m:sup/>
                      <m:e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7147080" y="804960"/>
            <a:ext cx="345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0" y="609480"/>
            <a:ext cx="9144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Performanc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26880" y="3316320"/>
            <a:ext cx="76057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LSP arrivals and holding times follow Poisson processes. </a:t>
            </a:r>
            <a:br>
              <a:rPr sz="2000"/>
            </a:b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e LSP bandwidth uniformly distributed in [0,500]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Performance parameter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59b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59b8"/>
                </a:solidFill>
                <a:latin typeface="Arial"/>
              </a:rPr>
              <a:t>blocking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59b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59b8"/>
                </a:solidFill>
                <a:latin typeface="Arial"/>
              </a:rPr>
              <a:t>physical network resources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59b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59b8"/>
                </a:solidFill>
                <a:latin typeface="Arial"/>
              </a:rPr>
              <a:t>by varying the values of </a:t>
            </a:r>
            <a:r>
              <a:rPr b="0" i="1" lang="en-US" sz="2000" spc="-1" strike="noStrike">
                <a:solidFill>
                  <a:srgbClr val="0059b8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59b8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59b8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59b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2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44520" y="1901880"/>
            <a:ext cx="4156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Physical topology: 8 nodes, 12 link, 16 </a:t>
            </a:r>
            <a:r>
              <a:rPr b="0" lang="en-US" sz="2000" spc="-1" strike="noStrike">
                <a:solidFill>
                  <a:srgbClr val="5f5f5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per link (2.5G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Each optical node is connected to a 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846680" y="1893960"/>
            <a:ext cx="668160" cy="592200"/>
          </a:xfrm>
          <a:custGeom>
            <a:avLst/>
            <a:gdLst/>
            <a:ahLst/>
            <a:rect l="l" t="t" r="r" b="b"/>
            <a:pathLst>
              <a:path w="348" h="308">
                <a:moveTo>
                  <a:pt x="348" y="0"/>
                </a:moveTo>
                <a:lnTo>
                  <a:pt x="0" y="308"/>
                </a:ln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943520" y="2538360"/>
            <a:ext cx="1303200" cy="111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5719680" y="1841760"/>
            <a:ext cx="1194120" cy="43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61280" y="1917720"/>
            <a:ext cx="541080" cy="58752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0"/>
                </a:moveTo>
                <a:lnTo>
                  <a:pt x="0" y="306"/>
                </a:ln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6570360" y="2554200"/>
            <a:ext cx="1152360" cy="64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91440" y="2550960"/>
            <a:ext cx="1371600" cy="519120"/>
          </a:xfrm>
          <a:custGeom>
            <a:avLst/>
            <a:gdLst/>
            <a:ahLst/>
            <a:rect l="l" t="t" r="r" b="b"/>
            <a:pathLst>
              <a:path w="714" h="270">
                <a:moveTo>
                  <a:pt x="714" y="0"/>
                </a:moveTo>
                <a:lnTo>
                  <a:pt x="0" y="270"/>
                </a:ln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070760" y="1893960"/>
            <a:ext cx="654120" cy="600120"/>
          </a:xfrm>
          <a:custGeom>
            <a:avLst/>
            <a:gdLst/>
            <a:ahLst/>
            <a:rect l="l" t="t" r="r" b="b"/>
            <a:pathLst>
              <a:path w="340" h="312">
                <a:moveTo>
                  <a:pt x="0" y="0"/>
                </a:moveTo>
                <a:lnTo>
                  <a:pt x="340" y="312"/>
                </a:ln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164360" y="1871640"/>
            <a:ext cx="1481040" cy="585720"/>
          </a:xfrm>
          <a:custGeom>
            <a:avLst/>
            <a:gdLst/>
            <a:ahLst/>
            <a:rect l="l" t="t" r="r" b="b"/>
            <a:pathLst>
              <a:path w="771" h="305">
                <a:moveTo>
                  <a:pt x="771" y="305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7953120" y="2557440"/>
            <a:ext cx="600120" cy="32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477120" y="2646360"/>
            <a:ext cx="709560" cy="412920"/>
          </a:xfrm>
          <a:custGeom>
            <a:avLst/>
            <a:gdLst/>
            <a:ahLst/>
            <a:rect l="l" t="t" r="r" b="b"/>
            <a:pathLst>
              <a:path w="369" h="215">
                <a:moveTo>
                  <a:pt x="0" y="0"/>
                </a:moveTo>
                <a:lnTo>
                  <a:pt x="369" y="215"/>
                </a:ln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659560" y="3073320"/>
            <a:ext cx="1584360" cy="31680"/>
          </a:xfrm>
          <a:custGeom>
            <a:avLst/>
            <a:gdLst/>
            <a:ahLst/>
            <a:rect l="l" t="t" r="r" b="b"/>
            <a:pathLst>
              <a:path w="825" h="17">
                <a:moveTo>
                  <a:pt x="0" y="0"/>
                </a:moveTo>
                <a:lnTo>
                  <a:pt x="825" y="17"/>
                </a:ln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730760" y="2597040"/>
            <a:ext cx="760320" cy="451080"/>
          </a:xfrm>
          <a:custGeom>
            <a:avLst/>
            <a:gdLst/>
            <a:ahLst/>
            <a:rect l="l" t="t" r="r" b="b"/>
            <a:pathLst>
              <a:path w="396" h="234">
                <a:moveTo>
                  <a:pt x="0" y="0"/>
                </a:moveTo>
                <a:lnTo>
                  <a:pt x="396" y="234"/>
                </a:ln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059600" y="1558800"/>
            <a:ext cx="0" cy="231840"/>
          </a:xfrm>
          <a:prstGeom prst="line">
            <a:avLst/>
          </a:prstGeom>
          <a:ln w="28440">
            <a:solidFill>
              <a:srgbClr val="005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788000" y="2205000"/>
            <a:ext cx="0" cy="265320"/>
          </a:xfrm>
          <a:prstGeom prst="line">
            <a:avLst/>
          </a:prstGeom>
          <a:ln w="28440">
            <a:solidFill>
              <a:srgbClr val="005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18160" y="1536840"/>
            <a:ext cx="0" cy="345960"/>
          </a:xfrm>
          <a:prstGeom prst="line">
            <a:avLst/>
          </a:prstGeom>
          <a:ln w="28440">
            <a:solidFill>
              <a:srgbClr val="005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595840" y="2712960"/>
            <a:ext cx="0" cy="289080"/>
          </a:xfrm>
          <a:prstGeom prst="line">
            <a:avLst/>
          </a:prstGeom>
          <a:ln w="28440">
            <a:solidFill>
              <a:srgbClr val="005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356520" y="2193840"/>
            <a:ext cx="0" cy="403200"/>
          </a:xfrm>
          <a:prstGeom prst="line">
            <a:avLst/>
          </a:prstGeom>
          <a:ln w="28440">
            <a:solidFill>
              <a:srgbClr val="005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67680" y="2678040"/>
            <a:ext cx="0" cy="370080"/>
          </a:xfrm>
          <a:prstGeom prst="line">
            <a:avLst/>
          </a:prstGeom>
          <a:ln w="28440">
            <a:solidFill>
              <a:srgbClr val="005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763040" y="2112840"/>
            <a:ext cx="0" cy="381240"/>
          </a:xfrm>
          <a:prstGeom prst="line">
            <a:avLst/>
          </a:prstGeom>
          <a:ln w="28440">
            <a:solidFill>
              <a:srgbClr val="005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720280" y="2136600"/>
            <a:ext cx="0" cy="381240"/>
          </a:xfrm>
          <a:prstGeom prst="line">
            <a:avLst/>
          </a:prstGeom>
          <a:ln w="28440">
            <a:solidFill>
              <a:srgbClr val="005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4576680" y="2063880"/>
            <a:ext cx="417240" cy="280440"/>
            <a:chOff x="4576680" y="2063880"/>
            <a:chExt cx="417240" cy="280440"/>
          </a:xfrm>
        </p:grpSpPr>
        <p:sp>
          <p:nvSpPr>
            <p:cNvPr id="925" name=""/>
            <p:cNvSpPr/>
            <p:nvPr/>
          </p:nvSpPr>
          <p:spPr>
            <a:xfrm>
              <a:off x="4577760" y="2181240"/>
              <a:ext cx="416160" cy="16308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576680" y="2147040"/>
              <a:ext cx="416160" cy="115920"/>
            </a:xfrm>
            <a:prstGeom prst="rect">
              <a:avLst/>
            </a:prstGeom>
            <a:solidFill>
              <a:srgbClr val="f9c493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77760" y="2063880"/>
              <a:ext cx="416160" cy="16272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640040" y="2081160"/>
              <a:ext cx="286200" cy="123480"/>
              <a:chOff x="4640040" y="2081160"/>
              <a:chExt cx="286200" cy="123480"/>
            </a:xfrm>
          </p:grpSpPr>
          <p:sp>
            <p:nvSpPr>
              <p:cNvPr id="929" name=""/>
              <p:cNvSpPr/>
              <p:nvPr/>
            </p:nvSpPr>
            <p:spPr>
              <a:xfrm>
                <a:off x="4789800" y="2084760"/>
                <a:ext cx="136440" cy="5292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789800" y="2084760"/>
                <a:ext cx="136440" cy="5292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640040" y="2146680"/>
                <a:ext cx="137160" cy="5544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640040" y="2146680"/>
                <a:ext cx="137160" cy="5544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647960" y="2081160"/>
                <a:ext cx="13716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647960" y="2081160"/>
                <a:ext cx="13716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785480" y="2152800"/>
                <a:ext cx="136080" cy="5184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785480" y="2152800"/>
                <a:ext cx="136080" cy="5184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4641480" y="2085120"/>
              <a:ext cx="288720" cy="122040"/>
              <a:chOff x="4641480" y="2085120"/>
              <a:chExt cx="288720" cy="122040"/>
            </a:xfrm>
          </p:grpSpPr>
          <p:sp>
            <p:nvSpPr>
              <p:cNvPr id="938" name=""/>
              <p:cNvSpPr/>
              <p:nvPr/>
            </p:nvSpPr>
            <p:spPr>
              <a:xfrm>
                <a:off x="4791960" y="2087640"/>
                <a:ext cx="13824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791960" y="2087640"/>
                <a:ext cx="13824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641480" y="2149200"/>
                <a:ext cx="138240" cy="5544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641480" y="2149200"/>
                <a:ext cx="138240" cy="5544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649400" y="2085120"/>
                <a:ext cx="13680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649400" y="2085120"/>
                <a:ext cx="13680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786560" y="2155680"/>
                <a:ext cx="138240" cy="5148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786560" y="2155680"/>
                <a:ext cx="138240" cy="5148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4682160" y="2230560"/>
              <a:ext cx="207360" cy="9216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82160" y="2230560"/>
              <a:ext cx="207360" cy="9216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684680" y="2233080"/>
              <a:ext cx="208800" cy="9216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84680" y="2233080"/>
              <a:ext cx="208800" cy="9216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4567320" y="2408400"/>
            <a:ext cx="464760" cy="275760"/>
            <a:chOff x="4567320" y="2408400"/>
            <a:chExt cx="464760" cy="275760"/>
          </a:xfrm>
        </p:grpSpPr>
        <p:pic>
          <p:nvPicPr>
            <p:cNvPr id="951" name="" descr=""/>
            <p:cNvPicPr/>
            <p:nvPr/>
          </p:nvPicPr>
          <p:blipFill>
            <a:blip r:embed="rId1"/>
            <a:stretch/>
          </p:blipFill>
          <p:spPr>
            <a:xfrm>
              <a:off x="4567320" y="2408400"/>
              <a:ext cx="46476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"/>
            <p:cNvSpPr/>
            <p:nvPr/>
          </p:nvSpPr>
          <p:spPr>
            <a:xfrm>
              <a:off x="4805280" y="2439000"/>
              <a:ext cx="57240" cy="34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09440" y="2409840"/>
              <a:ext cx="4154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22920" y="2422440"/>
              <a:ext cx="820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394240" y="1389240"/>
            <a:ext cx="414360" cy="281880"/>
            <a:chOff x="5394240" y="1389240"/>
            <a:chExt cx="414360" cy="281880"/>
          </a:xfrm>
        </p:grpSpPr>
        <p:sp>
          <p:nvSpPr>
            <p:cNvPr id="956" name=""/>
            <p:cNvSpPr/>
            <p:nvPr/>
          </p:nvSpPr>
          <p:spPr>
            <a:xfrm>
              <a:off x="5395320" y="1507320"/>
              <a:ext cx="413280" cy="16380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94240" y="1473120"/>
              <a:ext cx="413280" cy="116640"/>
            </a:xfrm>
            <a:prstGeom prst="rect">
              <a:avLst/>
            </a:prstGeom>
            <a:solidFill>
              <a:srgbClr val="f9c493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395320" y="1389240"/>
              <a:ext cx="413280" cy="16344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5457240" y="1406520"/>
              <a:ext cx="284040" cy="124560"/>
              <a:chOff x="5457240" y="1406520"/>
              <a:chExt cx="284040" cy="124560"/>
            </a:xfrm>
          </p:grpSpPr>
          <p:sp>
            <p:nvSpPr>
              <p:cNvPr id="960" name=""/>
              <p:cNvSpPr/>
              <p:nvPr/>
            </p:nvSpPr>
            <p:spPr>
              <a:xfrm>
                <a:off x="5605920" y="1410120"/>
                <a:ext cx="135360" cy="5328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605920" y="1410120"/>
                <a:ext cx="135360" cy="5328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457240" y="1472400"/>
                <a:ext cx="136440" cy="5580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457240" y="1472400"/>
                <a:ext cx="136440" cy="5580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465160" y="1406520"/>
                <a:ext cx="136440" cy="5328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465160" y="1406520"/>
                <a:ext cx="136440" cy="5328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601600" y="1478880"/>
                <a:ext cx="135000" cy="5220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601600" y="1478880"/>
                <a:ext cx="135000" cy="5220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5458680" y="1410840"/>
              <a:ext cx="286560" cy="122760"/>
              <a:chOff x="5458680" y="1410840"/>
              <a:chExt cx="286560" cy="122760"/>
            </a:xfrm>
          </p:grpSpPr>
          <p:sp>
            <p:nvSpPr>
              <p:cNvPr id="969" name=""/>
              <p:cNvSpPr/>
              <p:nvPr/>
            </p:nvSpPr>
            <p:spPr>
              <a:xfrm>
                <a:off x="5608080" y="1413360"/>
                <a:ext cx="13716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608080" y="1413360"/>
                <a:ext cx="13716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458680" y="1475280"/>
                <a:ext cx="137160" cy="5580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458680" y="1475280"/>
                <a:ext cx="137160" cy="5580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466600" y="1410840"/>
                <a:ext cx="13572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466600" y="1410840"/>
                <a:ext cx="13572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602320" y="1481760"/>
                <a:ext cx="137160" cy="5184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602320" y="1481760"/>
                <a:ext cx="137160" cy="5184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>
              <a:off x="5499000" y="1557000"/>
              <a:ext cx="205560" cy="9252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99000" y="1557000"/>
              <a:ext cx="205560" cy="9252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01160" y="1559160"/>
              <a:ext cx="207360" cy="9252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01160" y="1559160"/>
              <a:ext cx="207360" cy="9252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386320" y="1714680"/>
            <a:ext cx="464760" cy="277200"/>
            <a:chOff x="5386320" y="1714680"/>
            <a:chExt cx="464760" cy="277200"/>
          </a:xfrm>
        </p:grpSpPr>
        <p:pic>
          <p:nvPicPr>
            <p:cNvPr id="982" name="" descr=""/>
            <p:cNvPicPr/>
            <p:nvPr/>
          </p:nvPicPr>
          <p:blipFill>
            <a:blip r:embed="rId2"/>
            <a:stretch/>
          </p:blipFill>
          <p:spPr>
            <a:xfrm>
              <a:off x="5386320" y="1714680"/>
              <a:ext cx="464760" cy="2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5624280" y="1745280"/>
              <a:ext cx="57240" cy="34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28440" y="1716120"/>
              <a:ext cx="4154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641920" y="1728720"/>
              <a:ext cx="820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827760" y="1703520"/>
            <a:ext cx="464760" cy="277200"/>
            <a:chOff x="6827760" y="1703520"/>
            <a:chExt cx="464760" cy="277200"/>
          </a:xfrm>
        </p:grpSpPr>
        <p:pic>
          <p:nvPicPr>
            <p:cNvPr id="987" name="" descr=""/>
            <p:cNvPicPr/>
            <p:nvPr/>
          </p:nvPicPr>
          <p:blipFill>
            <a:blip r:embed="rId3"/>
            <a:stretch/>
          </p:blipFill>
          <p:spPr>
            <a:xfrm>
              <a:off x="6827760" y="1703520"/>
              <a:ext cx="464760" cy="2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7065720" y="1734120"/>
              <a:ext cx="57240" cy="34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69880" y="1704960"/>
              <a:ext cx="4154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083360" y="1717560"/>
              <a:ext cx="820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846840" y="1365120"/>
            <a:ext cx="417240" cy="282240"/>
            <a:chOff x="6846840" y="1365120"/>
            <a:chExt cx="417240" cy="282240"/>
          </a:xfrm>
        </p:grpSpPr>
        <p:sp>
          <p:nvSpPr>
            <p:cNvPr id="992" name=""/>
            <p:cNvSpPr/>
            <p:nvPr/>
          </p:nvSpPr>
          <p:spPr>
            <a:xfrm>
              <a:off x="6847920" y="1483200"/>
              <a:ext cx="416160" cy="16416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46840" y="1449000"/>
              <a:ext cx="416160" cy="116640"/>
            </a:xfrm>
            <a:prstGeom prst="rect">
              <a:avLst/>
            </a:prstGeom>
            <a:solidFill>
              <a:srgbClr val="f9c493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847920" y="1365120"/>
              <a:ext cx="416160" cy="16380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6910200" y="1382400"/>
              <a:ext cx="286200" cy="124560"/>
              <a:chOff x="6910200" y="1382400"/>
              <a:chExt cx="286200" cy="124560"/>
            </a:xfrm>
          </p:grpSpPr>
          <p:sp>
            <p:nvSpPr>
              <p:cNvPr id="996" name=""/>
              <p:cNvSpPr/>
              <p:nvPr/>
            </p:nvSpPr>
            <p:spPr>
              <a:xfrm>
                <a:off x="7059960" y="1386000"/>
                <a:ext cx="136440" cy="5328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059960" y="1386000"/>
                <a:ext cx="136440" cy="5328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910200" y="1448280"/>
                <a:ext cx="137160" cy="5580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910200" y="1448280"/>
                <a:ext cx="137160" cy="5580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918120" y="1382400"/>
                <a:ext cx="137160" cy="5328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18120" y="1382400"/>
                <a:ext cx="137160" cy="5328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55640" y="1454760"/>
                <a:ext cx="136080" cy="5220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055640" y="1454760"/>
                <a:ext cx="136080" cy="5220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6911640" y="1386720"/>
              <a:ext cx="288720" cy="122760"/>
              <a:chOff x="6911640" y="1386720"/>
              <a:chExt cx="288720" cy="122760"/>
            </a:xfrm>
          </p:grpSpPr>
          <p:sp>
            <p:nvSpPr>
              <p:cNvPr id="1005" name=""/>
              <p:cNvSpPr/>
              <p:nvPr/>
            </p:nvSpPr>
            <p:spPr>
              <a:xfrm>
                <a:off x="7062120" y="1389240"/>
                <a:ext cx="13824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062120" y="1389240"/>
                <a:ext cx="13824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911640" y="1451160"/>
                <a:ext cx="138240" cy="5580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911640" y="1451160"/>
                <a:ext cx="138240" cy="5580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19560" y="1386720"/>
                <a:ext cx="13680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919560" y="1386720"/>
                <a:ext cx="13680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056720" y="1457640"/>
                <a:ext cx="138240" cy="5184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056720" y="1457640"/>
                <a:ext cx="138240" cy="5184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>
              <a:off x="6952320" y="1532880"/>
              <a:ext cx="207360" cy="9288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952320" y="1532880"/>
              <a:ext cx="207360" cy="9288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954840" y="1535400"/>
              <a:ext cx="208800" cy="9288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954840" y="1535400"/>
              <a:ext cx="208800" cy="9288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6130800" y="2092320"/>
            <a:ext cx="416160" cy="281160"/>
            <a:chOff x="6130800" y="2092320"/>
            <a:chExt cx="416160" cy="281160"/>
          </a:xfrm>
        </p:grpSpPr>
        <p:sp>
          <p:nvSpPr>
            <p:cNvPr id="1018" name=""/>
            <p:cNvSpPr/>
            <p:nvPr/>
          </p:nvSpPr>
          <p:spPr>
            <a:xfrm>
              <a:off x="6131880" y="2210040"/>
              <a:ext cx="415080" cy="16344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30800" y="2175840"/>
              <a:ext cx="415080" cy="116280"/>
            </a:xfrm>
            <a:prstGeom prst="rect">
              <a:avLst/>
            </a:prstGeom>
            <a:solidFill>
              <a:srgbClr val="f9c493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131880" y="2092320"/>
              <a:ext cx="415080" cy="16308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6193800" y="2109600"/>
              <a:ext cx="285480" cy="123480"/>
              <a:chOff x="6193800" y="2109600"/>
              <a:chExt cx="285480" cy="123480"/>
            </a:xfrm>
          </p:grpSpPr>
          <p:sp>
            <p:nvSpPr>
              <p:cNvPr id="1022" name=""/>
              <p:cNvSpPr/>
              <p:nvPr/>
            </p:nvSpPr>
            <p:spPr>
              <a:xfrm>
                <a:off x="6343200" y="2113200"/>
                <a:ext cx="136080" cy="5292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343200" y="2113200"/>
                <a:ext cx="136080" cy="5292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193800" y="2175120"/>
                <a:ext cx="136800" cy="5544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193800" y="2175120"/>
                <a:ext cx="136800" cy="5544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201720" y="2109600"/>
                <a:ext cx="13680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201720" y="2109600"/>
                <a:ext cx="13680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338880" y="2181240"/>
                <a:ext cx="135720" cy="5184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338880" y="2181240"/>
                <a:ext cx="135720" cy="5184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6195240" y="2113560"/>
              <a:ext cx="287640" cy="122040"/>
              <a:chOff x="6195240" y="2113560"/>
              <a:chExt cx="287640" cy="122040"/>
            </a:xfrm>
          </p:grpSpPr>
          <p:sp>
            <p:nvSpPr>
              <p:cNvPr id="1031" name=""/>
              <p:cNvSpPr/>
              <p:nvPr/>
            </p:nvSpPr>
            <p:spPr>
              <a:xfrm>
                <a:off x="6345360" y="2116080"/>
                <a:ext cx="13752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45360" y="2116080"/>
                <a:ext cx="13752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195240" y="2177640"/>
                <a:ext cx="137520" cy="5544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195240" y="2177640"/>
                <a:ext cx="137520" cy="5544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03160" y="2113560"/>
                <a:ext cx="13644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203160" y="2113560"/>
                <a:ext cx="13644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339600" y="2184120"/>
                <a:ext cx="137520" cy="5148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339600" y="2184120"/>
                <a:ext cx="137520" cy="5148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6235920" y="2259360"/>
              <a:ext cx="206640" cy="9216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35920" y="2259360"/>
              <a:ext cx="206640" cy="9216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238440" y="2261520"/>
              <a:ext cx="208080" cy="9216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238440" y="2261520"/>
              <a:ext cx="208080" cy="9216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6146640" y="2430360"/>
            <a:ext cx="464760" cy="276120"/>
            <a:chOff x="6146640" y="2430360"/>
            <a:chExt cx="464760" cy="276120"/>
          </a:xfrm>
        </p:grpSpPr>
        <p:pic>
          <p:nvPicPr>
            <p:cNvPr id="1044" name="" descr=""/>
            <p:cNvPicPr/>
            <p:nvPr/>
          </p:nvPicPr>
          <p:blipFill>
            <a:blip r:embed="rId4"/>
            <a:stretch/>
          </p:blipFill>
          <p:spPr>
            <a:xfrm>
              <a:off x="6146640" y="2430360"/>
              <a:ext cx="46476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6384600" y="2460960"/>
              <a:ext cx="57240" cy="34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188760" y="2431800"/>
              <a:ext cx="4154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402240" y="2444400"/>
              <a:ext cx="820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7550280" y="2011320"/>
            <a:ext cx="416880" cy="282240"/>
            <a:chOff x="7550280" y="2011320"/>
            <a:chExt cx="416880" cy="282240"/>
          </a:xfrm>
        </p:grpSpPr>
        <p:sp>
          <p:nvSpPr>
            <p:cNvPr id="1049" name=""/>
            <p:cNvSpPr/>
            <p:nvPr/>
          </p:nvSpPr>
          <p:spPr>
            <a:xfrm>
              <a:off x="7551360" y="2129400"/>
              <a:ext cx="415800" cy="16416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550280" y="2095200"/>
              <a:ext cx="415800" cy="116640"/>
            </a:xfrm>
            <a:prstGeom prst="rect">
              <a:avLst/>
            </a:prstGeom>
            <a:solidFill>
              <a:srgbClr val="f9c493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51360" y="2011320"/>
              <a:ext cx="415800" cy="16380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7613640" y="2028600"/>
              <a:ext cx="286200" cy="124560"/>
              <a:chOff x="7613640" y="2028600"/>
              <a:chExt cx="286200" cy="124560"/>
            </a:xfrm>
          </p:grpSpPr>
          <p:sp>
            <p:nvSpPr>
              <p:cNvPr id="1053" name=""/>
              <p:cNvSpPr/>
              <p:nvPr/>
            </p:nvSpPr>
            <p:spPr>
              <a:xfrm>
                <a:off x="7763400" y="2032200"/>
                <a:ext cx="136440" cy="5328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763400" y="2032200"/>
                <a:ext cx="136440" cy="5328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13640" y="2094480"/>
                <a:ext cx="137160" cy="5580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13640" y="2094480"/>
                <a:ext cx="137160" cy="5580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21560" y="2028600"/>
                <a:ext cx="137160" cy="5328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21560" y="2028600"/>
                <a:ext cx="137160" cy="5328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759080" y="2100960"/>
                <a:ext cx="136080" cy="5220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759080" y="2100960"/>
                <a:ext cx="136080" cy="5220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7615080" y="2032920"/>
              <a:ext cx="288360" cy="122760"/>
              <a:chOff x="7615080" y="2032920"/>
              <a:chExt cx="288360" cy="122760"/>
            </a:xfrm>
          </p:grpSpPr>
          <p:sp>
            <p:nvSpPr>
              <p:cNvPr id="1062" name=""/>
              <p:cNvSpPr/>
              <p:nvPr/>
            </p:nvSpPr>
            <p:spPr>
              <a:xfrm>
                <a:off x="7765560" y="2035440"/>
                <a:ext cx="13788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765560" y="2035440"/>
                <a:ext cx="13788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15080" y="2097360"/>
                <a:ext cx="137880" cy="5580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615080" y="2097360"/>
                <a:ext cx="137880" cy="5580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23000" y="2032920"/>
                <a:ext cx="13680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23000" y="2032920"/>
                <a:ext cx="13680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59800" y="2103840"/>
                <a:ext cx="137880" cy="5184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759800" y="2103840"/>
                <a:ext cx="137880" cy="5184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>
              <a:off x="7655760" y="2179080"/>
              <a:ext cx="207000" cy="9288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655760" y="2179080"/>
              <a:ext cx="207000" cy="9288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657920" y="2181600"/>
              <a:ext cx="208800" cy="9288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657920" y="2181600"/>
              <a:ext cx="208800" cy="9288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7566120" y="2373480"/>
            <a:ext cx="464760" cy="275760"/>
            <a:chOff x="7566120" y="2373480"/>
            <a:chExt cx="464760" cy="275760"/>
          </a:xfrm>
        </p:grpSpPr>
        <p:pic>
          <p:nvPicPr>
            <p:cNvPr id="1075" name="" descr=""/>
            <p:cNvPicPr/>
            <p:nvPr/>
          </p:nvPicPr>
          <p:blipFill>
            <a:blip r:embed="rId5"/>
            <a:stretch/>
          </p:blipFill>
          <p:spPr>
            <a:xfrm>
              <a:off x="7566120" y="2373480"/>
              <a:ext cx="46476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7804080" y="2404080"/>
              <a:ext cx="57240" cy="34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608240" y="2374920"/>
              <a:ext cx="4154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821720" y="2387520"/>
              <a:ext cx="820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8496360" y="2022480"/>
            <a:ext cx="415800" cy="282240"/>
            <a:chOff x="8496360" y="2022480"/>
            <a:chExt cx="415800" cy="282240"/>
          </a:xfrm>
        </p:grpSpPr>
        <p:sp>
          <p:nvSpPr>
            <p:cNvPr id="1080" name=""/>
            <p:cNvSpPr/>
            <p:nvPr/>
          </p:nvSpPr>
          <p:spPr>
            <a:xfrm>
              <a:off x="8497440" y="2140560"/>
              <a:ext cx="414720" cy="16416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496360" y="2106360"/>
              <a:ext cx="414720" cy="116640"/>
            </a:xfrm>
            <a:prstGeom prst="rect">
              <a:avLst/>
            </a:prstGeom>
            <a:solidFill>
              <a:srgbClr val="f9c493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497440" y="2022480"/>
              <a:ext cx="414720" cy="16380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3" name=""/>
            <p:cNvGrpSpPr/>
            <p:nvPr/>
          </p:nvGrpSpPr>
          <p:grpSpPr>
            <a:xfrm>
              <a:off x="8559360" y="2039760"/>
              <a:ext cx="284760" cy="124560"/>
              <a:chOff x="8559360" y="2039760"/>
              <a:chExt cx="284760" cy="124560"/>
            </a:xfrm>
          </p:grpSpPr>
          <p:sp>
            <p:nvSpPr>
              <p:cNvPr id="1084" name=""/>
              <p:cNvSpPr/>
              <p:nvPr/>
            </p:nvSpPr>
            <p:spPr>
              <a:xfrm>
                <a:off x="8708400" y="2043360"/>
                <a:ext cx="135720" cy="5328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708400" y="2043360"/>
                <a:ext cx="135720" cy="5328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559360" y="2105640"/>
                <a:ext cx="136800" cy="5580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559360" y="2105640"/>
                <a:ext cx="136800" cy="5580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567280" y="2039760"/>
                <a:ext cx="136800" cy="5328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567280" y="2039760"/>
                <a:ext cx="136800" cy="5328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8704080" y="2112120"/>
                <a:ext cx="135360" cy="5220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704080" y="2112120"/>
                <a:ext cx="135360" cy="5220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8560800" y="2044080"/>
              <a:ext cx="287280" cy="122760"/>
              <a:chOff x="8560800" y="2044080"/>
              <a:chExt cx="287280" cy="122760"/>
            </a:xfrm>
          </p:grpSpPr>
          <p:sp>
            <p:nvSpPr>
              <p:cNvPr id="1093" name=""/>
              <p:cNvSpPr/>
              <p:nvPr/>
            </p:nvSpPr>
            <p:spPr>
              <a:xfrm>
                <a:off x="8710560" y="2046600"/>
                <a:ext cx="13752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710560" y="2046600"/>
                <a:ext cx="13752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560800" y="2108520"/>
                <a:ext cx="137520" cy="5580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560800" y="2108520"/>
                <a:ext cx="137520" cy="5580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568720" y="2044080"/>
                <a:ext cx="13608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568720" y="2044080"/>
                <a:ext cx="13608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705160" y="2115000"/>
                <a:ext cx="137520" cy="5184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8705160" y="2115000"/>
                <a:ext cx="137520" cy="5184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8601480" y="2190240"/>
              <a:ext cx="206280" cy="9288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601480" y="2190240"/>
              <a:ext cx="206280" cy="9288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603640" y="2192760"/>
              <a:ext cx="208080" cy="9288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603640" y="2192760"/>
              <a:ext cx="208080" cy="9288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8499600" y="2360520"/>
            <a:ext cx="464760" cy="277560"/>
            <a:chOff x="8499600" y="2360520"/>
            <a:chExt cx="464760" cy="277560"/>
          </a:xfrm>
        </p:grpSpPr>
        <p:pic>
          <p:nvPicPr>
            <p:cNvPr id="1106" name="" descr=""/>
            <p:cNvPicPr/>
            <p:nvPr/>
          </p:nvPicPr>
          <p:blipFill>
            <a:blip r:embed="rId6"/>
            <a:stretch/>
          </p:blipFill>
          <p:spPr>
            <a:xfrm>
              <a:off x="8499600" y="2360520"/>
              <a:ext cx="4647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"/>
            <p:cNvSpPr/>
            <p:nvPr/>
          </p:nvSpPr>
          <p:spPr>
            <a:xfrm>
              <a:off x="8737560" y="2391120"/>
              <a:ext cx="57240" cy="3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541720" y="2361960"/>
              <a:ext cx="4154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755200" y="2374920"/>
              <a:ext cx="820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7066080" y="2554200"/>
            <a:ext cx="416880" cy="279360"/>
            <a:chOff x="7066080" y="2554200"/>
            <a:chExt cx="416880" cy="279360"/>
          </a:xfrm>
        </p:grpSpPr>
        <p:sp>
          <p:nvSpPr>
            <p:cNvPr id="1111" name=""/>
            <p:cNvSpPr/>
            <p:nvPr/>
          </p:nvSpPr>
          <p:spPr>
            <a:xfrm>
              <a:off x="7067160" y="2671200"/>
              <a:ext cx="415800" cy="16236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066080" y="2637000"/>
              <a:ext cx="415800" cy="115560"/>
            </a:xfrm>
            <a:prstGeom prst="rect">
              <a:avLst/>
            </a:prstGeom>
            <a:solidFill>
              <a:srgbClr val="f9c493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067160" y="2554200"/>
              <a:ext cx="415800" cy="16200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7129440" y="2571480"/>
              <a:ext cx="286200" cy="122760"/>
              <a:chOff x="7129440" y="2571480"/>
              <a:chExt cx="286200" cy="122760"/>
            </a:xfrm>
          </p:grpSpPr>
          <p:sp>
            <p:nvSpPr>
              <p:cNvPr id="1115" name=""/>
              <p:cNvSpPr/>
              <p:nvPr/>
            </p:nvSpPr>
            <p:spPr>
              <a:xfrm>
                <a:off x="7279200" y="2575080"/>
                <a:ext cx="136440" cy="5256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279200" y="2575080"/>
                <a:ext cx="136440" cy="5256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129440" y="2636640"/>
                <a:ext cx="137160" cy="5508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129440" y="2636640"/>
                <a:ext cx="137160" cy="5508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137360" y="2571480"/>
                <a:ext cx="137160" cy="5256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137360" y="2571480"/>
                <a:ext cx="137160" cy="5256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274880" y="264276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274880" y="264276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7130880" y="2575440"/>
              <a:ext cx="288360" cy="121680"/>
              <a:chOff x="7130880" y="2575440"/>
              <a:chExt cx="288360" cy="121680"/>
            </a:xfrm>
          </p:grpSpPr>
          <p:sp>
            <p:nvSpPr>
              <p:cNvPr id="1124" name=""/>
              <p:cNvSpPr/>
              <p:nvPr/>
            </p:nvSpPr>
            <p:spPr>
              <a:xfrm>
                <a:off x="7281360" y="2577960"/>
                <a:ext cx="137880" cy="5256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281360" y="2577960"/>
                <a:ext cx="137880" cy="5256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130880" y="2639160"/>
                <a:ext cx="137880" cy="5508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130880" y="2639160"/>
                <a:ext cx="137880" cy="5508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138800" y="2575440"/>
                <a:ext cx="136800" cy="5256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138800" y="2575440"/>
                <a:ext cx="136800" cy="5256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275600" y="2645640"/>
                <a:ext cx="137880" cy="5148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275600" y="2645640"/>
                <a:ext cx="137880" cy="5148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2" name=""/>
            <p:cNvSpPr/>
            <p:nvPr/>
          </p:nvSpPr>
          <p:spPr>
            <a:xfrm>
              <a:off x="7171560" y="2720160"/>
              <a:ext cx="207000" cy="9180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171560" y="2720160"/>
              <a:ext cx="207000" cy="9180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73720" y="2722320"/>
              <a:ext cx="208800" cy="9180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73720" y="2722320"/>
              <a:ext cx="208800" cy="9180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7068960" y="2914560"/>
            <a:ext cx="465120" cy="277560"/>
            <a:chOff x="7068960" y="2914560"/>
            <a:chExt cx="465120" cy="277560"/>
          </a:xfrm>
        </p:grpSpPr>
        <p:pic>
          <p:nvPicPr>
            <p:cNvPr id="1137" name="" descr=""/>
            <p:cNvPicPr/>
            <p:nvPr/>
          </p:nvPicPr>
          <p:blipFill>
            <a:blip r:embed="rId7"/>
            <a:stretch/>
          </p:blipFill>
          <p:spPr>
            <a:xfrm>
              <a:off x="7068960" y="2914560"/>
              <a:ext cx="46512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>
              <a:off x="7306920" y="2945160"/>
              <a:ext cx="57240" cy="345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11080" y="2916000"/>
              <a:ext cx="4158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324560" y="2928960"/>
              <a:ext cx="820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5386320" y="2927520"/>
            <a:ext cx="464760" cy="275760"/>
            <a:chOff x="5386320" y="2927520"/>
            <a:chExt cx="464760" cy="275760"/>
          </a:xfrm>
        </p:grpSpPr>
        <p:pic>
          <p:nvPicPr>
            <p:cNvPr id="1142" name="" descr=""/>
            <p:cNvPicPr/>
            <p:nvPr/>
          </p:nvPicPr>
          <p:blipFill>
            <a:blip r:embed="rId8"/>
            <a:stretch/>
          </p:blipFill>
          <p:spPr>
            <a:xfrm>
              <a:off x="5386320" y="2927520"/>
              <a:ext cx="46476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>
              <a:off x="5624280" y="2958120"/>
              <a:ext cx="57240" cy="34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28440" y="2928960"/>
              <a:ext cx="4154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641920" y="2941560"/>
              <a:ext cx="8208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5381640" y="2600280"/>
            <a:ext cx="415800" cy="282240"/>
            <a:chOff x="5381640" y="2600280"/>
            <a:chExt cx="415800" cy="282240"/>
          </a:xfrm>
        </p:grpSpPr>
        <p:sp>
          <p:nvSpPr>
            <p:cNvPr id="1147" name=""/>
            <p:cNvSpPr/>
            <p:nvPr/>
          </p:nvSpPr>
          <p:spPr>
            <a:xfrm>
              <a:off x="5382720" y="2718360"/>
              <a:ext cx="414720" cy="16416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81640" y="2684160"/>
              <a:ext cx="414720" cy="116640"/>
            </a:xfrm>
            <a:prstGeom prst="rect">
              <a:avLst/>
            </a:prstGeom>
            <a:solidFill>
              <a:srgbClr val="f9c493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82720" y="2600280"/>
              <a:ext cx="414720" cy="163800"/>
            </a:xfrm>
            <a:prstGeom prst="ellipse">
              <a:avLst/>
            </a:prstGeom>
            <a:solidFill>
              <a:srgbClr val="f9c493"/>
            </a:solidFill>
            <a:ln w="32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5444640" y="2617560"/>
              <a:ext cx="284760" cy="124560"/>
              <a:chOff x="5444640" y="2617560"/>
              <a:chExt cx="284760" cy="124560"/>
            </a:xfrm>
          </p:grpSpPr>
          <p:sp>
            <p:nvSpPr>
              <p:cNvPr id="1151" name=""/>
              <p:cNvSpPr/>
              <p:nvPr/>
            </p:nvSpPr>
            <p:spPr>
              <a:xfrm>
                <a:off x="5593680" y="2621160"/>
                <a:ext cx="135720" cy="5328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593680" y="2621160"/>
                <a:ext cx="135720" cy="53280"/>
              </a:xfrm>
              <a:custGeom>
                <a:avLst/>
                <a:gdLst/>
                <a:ahLst/>
                <a:rect l="l" t="t" r="r" b="b"/>
                <a:pathLst>
                  <a:path w="483" h="168">
                    <a:moveTo>
                      <a:pt x="0" y="131"/>
                    </a:moveTo>
                    <a:lnTo>
                      <a:pt x="107" y="168"/>
                    </a:lnTo>
                    <a:lnTo>
                      <a:pt x="367" y="56"/>
                    </a:lnTo>
                    <a:lnTo>
                      <a:pt x="483" y="93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444640" y="2683440"/>
                <a:ext cx="136800" cy="5580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444640" y="2683440"/>
                <a:ext cx="136800" cy="55800"/>
              </a:xfrm>
              <a:custGeom>
                <a:avLst/>
                <a:gdLst/>
                <a:ahLst/>
                <a:rect l="l" t="t" r="r" b="b"/>
                <a:pathLst>
                  <a:path w="483" h="177">
                    <a:moveTo>
                      <a:pt x="483" y="38"/>
                    </a:moveTo>
                    <a:lnTo>
                      <a:pt x="376" y="0"/>
                    </a:lnTo>
                    <a:lnTo>
                      <a:pt x="126" y="113"/>
                    </a:lnTo>
                    <a:lnTo>
                      <a:pt x="0" y="75"/>
                    </a:lnTo>
                    <a:lnTo>
                      <a:pt x="63" y="177"/>
                    </a:lnTo>
                    <a:lnTo>
                      <a:pt x="376" y="177"/>
                    </a:lnTo>
                    <a:lnTo>
                      <a:pt x="241" y="139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452560" y="2617560"/>
                <a:ext cx="136800" cy="5328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452560" y="2617560"/>
                <a:ext cx="136800" cy="5328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38"/>
                    </a:moveTo>
                    <a:lnTo>
                      <a:pt x="108" y="0"/>
                    </a:lnTo>
                    <a:lnTo>
                      <a:pt x="367" y="103"/>
                    </a:lnTo>
                    <a:lnTo>
                      <a:pt x="483" y="75"/>
                    </a:lnTo>
                    <a:lnTo>
                      <a:pt x="420" y="169"/>
                    </a:lnTo>
                    <a:lnTo>
                      <a:pt x="117" y="169"/>
                    </a:lnTo>
                    <a:lnTo>
                      <a:pt x="241" y="141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589360" y="2689920"/>
                <a:ext cx="135360" cy="5220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589360" y="2689920"/>
                <a:ext cx="135360" cy="52200"/>
              </a:xfrm>
              <a:custGeom>
                <a:avLst/>
                <a:gdLst/>
                <a:ahLst/>
                <a:rect l="l" t="t" r="r" b="b"/>
                <a:pathLst>
                  <a:path w="482" h="166">
                    <a:moveTo>
                      <a:pt x="482" y="130"/>
                    </a:moveTo>
                    <a:lnTo>
                      <a:pt x="376" y="166"/>
                    </a:lnTo>
                    <a:lnTo>
                      <a:pt x="124" y="56"/>
                    </a:lnTo>
                    <a:lnTo>
                      <a:pt x="0" y="94"/>
                    </a:lnTo>
                    <a:lnTo>
                      <a:pt x="62" y="0"/>
                    </a:lnTo>
                    <a:lnTo>
                      <a:pt x="376" y="0"/>
                    </a:lnTo>
                    <a:lnTo>
                      <a:pt x="241" y="28"/>
                    </a:lnTo>
                    <a:lnTo>
                      <a:pt x="482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5446080" y="2621880"/>
              <a:ext cx="287280" cy="122760"/>
              <a:chOff x="5446080" y="2621880"/>
              <a:chExt cx="287280" cy="122760"/>
            </a:xfrm>
          </p:grpSpPr>
          <p:sp>
            <p:nvSpPr>
              <p:cNvPr id="1160" name=""/>
              <p:cNvSpPr/>
              <p:nvPr/>
            </p:nvSpPr>
            <p:spPr>
              <a:xfrm>
                <a:off x="5595840" y="2624400"/>
                <a:ext cx="13752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595840" y="2624400"/>
                <a:ext cx="137520" cy="52920"/>
              </a:xfrm>
              <a:custGeom>
                <a:avLst/>
                <a:gdLst/>
                <a:ahLst/>
                <a:rect l="l" t="t" r="r" b="b"/>
                <a:pathLst>
                  <a:path w="483" h="169">
                    <a:moveTo>
                      <a:pt x="0" y="131"/>
                    </a:moveTo>
                    <a:lnTo>
                      <a:pt x="107" y="169"/>
                    </a:lnTo>
                    <a:lnTo>
                      <a:pt x="367" y="56"/>
                    </a:lnTo>
                    <a:lnTo>
                      <a:pt x="483" y="94"/>
                    </a:lnTo>
                    <a:lnTo>
                      <a:pt x="420" y="0"/>
                    </a:lnTo>
                    <a:lnTo>
                      <a:pt x="116" y="0"/>
                    </a:lnTo>
                    <a:lnTo>
                      <a:pt x="242" y="2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46080" y="2686320"/>
                <a:ext cx="137520" cy="5580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446080" y="2686320"/>
                <a:ext cx="137520" cy="55800"/>
              </a:xfrm>
              <a:custGeom>
                <a:avLst/>
                <a:gdLst/>
                <a:ahLst/>
                <a:rect l="l" t="t" r="r" b="b"/>
                <a:pathLst>
                  <a:path w="483" h="175">
                    <a:moveTo>
                      <a:pt x="483" y="37"/>
                    </a:moveTo>
                    <a:lnTo>
                      <a:pt x="376" y="0"/>
                    </a:lnTo>
                    <a:lnTo>
                      <a:pt x="126" y="111"/>
                    </a:lnTo>
                    <a:lnTo>
                      <a:pt x="0" y="75"/>
                    </a:lnTo>
                    <a:lnTo>
                      <a:pt x="63" y="175"/>
                    </a:lnTo>
                    <a:lnTo>
                      <a:pt x="376" y="175"/>
                    </a:lnTo>
                    <a:lnTo>
                      <a:pt x="241" y="139"/>
                    </a:lnTo>
                    <a:lnTo>
                      <a:pt x="483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54000" y="2621880"/>
                <a:ext cx="13608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54000" y="2621880"/>
                <a:ext cx="136080" cy="52920"/>
              </a:xfrm>
              <a:custGeom>
                <a:avLst/>
                <a:gdLst/>
                <a:ahLst/>
                <a:rect l="l" t="t" r="r" b="b"/>
                <a:pathLst>
                  <a:path w="482" h="168">
                    <a:moveTo>
                      <a:pt x="0" y="37"/>
                    </a:moveTo>
                    <a:lnTo>
                      <a:pt x="108" y="0"/>
                    </a:lnTo>
                    <a:lnTo>
                      <a:pt x="366" y="103"/>
                    </a:lnTo>
                    <a:lnTo>
                      <a:pt x="482" y="75"/>
                    </a:lnTo>
                    <a:lnTo>
                      <a:pt x="420" y="168"/>
                    </a:lnTo>
                    <a:lnTo>
                      <a:pt x="117" y="168"/>
                    </a:lnTo>
                    <a:lnTo>
                      <a:pt x="241" y="14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590440" y="2692800"/>
                <a:ext cx="137520" cy="5184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590440" y="2692800"/>
                <a:ext cx="137520" cy="51840"/>
              </a:xfrm>
              <a:custGeom>
                <a:avLst/>
                <a:gdLst/>
                <a:ahLst/>
                <a:rect l="l" t="t" r="r" b="b"/>
                <a:pathLst>
                  <a:path w="483" h="166">
                    <a:moveTo>
                      <a:pt x="483" y="130"/>
                    </a:moveTo>
                    <a:lnTo>
                      <a:pt x="376" y="166"/>
                    </a:lnTo>
                    <a:lnTo>
                      <a:pt x="125" y="57"/>
                    </a:lnTo>
                    <a:lnTo>
                      <a:pt x="0" y="93"/>
                    </a:lnTo>
                    <a:lnTo>
                      <a:pt x="63" y="0"/>
                    </a:lnTo>
                    <a:lnTo>
                      <a:pt x="376" y="0"/>
                    </a:lnTo>
                    <a:lnTo>
                      <a:pt x="242" y="28"/>
                    </a:lnTo>
                    <a:lnTo>
                      <a:pt x="483" y="130"/>
                    </a:lnTo>
                    <a:close/>
                  </a:path>
                </a:pathLst>
              </a:custGeom>
              <a:solidFill>
                <a:srgbClr val="f9c493"/>
              </a:solidFill>
              <a:ln w="324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>
              <a:off x="5486760" y="2768040"/>
              <a:ext cx="206280" cy="9288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486760" y="2768040"/>
              <a:ext cx="206280" cy="92880"/>
            </a:xfrm>
            <a:custGeom>
              <a:avLst/>
              <a:gdLst/>
              <a:ahLst/>
              <a:rect l="l" t="t" r="r" b="b"/>
              <a:pathLst>
                <a:path w="734" h="296">
                  <a:moveTo>
                    <a:pt x="108" y="38"/>
                  </a:moveTo>
                  <a:lnTo>
                    <a:pt x="272" y="38"/>
                  </a:lnTo>
                  <a:lnTo>
                    <a:pt x="372" y="124"/>
                  </a:lnTo>
                  <a:lnTo>
                    <a:pt x="471" y="38"/>
                  </a:lnTo>
                  <a:lnTo>
                    <a:pt x="625" y="38"/>
                  </a:lnTo>
                  <a:lnTo>
                    <a:pt x="625" y="0"/>
                  </a:lnTo>
                  <a:lnTo>
                    <a:pt x="734" y="58"/>
                  </a:lnTo>
                  <a:lnTo>
                    <a:pt x="625" y="115"/>
                  </a:lnTo>
                  <a:lnTo>
                    <a:pt x="625" y="77"/>
                  </a:lnTo>
                  <a:lnTo>
                    <a:pt x="489" y="77"/>
                  </a:lnTo>
                  <a:lnTo>
                    <a:pt x="398" y="143"/>
                  </a:lnTo>
                  <a:lnTo>
                    <a:pt x="489" y="219"/>
                  </a:lnTo>
                  <a:lnTo>
                    <a:pt x="625" y="219"/>
                  </a:lnTo>
                  <a:lnTo>
                    <a:pt x="625" y="172"/>
                  </a:lnTo>
                  <a:lnTo>
                    <a:pt x="734" y="238"/>
                  </a:lnTo>
                  <a:lnTo>
                    <a:pt x="625" y="296"/>
                  </a:lnTo>
                  <a:lnTo>
                    <a:pt x="625" y="257"/>
                  </a:lnTo>
                  <a:lnTo>
                    <a:pt x="471" y="257"/>
                  </a:lnTo>
                  <a:lnTo>
                    <a:pt x="372" y="172"/>
                  </a:lnTo>
                  <a:lnTo>
                    <a:pt x="272" y="257"/>
                  </a:lnTo>
                  <a:lnTo>
                    <a:pt x="108" y="257"/>
                  </a:lnTo>
                  <a:lnTo>
                    <a:pt x="108" y="296"/>
                  </a:lnTo>
                  <a:lnTo>
                    <a:pt x="0" y="238"/>
                  </a:lnTo>
                  <a:lnTo>
                    <a:pt x="108" y="172"/>
                  </a:lnTo>
                  <a:lnTo>
                    <a:pt x="108" y="219"/>
                  </a:lnTo>
                  <a:lnTo>
                    <a:pt x="254" y="219"/>
                  </a:lnTo>
                  <a:lnTo>
                    <a:pt x="345" y="153"/>
                  </a:lnTo>
                  <a:lnTo>
                    <a:pt x="254" y="77"/>
                  </a:lnTo>
                  <a:lnTo>
                    <a:pt x="108" y="77"/>
                  </a:lnTo>
                  <a:lnTo>
                    <a:pt x="108" y="115"/>
                  </a:lnTo>
                  <a:lnTo>
                    <a:pt x="0" y="58"/>
                  </a:lnTo>
                  <a:lnTo>
                    <a:pt x="108" y="0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88920" y="2770560"/>
              <a:ext cx="208080" cy="9288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488920" y="2770560"/>
              <a:ext cx="208080" cy="92880"/>
            </a:xfrm>
            <a:custGeom>
              <a:avLst/>
              <a:gdLst/>
              <a:ahLst/>
              <a:rect l="l" t="t" r="r" b="b"/>
              <a:pathLst>
                <a:path w="733" h="294">
                  <a:moveTo>
                    <a:pt x="107" y="38"/>
                  </a:moveTo>
                  <a:lnTo>
                    <a:pt x="271" y="38"/>
                  </a:lnTo>
                  <a:lnTo>
                    <a:pt x="371" y="124"/>
                  </a:lnTo>
                  <a:lnTo>
                    <a:pt x="470" y="38"/>
                  </a:lnTo>
                  <a:lnTo>
                    <a:pt x="624" y="38"/>
                  </a:lnTo>
                  <a:lnTo>
                    <a:pt x="624" y="0"/>
                  </a:lnTo>
                  <a:lnTo>
                    <a:pt x="733" y="57"/>
                  </a:lnTo>
                  <a:lnTo>
                    <a:pt x="624" y="114"/>
                  </a:lnTo>
                  <a:lnTo>
                    <a:pt x="624" y="76"/>
                  </a:lnTo>
                  <a:lnTo>
                    <a:pt x="488" y="76"/>
                  </a:lnTo>
                  <a:lnTo>
                    <a:pt x="397" y="143"/>
                  </a:lnTo>
                  <a:lnTo>
                    <a:pt x="488" y="219"/>
                  </a:lnTo>
                  <a:lnTo>
                    <a:pt x="624" y="219"/>
                  </a:lnTo>
                  <a:lnTo>
                    <a:pt x="624" y="171"/>
                  </a:lnTo>
                  <a:lnTo>
                    <a:pt x="733" y="238"/>
                  </a:lnTo>
                  <a:lnTo>
                    <a:pt x="624" y="294"/>
                  </a:lnTo>
                  <a:lnTo>
                    <a:pt x="624" y="257"/>
                  </a:lnTo>
                  <a:lnTo>
                    <a:pt x="470" y="257"/>
                  </a:lnTo>
                  <a:lnTo>
                    <a:pt x="371" y="171"/>
                  </a:lnTo>
                  <a:lnTo>
                    <a:pt x="271" y="257"/>
                  </a:lnTo>
                  <a:lnTo>
                    <a:pt x="107" y="257"/>
                  </a:lnTo>
                  <a:lnTo>
                    <a:pt x="107" y="294"/>
                  </a:lnTo>
                  <a:lnTo>
                    <a:pt x="0" y="238"/>
                  </a:lnTo>
                  <a:lnTo>
                    <a:pt x="107" y="171"/>
                  </a:lnTo>
                  <a:lnTo>
                    <a:pt x="107" y="219"/>
                  </a:lnTo>
                  <a:lnTo>
                    <a:pt x="253" y="219"/>
                  </a:lnTo>
                  <a:lnTo>
                    <a:pt x="344" y="152"/>
                  </a:lnTo>
                  <a:lnTo>
                    <a:pt x="253" y="76"/>
                  </a:lnTo>
                  <a:lnTo>
                    <a:pt x="107" y="76"/>
                  </a:lnTo>
                  <a:lnTo>
                    <a:pt x="107" y="114"/>
                  </a:lnTo>
                  <a:lnTo>
                    <a:pt x="0" y="57"/>
                  </a:lnTo>
                  <a:lnTo>
                    <a:pt x="107" y="0"/>
                  </a:lnTo>
                  <a:lnTo>
                    <a:pt x="107" y="38"/>
                  </a:lnTo>
                  <a:close/>
                </a:path>
              </a:pathLst>
            </a:custGeom>
            <a:solidFill>
              <a:srgbClr val="f9c493"/>
            </a:solidFill>
            <a:ln w="6480">
              <a:solidFill>
                <a:srgbClr val="ff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" descr=""/>
          <p:cNvPicPr/>
          <p:nvPr/>
        </p:nvPicPr>
        <p:blipFill>
          <a:blip r:embed="rId1"/>
          <a:srcRect l="0" t="0" r="10226" b="0"/>
          <a:stretch/>
        </p:blipFill>
        <p:spPr>
          <a:xfrm>
            <a:off x="971640" y="1197000"/>
            <a:ext cx="3930480" cy="264960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2"/>
          <a:srcRect l="2186" t="0" r="11144" b="0"/>
          <a:stretch/>
        </p:blipFill>
        <p:spPr>
          <a:xfrm>
            <a:off x="5021280" y="1184400"/>
            <a:ext cx="3889440" cy="271440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/>
          <p:cNvPicPr/>
          <p:nvPr/>
        </p:nvPicPr>
        <p:blipFill>
          <a:blip r:embed="rId3"/>
          <a:srcRect l="87486" t="35091" r="1748" b="43029"/>
          <a:stretch/>
        </p:blipFill>
        <p:spPr>
          <a:xfrm>
            <a:off x="8234280" y="2575080"/>
            <a:ext cx="493920" cy="752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75" name="" descr=""/>
          <p:cNvPicPr/>
          <p:nvPr/>
        </p:nvPicPr>
        <p:blipFill>
          <a:blip r:embed="rId4"/>
          <a:srcRect l="87486" t="35091" r="1748" b="43029"/>
          <a:stretch/>
        </p:blipFill>
        <p:spPr>
          <a:xfrm>
            <a:off x="4221000" y="2536920"/>
            <a:ext cx="493920" cy="752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1176" name=""/>
          <p:cNvGrpSpPr/>
          <p:nvPr/>
        </p:nvGrpSpPr>
        <p:grpSpPr>
          <a:xfrm>
            <a:off x="3108240" y="2286000"/>
            <a:ext cx="920880" cy="685800"/>
            <a:chOff x="3108240" y="2286000"/>
            <a:chExt cx="920880" cy="685800"/>
          </a:xfrm>
        </p:grpSpPr>
        <p:sp>
          <p:nvSpPr>
            <p:cNvPr id="1177" name=""/>
            <p:cNvSpPr/>
            <p:nvPr/>
          </p:nvSpPr>
          <p:spPr>
            <a:xfrm>
              <a:off x="3124080" y="2286000"/>
              <a:ext cx="0" cy="6858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108240" y="2419560"/>
              <a:ext cx="92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-7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7162920" y="1773360"/>
            <a:ext cx="966600" cy="512640"/>
            <a:chOff x="7162920" y="1773360"/>
            <a:chExt cx="966600" cy="512640"/>
          </a:xfrm>
        </p:grpSpPr>
        <p:sp>
          <p:nvSpPr>
            <p:cNvPr id="1180" name=""/>
            <p:cNvSpPr/>
            <p:nvPr/>
          </p:nvSpPr>
          <p:spPr>
            <a:xfrm>
              <a:off x="7162920" y="1905120"/>
              <a:ext cx="0" cy="38088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236000" y="1773360"/>
              <a:ext cx="89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+2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0" y="609480"/>
            <a:ext cx="9144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33"/>
                </a:solidFill>
                <a:latin typeface="Arial"/>
              </a:rPr>
              <a:t>Simulation Results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4240" y="136368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5"/>
          <a:srcRect l="0" t="3349" r="10374" b="2383"/>
          <a:stretch/>
        </p:blipFill>
        <p:spPr>
          <a:xfrm>
            <a:off x="4983120" y="3870360"/>
            <a:ext cx="3971880" cy="2371680"/>
          </a:xfrm>
          <a:prstGeom prst="rect">
            <a:avLst/>
          </a:prstGeom>
          <a:ln w="0">
            <a:noFill/>
          </a:ln>
        </p:spPr>
      </p:pic>
      <p:pic>
        <p:nvPicPr>
          <p:cNvPr id="1185" name="" descr=""/>
          <p:cNvPicPr/>
          <p:nvPr/>
        </p:nvPicPr>
        <p:blipFill>
          <a:blip r:embed="rId6"/>
          <a:srcRect l="0" t="2021" r="10951" b="2509"/>
          <a:stretch/>
        </p:blipFill>
        <p:spPr>
          <a:xfrm>
            <a:off x="934920" y="3819600"/>
            <a:ext cx="3949920" cy="247320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7"/>
          <a:srcRect l="87486" t="35091" r="1748" b="43029"/>
          <a:stretch/>
        </p:blipFill>
        <p:spPr>
          <a:xfrm>
            <a:off x="8205840" y="5002200"/>
            <a:ext cx="493560" cy="752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1187" name="" descr=""/>
          <p:cNvPicPr/>
          <p:nvPr/>
        </p:nvPicPr>
        <p:blipFill>
          <a:blip r:embed="rId8"/>
          <a:srcRect l="87486" t="35091" r="1748" b="43029"/>
          <a:stretch/>
        </p:blipFill>
        <p:spPr>
          <a:xfrm>
            <a:off x="4221000" y="5049720"/>
            <a:ext cx="493920" cy="752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188" name=""/>
          <p:cNvSpPr/>
          <p:nvPr/>
        </p:nvSpPr>
        <p:spPr>
          <a:xfrm>
            <a:off x="101520" y="395280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s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3124080" y="4260960"/>
            <a:ext cx="1000080" cy="463320"/>
            <a:chOff x="3124080" y="4260960"/>
            <a:chExt cx="1000080" cy="463320"/>
          </a:xfrm>
        </p:grpSpPr>
        <p:sp>
          <p:nvSpPr>
            <p:cNvPr id="1190" name=""/>
            <p:cNvSpPr/>
            <p:nvPr/>
          </p:nvSpPr>
          <p:spPr>
            <a:xfrm>
              <a:off x="3124080" y="4267080"/>
              <a:ext cx="0" cy="457200"/>
            </a:xfrm>
            <a:prstGeom prst="line">
              <a:avLst/>
            </a:prstGeom>
            <a:ln w="50760">
              <a:solidFill>
                <a:srgbClr val="fd6e35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203640" y="4260960"/>
              <a:ext cx="92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-27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7162920" y="4527720"/>
            <a:ext cx="938160" cy="425160"/>
            <a:chOff x="7162920" y="4527720"/>
            <a:chExt cx="938160" cy="425160"/>
          </a:xfrm>
        </p:grpSpPr>
        <p:sp>
          <p:nvSpPr>
            <p:cNvPr id="1193" name=""/>
            <p:cNvSpPr/>
            <p:nvPr/>
          </p:nvSpPr>
          <p:spPr>
            <a:xfrm>
              <a:off x="7162920" y="4648320"/>
              <a:ext cx="0" cy="304560"/>
            </a:xfrm>
            <a:prstGeom prst="line">
              <a:avLst/>
            </a:prstGeom>
            <a:ln w="50760">
              <a:solidFill>
                <a:srgbClr val="fd6e35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207200" y="4527720"/>
              <a:ext cx="89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+19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0" y="3565440"/>
            <a:ext cx="143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=1.25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/>
          </p:nvPr>
        </p:nvSpPr>
        <p:spPr>
          <a:xfrm>
            <a:off x="380880" y="2247480"/>
            <a:ext cx="83822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609480"/>
            <a:ext cx="9144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imulation Results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0" y="4533840"/>
            <a:ext cx="91440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hen </a:t>
            </a:r>
            <a:r>
              <a:rPr b="1" lang="en-US" sz="2400" spc="-1" strike="noStrike">
                <a:solidFill>
                  <a:srgbClr val="fd6e35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d6e35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d6e35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6e35"/>
                </a:solidFill>
                <a:latin typeface="Arial"/>
              </a:rPr>
              <a:t> 1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, the blocking probability in Case 3 increases much more respect to other cases, since no enough flexibility is provided to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r lower values of the </a:t>
            </a:r>
            <a:r>
              <a:rPr b="1" lang="en-US" sz="2400" spc="-1" strike="noStrike">
                <a:solidFill>
                  <a:srgbClr val="fd6e35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, the difference between Case 3 and the other two Cases is much re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9" name="" descr=""/>
          <p:cNvPicPr/>
          <p:nvPr/>
        </p:nvPicPr>
        <p:blipFill>
          <a:blip r:embed="rId1"/>
          <a:srcRect l="0" t="0" r="12093" b="0"/>
          <a:stretch/>
        </p:blipFill>
        <p:spPr>
          <a:xfrm>
            <a:off x="306360" y="1494000"/>
            <a:ext cx="4270320" cy="279540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2"/>
          <a:srcRect l="0" t="0" r="12256" b="0"/>
          <a:stretch/>
        </p:blipFill>
        <p:spPr>
          <a:xfrm>
            <a:off x="4576680" y="1494000"/>
            <a:ext cx="4262400" cy="279540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3"/>
          <a:srcRect l="82730" t="39447" r="0" b="40323"/>
          <a:stretch/>
        </p:blipFill>
        <p:spPr>
          <a:xfrm>
            <a:off x="895320" y="1967040"/>
            <a:ext cx="798480" cy="581040"/>
          </a:xfrm>
          <a:prstGeom prst="rect">
            <a:avLst/>
          </a:prstGeom>
          <a:ln w="6480">
            <a:solidFill>
              <a:srgbClr val="5f5f5f"/>
            </a:solidFill>
            <a:miter/>
          </a:ln>
        </p:spPr>
      </p:pic>
      <p:pic>
        <p:nvPicPr>
          <p:cNvPr id="1202" name="" descr=""/>
          <p:cNvPicPr/>
          <p:nvPr/>
        </p:nvPicPr>
        <p:blipFill>
          <a:blip r:embed="rId4"/>
          <a:srcRect l="82730" t="39447" r="0" b="40323"/>
          <a:stretch/>
        </p:blipFill>
        <p:spPr>
          <a:xfrm>
            <a:off x="5202360" y="1967040"/>
            <a:ext cx="798480" cy="581040"/>
          </a:xfrm>
          <a:prstGeom prst="rect">
            <a:avLst/>
          </a:prstGeom>
          <a:ln w="6480">
            <a:solidFill>
              <a:srgbClr val="5f5f5f"/>
            </a:solidFill>
            <a:miter/>
          </a:ln>
        </p:spPr>
      </p:pic>
      <p:sp>
        <p:nvSpPr>
          <p:cNvPr id="1203" name=""/>
          <p:cNvSpPr/>
          <p:nvPr/>
        </p:nvSpPr>
        <p:spPr>
          <a:xfrm>
            <a:off x="790560" y="161784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Symbol"/>
                <a:ea typeface="Symbol"/>
              </a:rPr>
              <a:t></a:t>
            </a: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= 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099040" y="161928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5f5f"/>
                </a:solidFill>
                <a:latin typeface="Symbol"/>
                <a:ea typeface="Symbol"/>
              </a:rPr>
              <a:t></a:t>
            </a: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= 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1332000" y="3429000"/>
            <a:ext cx="982440" cy="398880"/>
            <a:chOff x="1332000" y="3429000"/>
            <a:chExt cx="982440" cy="398880"/>
          </a:xfrm>
        </p:grpSpPr>
        <p:sp>
          <p:nvSpPr>
            <p:cNvPr id="1206" name=""/>
            <p:cNvSpPr/>
            <p:nvPr/>
          </p:nvSpPr>
          <p:spPr>
            <a:xfrm>
              <a:off x="1332000" y="3429000"/>
              <a:ext cx="4680" cy="360360"/>
            </a:xfrm>
            <a:prstGeom prst="line">
              <a:avLst/>
            </a:prstGeom>
            <a:ln w="50760">
              <a:solidFill>
                <a:srgbClr val="fd6e35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93920" y="3429000"/>
              <a:ext cx="92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533520" y="1828800"/>
            <a:ext cx="792468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Bandwidth Engineer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Pre-emp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re-rou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cccc"/>
            </a:outerShdw>
          </a:effectLst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33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447920"/>
            <a:ext cx="76201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Reference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Main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Building blocks of Traffic Engineering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Global Path Provisioning (off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Dynamic Routing 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Bandwidth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erformanc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5f5f5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  <a:ea typeface="Times New Roman"/>
              </a:rPr>
              <a:t>Simulation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31560" y="801360"/>
            <a:ext cx="8381880" cy="11293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cccccc"/>
            </a:outerShdw>
          </a:effectLst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33"/>
                </a:solidFill>
                <a:latin typeface="Arial"/>
                <a:ea typeface="Times New Roman"/>
              </a:rPr>
              <a:t>Dynamic &amp; flexible resource management</a:t>
            </a:r>
            <a:br>
              <a:rPr sz="3400"/>
            </a:br>
            <a:endParaRPr b="1" lang="en-US" sz="3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914400" y="1562040"/>
            <a:ext cx="3108240" cy="284652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2"/>
          <a:stretch/>
        </p:blipFill>
        <p:spPr>
          <a:xfrm>
            <a:off x="5335560" y="1454040"/>
            <a:ext cx="2970360" cy="2981520"/>
          </a:xfrm>
          <a:prstGeom prst="rect">
            <a:avLst/>
          </a:prstGeom>
          <a:ln w="0">
            <a:noFill/>
          </a:ln>
        </p:spPr>
      </p:pic>
      <p:sp>
        <p:nvSpPr>
          <p:cNvPr id="1212" name=""/>
          <p:cNvSpPr/>
          <p:nvPr/>
        </p:nvSpPr>
        <p:spPr>
          <a:xfrm>
            <a:off x="4724280" y="4562640"/>
            <a:ext cx="426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e level of service in a network with dynamic bandwidth assignment. Network resources are redistributed to handle surges in bandwidth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920" y="4546440"/>
            <a:ext cx="4240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e engineered level of service in a typical network. This level of service should either accommodate all traffic or, as in this illustration, most traf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66760" y="1701720"/>
            <a:ext cx="673200" cy="304920"/>
          </a:xfrm>
          <a:prstGeom prst="rect">
            <a:avLst/>
          </a:prstGeom>
          <a:solidFill>
            <a:srgbClr val="e6e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25880" y="1676520"/>
            <a:ext cx="1333440" cy="419040"/>
          </a:xfrm>
          <a:prstGeom prst="rect">
            <a:avLst/>
          </a:prstGeom>
          <a:solidFill>
            <a:srgbClr val="e6e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623440" y="838080"/>
            <a:ext cx="520560" cy="1117800"/>
          </a:xfrm>
          <a:prstGeom prst="rect">
            <a:avLst/>
          </a:prstGeom>
          <a:solidFill>
            <a:srgbClr val="e6e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8242200" y="1676520"/>
            <a:ext cx="495360" cy="482400"/>
          </a:xfrm>
          <a:prstGeom prst="rect">
            <a:avLst/>
          </a:prstGeom>
          <a:solidFill>
            <a:srgbClr val="e6e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85760" y="141912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4902"/>
                </a:solidFill>
                <a:latin typeface="Times New Roman"/>
              </a:rPr>
              <a:t>TWO main groups for MPLS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85200" y="847800"/>
            <a:ext cx="78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PLS traffic class for the TE system 1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0" y="1835280"/>
            <a:ext cx="4446720" cy="4181040"/>
            <a:chOff x="0" y="1835280"/>
            <a:chExt cx="4446720" cy="4181040"/>
          </a:xfrm>
        </p:grpSpPr>
        <p:sp>
          <p:nvSpPr>
            <p:cNvPr id="1221" name="Cloud"/>
            <p:cNvSpPr/>
            <p:nvPr/>
          </p:nvSpPr>
          <p:spPr>
            <a:xfrm>
              <a:off x="82440" y="4065480"/>
              <a:ext cx="4364280" cy="1950840"/>
            </a:xfrm>
            <a:prstGeom prst="pie">
              <a:avLst/>
            </a:prstGeom>
            <a:solidFill>
              <a:srgbClr val="fcf1d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Cloud"/>
            <p:cNvSpPr/>
            <p:nvPr/>
          </p:nvSpPr>
          <p:spPr>
            <a:xfrm>
              <a:off x="0" y="1835280"/>
              <a:ext cx="4375080" cy="2039760"/>
            </a:xfrm>
            <a:prstGeom prst="pie">
              <a:avLst/>
            </a:prstGeom>
            <a:solidFill>
              <a:srgbClr val="fcf1d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77200" y="253836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03720" y="481464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68160" y="2341440"/>
              <a:ext cx="34020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Guarantee bandwidth at any time and any traffic condition up to Maximum value</a:t>
              </a:r>
              <a:r>
                <a:rPr b="0" lang="en-US" sz="2000" spc="-1" strike="noStrike">
                  <a:solidFill>
                    <a:srgbClr val="f74902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122480" y="4538520"/>
              <a:ext cx="301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f5f5f"/>
                  </a:solidFill>
                  <a:latin typeface="Arial"/>
                </a:rPr>
                <a:t>Exploit the bandwidth temporarily not used by HP traff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4597560" y="2172960"/>
            <a:ext cx="4545720" cy="3315960"/>
            <a:chOff x="4597560" y="2172960"/>
            <a:chExt cx="4545720" cy="3315960"/>
          </a:xfrm>
        </p:grpSpPr>
        <p:grpSp>
          <p:nvGrpSpPr>
            <p:cNvPr id="1228" name=""/>
            <p:cNvGrpSpPr/>
            <p:nvPr/>
          </p:nvGrpSpPr>
          <p:grpSpPr>
            <a:xfrm>
              <a:off x="5108040" y="2483280"/>
              <a:ext cx="3753360" cy="2013120"/>
              <a:chOff x="5108040" y="2483280"/>
              <a:chExt cx="3753360" cy="2013120"/>
            </a:xfrm>
          </p:grpSpPr>
          <p:sp>
            <p:nvSpPr>
              <p:cNvPr id="1229" name=""/>
              <p:cNvSpPr/>
              <p:nvPr/>
            </p:nvSpPr>
            <p:spPr>
              <a:xfrm>
                <a:off x="5108040" y="2483280"/>
                <a:ext cx="3604320" cy="2013120"/>
              </a:xfrm>
              <a:custGeom>
                <a:avLst/>
                <a:gdLst/>
                <a:ahLst/>
                <a:rect l="l" t="t" r="r" b="b"/>
                <a:pathLst>
                  <a:path w="3546" h="1528">
                    <a:moveTo>
                      <a:pt x="0" y="390"/>
                    </a:moveTo>
                    <a:lnTo>
                      <a:pt x="84" y="600"/>
                    </a:lnTo>
                    <a:lnTo>
                      <a:pt x="204" y="1110"/>
                    </a:lnTo>
                    <a:lnTo>
                      <a:pt x="282" y="1290"/>
                    </a:lnTo>
                    <a:cubicBezTo>
                      <a:pt x="310" y="1338"/>
                      <a:pt x="337" y="1373"/>
                      <a:pt x="372" y="1398"/>
                    </a:cubicBezTo>
                    <a:cubicBezTo>
                      <a:pt x="396" y="1430"/>
                      <a:pt x="459" y="1440"/>
                      <a:pt x="491" y="1440"/>
                    </a:cubicBezTo>
                    <a:cubicBezTo>
                      <a:pt x="523" y="1440"/>
                      <a:pt x="556" y="1424"/>
                      <a:pt x="588" y="1392"/>
                    </a:cubicBezTo>
                    <a:cubicBezTo>
                      <a:pt x="620" y="1360"/>
                      <a:pt x="653" y="1288"/>
                      <a:pt x="685" y="1248"/>
                    </a:cubicBezTo>
                    <a:cubicBezTo>
                      <a:pt x="717" y="1208"/>
                      <a:pt x="742" y="1176"/>
                      <a:pt x="782" y="1152"/>
                    </a:cubicBezTo>
                    <a:cubicBezTo>
                      <a:pt x="822" y="1128"/>
                      <a:pt x="879" y="1112"/>
                      <a:pt x="927" y="1104"/>
                    </a:cubicBezTo>
                    <a:cubicBezTo>
                      <a:pt x="975" y="1096"/>
                      <a:pt x="1032" y="1080"/>
                      <a:pt x="1073" y="1104"/>
                    </a:cubicBezTo>
                    <a:cubicBezTo>
                      <a:pt x="1114" y="1128"/>
                      <a:pt x="1130" y="1216"/>
                      <a:pt x="1170" y="1248"/>
                    </a:cubicBezTo>
                    <a:cubicBezTo>
                      <a:pt x="1210" y="1280"/>
                      <a:pt x="1267" y="1296"/>
                      <a:pt x="1315" y="1296"/>
                    </a:cubicBezTo>
                    <a:cubicBezTo>
                      <a:pt x="1363" y="1296"/>
                      <a:pt x="1412" y="1272"/>
                      <a:pt x="1461" y="1248"/>
                    </a:cubicBezTo>
                    <a:cubicBezTo>
                      <a:pt x="1510" y="1224"/>
                      <a:pt x="1574" y="1184"/>
                      <a:pt x="1606" y="1152"/>
                    </a:cubicBezTo>
                    <a:cubicBezTo>
                      <a:pt x="1638" y="1120"/>
                      <a:pt x="1631" y="1104"/>
                      <a:pt x="1655" y="1056"/>
                    </a:cubicBezTo>
                    <a:cubicBezTo>
                      <a:pt x="1679" y="1008"/>
                      <a:pt x="1712" y="936"/>
                      <a:pt x="1752" y="864"/>
                    </a:cubicBezTo>
                    <a:cubicBezTo>
                      <a:pt x="1792" y="792"/>
                      <a:pt x="1837" y="641"/>
                      <a:pt x="1897" y="624"/>
                    </a:cubicBezTo>
                    <a:cubicBezTo>
                      <a:pt x="1945" y="616"/>
                      <a:pt x="2080" y="698"/>
                      <a:pt x="2112" y="762"/>
                    </a:cubicBezTo>
                    <a:cubicBezTo>
                      <a:pt x="2144" y="826"/>
                      <a:pt x="2153" y="899"/>
                      <a:pt x="2214" y="972"/>
                    </a:cubicBezTo>
                    <a:cubicBezTo>
                      <a:pt x="2275" y="1045"/>
                      <a:pt x="2378" y="1186"/>
                      <a:pt x="2479" y="1200"/>
                    </a:cubicBezTo>
                    <a:cubicBezTo>
                      <a:pt x="2580" y="1214"/>
                      <a:pt x="2754" y="1112"/>
                      <a:pt x="2819" y="1056"/>
                    </a:cubicBezTo>
                    <a:cubicBezTo>
                      <a:pt x="2884" y="1000"/>
                      <a:pt x="2868" y="910"/>
                      <a:pt x="2892" y="870"/>
                    </a:cubicBezTo>
                    <a:cubicBezTo>
                      <a:pt x="2916" y="830"/>
                      <a:pt x="2928" y="817"/>
                      <a:pt x="2964" y="816"/>
                    </a:cubicBezTo>
                    <a:cubicBezTo>
                      <a:pt x="3000" y="815"/>
                      <a:pt x="3078" y="840"/>
                      <a:pt x="3110" y="864"/>
                    </a:cubicBezTo>
                    <a:cubicBezTo>
                      <a:pt x="3142" y="888"/>
                      <a:pt x="3134" y="920"/>
                      <a:pt x="3158" y="960"/>
                    </a:cubicBezTo>
                    <a:cubicBezTo>
                      <a:pt x="3182" y="1000"/>
                      <a:pt x="3223" y="1064"/>
                      <a:pt x="3255" y="1104"/>
                    </a:cubicBezTo>
                    <a:cubicBezTo>
                      <a:pt x="3287" y="1144"/>
                      <a:pt x="3306" y="1164"/>
                      <a:pt x="3330" y="1212"/>
                    </a:cubicBezTo>
                    <a:cubicBezTo>
                      <a:pt x="3354" y="1260"/>
                      <a:pt x="3369" y="1376"/>
                      <a:pt x="3401" y="1392"/>
                    </a:cubicBezTo>
                    <a:cubicBezTo>
                      <a:pt x="3433" y="1408"/>
                      <a:pt x="3522" y="1528"/>
                      <a:pt x="3546" y="1296"/>
                    </a:cubicBezTo>
                    <a:lnTo>
                      <a:pt x="3546" y="0"/>
                    </a:lnTo>
                    <a:lnTo>
                      <a:pt x="6" y="0"/>
                    </a:lnTo>
                    <a:lnTo>
                      <a:pt x="0" y="390"/>
                    </a:lnTo>
                    <a:close/>
                  </a:path>
                </a:pathLst>
              </a:custGeom>
              <a:solidFill>
                <a:srgbClr val="f5e1e1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417640" y="439164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254280" y="4174560"/>
                <a:ext cx="43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07440" y="4060080"/>
                <a:ext cx="43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492040" y="4380480"/>
                <a:ext cx="36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5117400" y="3745440"/>
              <a:ext cx="3625200" cy="1564920"/>
              <a:chOff x="5117400" y="3745440"/>
              <a:chExt cx="3625200" cy="1564920"/>
            </a:xfrm>
          </p:grpSpPr>
          <p:sp>
            <p:nvSpPr>
              <p:cNvPr id="1235" name=""/>
              <p:cNvSpPr/>
              <p:nvPr/>
            </p:nvSpPr>
            <p:spPr>
              <a:xfrm>
                <a:off x="5117400" y="3856320"/>
                <a:ext cx="3625200" cy="1454040"/>
              </a:xfrm>
              <a:custGeom>
                <a:avLst/>
                <a:gdLst/>
                <a:ahLst/>
                <a:rect l="l" t="t" r="r" b="b"/>
                <a:pathLst>
                  <a:path w="3566" h="1470">
                    <a:moveTo>
                      <a:pt x="0" y="1194"/>
                    </a:moveTo>
                    <a:cubicBezTo>
                      <a:pt x="33" y="1127"/>
                      <a:pt x="149" y="1106"/>
                      <a:pt x="198" y="1068"/>
                    </a:cubicBezTo>
                    <a:cubicBezTo>
                      <a:pt x="246" y="1012"/>
                      <a:pt x="204" y="1056"/>
                      <a:pt x="294" y="966"/>
                    </a:cubicBezTo>
                    <a:cubicBezTo>
                      <a:pt x="384" y="876"/>
                      <a:pt x="420" y="902"/>
                      <a:pt x="485" y="798"/>
                    </a:cubicBezTo>
                    <a:lnTo>
                      <a:pt x="679" y="462"/>
                    </a:lnTo>
                    <a:cubicBezTo>
                      <a:pt x="736" y="366"/>
                      <a:pt x="757" y="299"/>
                      <a:pt x="824" y="222"/>
                    </a:cubicBezTo>
                    <a:cubicBezTo>
                      <a:pt x="889" y="174"/>
                      <a:pt x="1007" y="8"/>
                      <a:pt x="1080" y="0"/>
                    </a:cubicBezTo>
                    <a:lnTo>
                      <a:pt x="1266" y="0"/>
                    </a:lnTo>
                    <a:lnTo>
                      <a:pt x="1416" y="0"/>
                    </a:lnTo>
                    <a:cubicBezTo>
                      <a:pt x="1466" y="35"/>
                      <a:pt x="1534" y="186"/>
                      <a:pt x="1566" y="210"/>
                    </a:cubicBezTo>
                    <a:cubicBezTo>
                      <a:pt x="1613" y="252"/>
                      <a:pt x="1645" y="196"/>
                      <a:pt x="1698" y="252"/>
                    </a:cubicBezTo>
                    <a:cubicBezTo>
                      <a:pt x="1751" y="308"/>
                      <a:pt x="1834" y="496"/>
                      <a:pt x="1884" y="546"/>
                    </a:cubicBezTo>
                    <a:cubicBezTo>
                      <a:pt x="1934" y="596"/>
                      <a:pt x="1950" y="552"/>
                      <a:pt x="1998" y="552"/>
                    </a:cubicBezTo>
                    <a:cubicBezTo>
                      <a:pt x="2039" y="554"/>
                      <a:pt x="2086" y="594"/>
                      <a:pt x="2130" y="558"/>
                    </a:cubicBezTo>
                    <a:cubicBezTo>
                      <a:pt x="2174" y="522"/>
                      <a:pt x="2211" y="405"/>
                      <a:pt x="2262" y="336"/>
                    </a:cubicBezTo>
                    <a:cubicBezTo>
                      <a:pt x="2313" y="267"/>
                      <a:pt x="2374" y="176"/>
                      <a:pt x="2436" y="144"/>
                    </a:cubicBezTo>
                    <a:lnTo>
                      <a:pt x="2634" y="144"/>
                    </a:lnTo>
                    <a:cubicBezTo>
                      <a:pt x="2684" y="149"/>
                      <a:pt x="2702" y="169"/>
                      <a:pt x="2736" y="174"/>
                    </a:cubicBezTo>
                    <a:cubicBezTo>
                      <a:pt x="2770" y="179"/>
                      <a:pt x="2797" y="150"/>
                      <a:pt x="2838" y="174"/>
                    </a:cubicBezTo>
                    <a:cubicBezTo>
                      <a:pt x="2879" y="198"/>
                      <a:pt x="2943" y="271"/>
                      <a:pt x="2982" y="318"/>
                    </a:cubicBezTo>
                    <a:cubicBezTo>
                      <a:pt x="3031" y="342"/>
                      <a:pt x="3012" y="438"/>
                      <a:pt x="3072" y="456"/>
                    </a:cubicBezTo>
                    <a:cubicBezTo>
                      <a:pt x="3132" y="474"/>
                      <a:pt x="3293" y="378"/>
                      <a:pt x="3342" y="426"/>
                    </a:cubicBezTo>
                    <a:cubicBezTo>
                      <a:pt x="3391" y="474"/>
                      <a:pt x="3383" y="546"/>
                      <a:pt x="3432" y="594"/>
                    </a:cubicBezTo>
                    <a:cubicBezTo>
                      <a:pt x="3481" y="642"/>
                      <a:pt x="3502" y="726"/>
                      <a:pt x="3534" y="750"/>
                    </a:cubicBezTo>
                    <a:cubicBezTo>
                      <a:pt x="3566" y="774"/>
                      <a:pt x="3540" y="678"/>
                      <a:pt x="3540" y="798"/>
                    </a:cubicBezTo>
                    <a:lnTo>
                      <a:pt x="3540" y="1470"/>
                    </a:lnTo>
                    <a:lnTo>
                      <a:pt x="0" y="1470"/>
                    </a:lnTo>
                    <a:lnTo>
                      <a:pt x="0" y="1194"/>
                    </a:lnTo>
                    <a:close/>
                  </a:path>
                </a:pathLst>
              </a:custGeom>
              <a:solidFill>
                <a:srgbClr val="ffff99">
                  <a:alpha val="65000"/>
                </a:srgbClr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5959440" y="3745440"/>
                <a:ext cx="1975680" cy="461520"/>
                <a:chOff x="5959440" y="3745440"/>
                <a:chExt cx="1975680" cy="46152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5959440" y="3745440"/>
                  <a:ext cx="837000" cy="461520"/>
                </a:xfrm>
                <a:prstGeom prst="ellipse">
                  <a:avLst/>
                </a:prstGeom>
                <a:solidFill>
                  <a:srgbClr val="ffff99">
                    <a:alpha val="49000"/>
                  </a:srgbClr>
                </a:solidFill>
                <a:ln w="284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7474320" y="3821400"/>
                  <a:ext cx="460800" cy="332280"/>
                </a:xfrm>
                <a:prstGeom prst="ellipse">
                  <a:avLst/>
                </a:prstGeom>
                <a:solidFill>
                  <a:srgbClr val="ffff99">
                    <a:alpha val="49000"/>
                  </a:srgbClr>
                </a:solidFill>
                <a:ln w="284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9" name=""/>
            <p:cNvSpPr/>
            <p:nvPr/>
          </p:nvSpPr>
          <p:spPr>
            <a:xfrm rot="16200000">
              <a:off x="3173400" y="3597120"/>
              <a:ext cx="315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ercentage of BW for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961880" y="5109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446800" y="3401640"/>
              <a:ext cx="25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hreshold for HP traff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131080" y="3835440"/>
              <a:ext cx="3596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3" name=""/>
            <p:cNvGrpSpPr/>
            <p:nvPr/>
          </p:nvGrpSpPr>
          <p:grpSpPr>
            <a:xfrm>
              <a:off x="5151960" y="2368800"/>
              <a:ext cx="2880360" cy="1332360"/>
              <a:chOff x="5151960" y="2368800"/>
              <a:chExt cx="2880360" cy="1332360"/>
            </a:xfrm>
          </p:grpSpPr>
          <p:sp>
            <p:nvSpPr>
              <p:cNvPr id="1244" name=""/>
              <p:cNvSpPr/>
              <p:nvPr/>
            </p:nvSpPr>
            <p:spPr>
              <a:xfrm>
                <a:off x="5151960" y="2368800"/>
                <a:ext cx="96480" cy="1332360"/>
              </a:xfrm>
              <a:custGeom>
                <a:avLst/>
                <a:gdLst>
                  <a:gd name="textAreaLeft" fmla="*/ 0 w 96480"/>
                  <a:gd name="textAreaRight" fmla="*/ 34920 w 96480"/>
                  <a:gd name="textAreaTop" fmla="*/ 34560 h 1332360"/>
                  <a:gd name="textAreaBottom" fmla="*/ 1297800 h 133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17840" y="2868840"/>
                <a:ext cx="281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Minimum BW for LP traff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5015880" y="5288400"/>
              <a:ext cx="4127400" cy="52560"/>
              <a:chOff x="5015880" y="5288400"/>
              <a:chExt cx="4127400" cy="52560"/>
            </a:xfrm>
          </p:grpSpPr>
          <p:sp>
            <p:nvSpPr>
              <p:cNvPr id="1247" name=""/>
              <p:cNvSpPr/>
              <p:nvPr/>
            </p:nvSpPr>
            <p:spPr>
              <a:xfrm>
                <a:off x="5015880" y="5313600"/>
                <a:ext cx="406404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9077760" y="5288400"/>
                <a:ext cx="65520" cy="52560"/>
              </a:xfrm>
              <a:custGeom>
                <a:avLst/>
                <a:gdLst/>
                <a:ahLst/>
                <a:rect l="l" t="t" r="r" b="b"/>
                <a:pathLst>
                  <a:path w="118" h="120">
                    <a:moveTo>
                      <a:pt x="0" y="120"/>
                    </a:moveTo>
                    <a:lnTo>
                      <a:pt x="118" y="59"/>
                    </a:lnTo>
                    <a:lnTo>
                      <a:pt x="0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5093280" y="2323080"/>
              <a:ext cx="49680" cy="2989440"/>
              <a:chOff x="5093280" y="2323080"/>
              <a:chExt cx="49680" cy="2989440"/>
            </a:xfrm>
          </p:grpSpPr>
          <p:sp>
            <p:nvSpPr>
              <p:cNvPr id="1250" name=""/>
              <p:cNvSpPr/>
              <p:nvPr/>
            </p:nvSpPr>
            <p:spPr>
              <a:xfrm flipV="1">
                <a:off x="5117400" y="2395800"/>
                <a:ext cx="720" cy="291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093280" y="2323080"/>
                <a:ext cx="49680" cy="763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59" y="0"/>
                    </a:lnTo>
                    <a:lnTo>
                      <a:pt x="0" y="12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4868640" y="43380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868640" y="30776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795920" y="24109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868640" y="37350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9520" y="4452840"/>
              <a:ext cx="4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66640" y="3823200"/>
              <a:ext cx="4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6640" y="3163680"/>
              <a:ext cx="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65560" y="2486880"/>
              <a:ext cx="4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5112000" y="2460600"/>
              <a:ext cx="3959280" cy="54360"/>
              <a:chOff x="5112000" y="2460600"/>
              <a:chExt cx="3959280" cy="54360"/>
            </a:xfrm>
          </p:grpSpPr>
          <p:sp>
            <p:nvSpPr>
              <p:cNvPr id="1261" name=""/>
              <p:cNvSpPr/>
              <p:nvPr/>
            </p:nvSpPr>
            <p:spPr>
              <a:xfrm>
                <a:off x="5112000" y="2486880"/>
                <a:ext cx="389844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9008280" y="2460600"/>
                <a:ext cx="63000" cy="54360"/>
              </a:xfrm>
              <a:custGeom>
                <a:avLst/>
                <a:gdLst/>
                <a:ahLst/>
                <a:rect l="l" t="t" r="r" b="b"/>
                <a:pathLst>
                  <a:path w="118" h="120">
                    <a:moveTo>
                      <a:pt x="0" y="120"/>
                    </a:moveTo>
                    <a:lnTo>
                      <a:pt x="118" y="59"/>
                    </a:lnTo>
                    <a:lnTo>
                      <a:pt x="0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" name=""/>
            <p:cNvSpPr/>
            <p:nvPr/>
          </p:nvSpPr>
          <p:spPr>
            <a:xfrm>
              <a:off x="8827200" y="2499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803080" y="31374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803080" y="44542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796240" y="50623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810640" y="38408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739000" y="4597200"/>
              <a:ext cx="45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726760" y="3962520"/>
              <a:ext cx="4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732160" y="3287520"/>
              <a:ext cx="4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4899600" y="3842640"/>
              <a:ext cx="2995560" cy="1437840"/>
              <a:chOff x="4899600" y="3842640"/>
              <a:chExt cx="2995560" cy="1437840"/>
            </a:xfrm>
          </p:grpSpPr>
          <p:sp>
            <p:nvSpPr>
              <p:cNvPr id="1272" name=""/>
              <p:cNvSpPr/>
              <p:nvPr/>
            </p:nvSpPr>
            <p:spPr>
              <a:xfrm rot="10800000">
                <a:off x="5173200" y="3842640"/>
                <a:ext cx="152640" cy="143784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37440 h 1437840"/>
                  <a:gd name="textAreaBottom" fmla="*/ 1400400 h 1437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899600" y="4367520"/>
                <a:ext cx="29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BW for HP traff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4" name=""/>
            <p:cNvSpPr/>
            <p:nvPr/>
          </p:nvSpPr>
          <p:spPr>
            <a:xfrm>
              <a:off x="8205480" y="5027400"/>
              <a:ext cx="48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5" name=""/>
            <p:cNvGrpSpPr/>
            <p:nvPr/>
          </p:nvGrpSpPr>
          <p:grpSpPr>
            <a:xfrm>
              <a:off x="8696160" y="2499480"/>
              <a:ext cx="49320" cy="2989440"/>
              <a:chOff x="8696160" y="2499480"/>
              <a:chExt cx="49320" cy="2989440"/>
            </a:xfrm>
          </p:grpSpPr>
          <p:sp>
            <p:nvSpPr>
              <p:cNvPr id="1276" name=""/>
              <p:cNvSpPr/>
              <p:nvPr/>
            </p:nvSpPr>
            <p:spPr>
              <a:xfrm>
                <a:off x="8720280" y="2499480"/>
                <a:ext cx="720" cy="291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8696160" y="5412600"/>
                <a:ext cx="49320" cy="763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59" y="0"/>
                    </a:lnTo>
                    <a:lnTo>
                      <a:pt x="0" y="12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691560" y="876240"/>
            <a:ext cx="787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PLS traffic class for the TE system 2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54200" y="2060640"/>
            <a:ext cx="753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515360" y="4483080"/>
            <a:ext cx="14396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076800" y="4483080"/>
            <a:ext cx="14385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ifferent preemption levels for LP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637160" y="4483080"/>
            <a:ext cx="14396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N-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197160" y="4483080"/>
            <a:ext cx="1440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FF-LINE</a:t>
            </a:r>
            <a:br>
              <a:rPr sz="1600"/>
            </a:b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N-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758960" y="4483080"/>
            <a:ext cx="14382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Bandwidth on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04920" y="4483080"/>
            <a:ext cx="14540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(More LP classes)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15360" y="3127320"/>
            <a:ext cx="14396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076800" y="3127320"/>
            <a:ext cx="143856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637160" y="3127320"/>
            <a:ext cx="14396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N-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197160" y="3127320"/>
            <a:ext cx="14400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FF-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758960" y="3127320"/>
            <a:ext cx="14382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Guaranteed up to a maximum value agreed by S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920" y="3127320"/>
            <a:ext cx="14540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515360" y="1773360"/>
            <a:ext cx="14396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9b8"/>
                </a:solidFill>
                <a:latin typeface="Arial"/>
              </a:rPr>
              <a:t>Re-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943600" y="1752480"/>
            <a:ext cx="16002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9b8"/>
                </a:solidFill>
                <a:latin typeface="Arial"/>
              </a:rPr>
              <a:t>Pree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637160" y="1773360"/>
            <a:ext cx="14396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9b8"/>
                </a:solidFill>
                <a:latin typeface="Arial"/>
              </a:rPr>
              <a:t>Bandwidth mod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197160" y="1773360"/>
            <a:ext cx="14400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9b8"/>
                </a:solidFill>
                <a:latin typeface="Arial"/>
              </a:rPr>
              <a:t>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9b8"/>
                </a:solidFill>
                <a:latin typeface="Arial"/>
              </a:rPr>
              <a:t>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58960" y="1773360"/>
            <a:ext cx="14382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9b8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920" y="1773360"/>
            <a:ext cx="14540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9b8"/>
                </a:solidFill>
                <a:latin typeface="Arial"/>
              </a:rPr>
              <a:t>Traffic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04920" y="1773360"/>
            <a:ext cx="8650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04920" y="3127320"/>
            <a:ext cx="865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04920" y="4483080"/>
            <a:ext cx="865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04920" y="5791320"/>
            <a:ext cx="8650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58960" y="1773360"/>
            <a:ext cx="0" cy="401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97160" y="1773360"/>
            <a:ext cx="0" cy="401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637160" y="1773360"/>
            <a:ext cx="0" cy="401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005520" y="1773360"/>
            <a:ext cx="0" cy="401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515360" y="1773360"/>
            <a:ext cx="0" cy="401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955000" y="1773360"/>
            <a:ext cx="0" cy="4017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04920" y="3127320"/>
            <a:ext cx="0" cy="13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04920" y="1752480"/>
            <a:ext cx="0" cy="2819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04920" y="4483080"/>
            <a:ext cx="0" cy="1308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6006240" y="2871000"/>
            <a:ext cx="1724760" cy="1814040"/>
            <a:chOff x="6006240" y="2871000"/>
            <a:chExt cx="1724760" cy="1814040"/>
          </a:xfrm>
        </p:grpSpPr>
        <p:sp>
          <p:nvSpPr>
            <p:cNvPr id="1312" name=""/>
            <p:cNvSpPr/>
            <p:nvPr/>
          </p:nvSpPr>
          <p:spPr>
            <a:xfrm rot="3181800">
              <a:off x="6592320" y="3068640"/>
              <a:ext cx="552600" cy="1742760"/>
            </a:xfrm>
            <a:prstGeom prst="lightningBol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18120600">
              <a:off x="6104160" y="3409560"/>
              <a:ext cx="14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em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5567400" y="2011320"/>
            <a:ext cx="33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e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495760" y="2481120"/>
            <a:ext cx="33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65240" y="800280"/>
            <a:ext cx="8778600" cy="38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33"/>
                </a:solidFill>
                <a:latin typeface="Arial"/>
                <a:ea typeface="Times New Roman"/>
              </a:rPr>
              <a:t>Bandwidth Engineer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782600">
            <a:off x="5320080" y="4293720"/>
            <a:ext cx="14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P (H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9251000">
            <a:off x="7389000" y="3717360"/>
            <a:ext cx="11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P (B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9" name=""/>
          <p:cNvCxnSpPr>
            <a:stCxn id="1320" idx="0"/>
            <a:endCxn id="1321" idx="0"/>
          </p:cNvCxnSpPr>
          <p:nvPr/>
        </p:nvCxnSpPr>
        <p:spPr>
          <a:xfrm>
            <a:off x="5414760" y="4444920"/>
            <a:ext cx="749880" cy="45792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322" name=""/>
          <p:cNvCxnSpPr>
            <a:stCxn id="1323" idx="0"/>
            <a:endCxn id="1324" idx="0"/>
          </p:cNvCxnSpPr>
          <p:nvPr/>
        </p:nvCxnSpPr>
        <p:spPr>
          <a:xfrm flipV="1">
            <a:off x="6248520" y="4846320"/>
            <a:ext cx="783360" cy="165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325" name=""/>
          <p:cNvCxnSpPr>
            <a:stCxn id="1326" idx="0"/>
            <a:endCxn id="1327" idx="0"/>
          </p:cNvCxnSpPr>
          <p:nvPr/>
        </p:nvCxnSpPr>
        <p:spPr>
          <a:xfrm>
            <a:off x="7832880" y="4430880"/>
            <a:ext cx="41760" cy="87192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328" name=""/>
          <p:cNvCxnSpPr>
            <a:stCxn id="1329" idx="7"/>
            <a:endCxn id="1330" idx="2"/>
          </p:cNvCxnSpPr>
          <p:nvPr/>
        </p:nvCxnSpPr>
        <p:spPr>
          <a:xfrm flipV="1">
            <a:off x="5602320" y="4973040"/>
            <a:ext cx="364320" cy="21492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331" name=""/>
          <p:cNvCxnSpPr>
            <a:stCxn id="1332" idx="0"/>
            <a:endCxn id="1333" idx="0"/>
          </p:cNvCxnSpPr>
          <p:nvPr/>
        </p:nvCxnSpPr>
        <p:spPr>
          <a:xfrm flipV="1">
            <a:off x="7791480" y="3793320"/>
            <a:ext cx="791280" cy="5007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grpSp>
        <p:nvGrpSpPr>
          <p:cNvPr id="1334" name=""/>
          <p:cNvGrpSpPr/>
          <p:nvPr/>
        </p:nvGrpSpPr>
        <p:grpSpPr>
          <a:xfrm>
            <a:off x="5172120" y="4294080"/>
            <a:ext cx="482040" cy="348840"/>
            <a:chOff x="5172120" y="4294080"/>
            <a:chExt cx="482040" cy="348840"/>
          </a:xfrm>
        </p:grpSpPr>
        <p:sp>
          <p:nvSpPr>
            <p:cNvPr id="1335" name=""/>
            <p:cNvSpPr/>
            <p:nvPr/>
          </p:nvSpPr>
          <p:spPr>
            <a:xfrm>
              <a:off x="5173200" y="4438800"/>
              <a:ext cx="480960" cy="20412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172120" y="4398120"/>
              <a:ext cx="480600" cy="1447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172120" y="4398120"/>
              <a:ext cx="480600" cy="14472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173200" y="4294080"/>
              <a:ext cx="480960" cy="20412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5244840" y="4317840"/>
              <a:ext cx="333720" cy="154800"/>
              <a:chOff x="5244840" y="4317840"/>
              <a:chExt cx="333720" cy="154800"/>
            </a:xfrm>
          </p:grpSpPr>
          <p:grpSp>
            <p:nvGrpSpPr>
              <p:cNvPr id="1340" name=""/>
              <p:cNvGrpSpPr/>
              <p:nvPr/>
            </p:nvGrpSpPr>
            <p:grpSpPr>
              <a:xfrm>
                <a:off x="5244840" y="4317840"/>
                <a:ext cx="331200" cy="151920"/>
                <a:chOff x="5244840" y="4317840"/>
                <a:chExt cx="331200" cy="15192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5417280" y="4321440"/>
                  <a:ext cx="158760" cy="64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5417280" y="4321440"/>
                  <a:ext cx="158760" cy="64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244840" y="4397760"/>
                  <a:ext cx="158400" cy="68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5244840" y="4397760"/>
                  <a:ext cx="158400" cy="68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253120" y="4317840"/>
                  <a:ext cx="15876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253120" y="4317840"/>
                  <a:ext cx="15876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5411880" y="4404240"/>
                  <a:ext cx="15840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411880" y="4404240"/>
                  <a:ext cx="15840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5247360" y="4321440"/>
                <a:ext cx="331200" cy="151200"/>
                <a:chOff x="5247360" y="4321440"/>
                <a:chExt cx="331200" cy="1512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5420160" y="43250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420160" y="43250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5247360" y="4400280"/>
                  <a:ext cx="158760" cy="694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5247360" y="4400280"/>
                  <a:ext cx="158760" cy="694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5256000" y="43214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56000" y="43214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14400" y="4408200"/>
                  <a:ext cx="158760" cy="6444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414400" y="4408200"/>
                  <a:ext cx="158760" cy="6444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7" name=""/>
            <p:cNvSpPr/>
            <p:nvPr/>
          </p:nvSpPr>
          <p:spPr>
            <a:xfrm>
              <a:off x="5172120" y="4394160"/>
              <a:ext cx="1080" cy="14472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652720" y="4394160"/>
              <a:ext cx="1440" cy="14472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59" name=""/>
          <p:cNvCxnSpPr>
            <a:stCxn id="1360" idx="0"/>
            <a:endCxn id="1361" idx="0"/>
          </p:cNvCxnSpPr>
          <p:nvPr/>
        </p:nvCxnSpPr>
        <p:spPr>
          <a:xfrm flipV="1">
            <a:off x="7053120" y="4470120"/>
            <a:ext cx="696240" cy="3578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grpSp>
        <p:nvGrpSpPr>
          <p:cNvPr id="1362" name=""/>
          <p:cNvGrpSpPr/>
          <p:nvPr/>
        </p:nvGrpSpPr>
        <p:grpSpPr>
          <a:xfrm>
            <a:off x="5172120" y="5157720"/>
            <a:ext cx="502920" cy="360000"/>
            <a:chOff x="5172120" y="5157720"/>
            <a:chExt cx="502920" cy="360000"/>
          </a:xfrm>
        </p:grpSpPr>
        <p:sp>
          <p:nvSpPr>
            <p:cNvPr id="1363" name=""/>
            <p:cNvSpPr/>
            <p:nvPr/>
          </p:nvSpPr>
          <p:spPr>
            <a:xfrm>
              <a:off x="5173200" y="5307120"/>
              <a:ext cx="501840" cy="21060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172120" y="5265000"/>
              <a:ext cx="501480" cy="1494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172120" y="5265000"/>
              <a:ext cx="501480" cy="14940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73200" y="5157720"/>
              <a:ext cx="501840" cy="21060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6" name=""/>
            <p:cNvGrpSpPr/>
            <p:nvPr/>
          </p:nvGrpSpPr>
          <p:grpSpPr>
            <a:xfrm>
              <a:off x="5248080" y="5182200"/>
              <a:ext cx="348120" cy="159840"/>
              <a:chOff x="5248080" y="5182200"/>
              <a:chExt cx="348120" cy="159840"/>
            </a:xfrm>
          </p:grpSpPr>
          <p:grpSp>
            <p:nvGrpSpPr>
              <p:cNvPr id="1367" name=""/>
              <p:cNvGrpSpPr/>
              <p:nvPr/>
            </p:nvGrpSpPr>
            <p:grpSpPr>
              <a:xfrm>
                <a:off x="5248080" y="5182200"/>
                <a:ext cx="345600" cy="156960"/>
                <a:chOff x="5248080" y="5182200"/>
                <a:chExt cx="345600" cy="15696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5428080" y="5186160"/>
                  <a:ext cx="165600" cy="662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5428080" y="5186160"/>
                  <a:ext cx="165600" cy="662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5248080" y="5265000"/>
                  <a:ext cx="165240" cy="7020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248080" y="5265000"/>
                  <a:ext cx="165240" cy="7020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256720" y="5182200"/>
                  <a:ext cx="165600" cy="676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256720" y="5182200"/>
                  <a:ext cx="165600" cy="676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422320" y="5271480"/>
                  <a:ext cx="165240" cy="6768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422320" y="5271480"/>
                  <a:ext cx="165240" cy="6768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5250600" y="5186160"/>
                <a:ext cx="345600" cy="155880"/>
                <a:chOff x="5250600" y="5186160"/>
                <a:chExt cx="345600" cy="1558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5430960" y="5190120"/>
                  <a:ext cx="165240" cy="662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430960" y="5190120"/>
                  <a:ext cx="165240" cy="662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5250600" y="5267520"/>
                  <a:ext cx="165600" cy="716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250600" y="5267520"/>
                  <a:ext cx="165600" cy="716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259600" y="5186160"/>
                  <a:ext cx="165240" cy="6624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259600" y="5186160"/>
                  <a:ext cx="165240" cy="6624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424840" y="5275800"/>
                  <a:ext cx="165600" cy="6624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424840" y="5275800"/>
                  <a:ext cx="165600" cy="6624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5" name=""/>
            <p:cNvSpPr/>
            <p:nvPr/>
          </p:nvSpPr>
          <p:spPr>
            <a:xfrm>
              <a:off x="5172120" y="5261040"/>
              <a:ext cx="1080" cy="1494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673600" y="5261040"/>
              <a:ext cx="1440" cy="1494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7620120" y="5302080"/>
            <a:ext cx="504360" cy="365040"/>
            <a:chOff x="7620120" y="5302080"/>
            <a:chExt cx="504360" cy="365040"/>
          </a:xfrm>
        </p:grpSpPr>
        <p:sp>
          <p:nvSpPr>
            <p:cNvPr id="1388" name=""/>
            <p:cNvSpPr/>
            <p:nvPr/>
          </p:nvSpPr>
          <p:spPr>
            <a:xfrm>
              <a:off x="7621200" y="5453640"/>
              <a:ext cx="503280" cy="21348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620120" y="5411160"/>
              <a:ext cx="502920" cy="1515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620120" y="5411160"/>
              <a:ext cx="502920" cy="15156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621200" y="5302080"/>
              <a:ext cx="503280" cy="21348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1" name=""/>
            <p:cNvGrpSpPr/>
            <p:nvPr/>
          </p:nvGrpSpPr>
          <p:grpSpPr>
            <a:xfrm>
              <a:off x="7696440" y="5326920"/>
              <a:ext cx="349200" cy="162000"/>
              <a:chOff x="7696440" y="5326920"/>
              <a:chExt cx="349200" cy="16200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7696440" y="5326920"/>
                <a:ext cx="346680" cy="159120"/>
                <a:chOff x="7696440" y="5326920"/>
                <a:chExt cx="346680" cy="15912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7877160" y="5330880"/>
                  <a:ext cx="165960" cy="673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7877160" y="5330880"/>
                  <a:ext cx="165960" cy="673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7696440" y="5410800"/>
                  <a:ext cx="165600" cy="712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7696440" y="5410800"/>
                  <a:ext cx="165600" cy="712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7705080" y="5326920"/>
                  <a:ext cx="165960" cy="684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7705080" y="5326920"/>
                  <a:ext cx="165960" cy="684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7871400" y="5417640"/>
                  <a:ext cx="165600" cy="6840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7871400" y="5417640"/>
                  <a:ext cx="165600" cy="6840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7698960" y="5330880"/>
                <a:ext cx="346680" cy="158040"/>
                <a:chOff x="7698960" y="5330880"/>
                <a:chExt cx="346680" cy="15804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7880040" y="5334840"/>
                  <a:ext cx="165600" cy="673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7880040" y="5334840"/>
                  <a:ext cx="165600" cy="673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7698960" y="5413320"/>
                  <a:ext cx="165960" cy="7236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698960" y="5413320"/>
                  <a:ext cx="165960" cy="7236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707960" y="5330880"/>
                  <a:ext cx="165600" cy="6732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707960" y="5330880"/>
                  <a:ext cx="165600" cy="6732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873920" y="5421600"/>
                  <a:ext cx="165960" cy="6732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7873920" y="5421600"/>
                  <a:ext cx="165960" cy="6732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0" name=""/>
            <p:cNvSpPr/>
            <p:nvPr/>
          </p:nvSpPr>
          <p:spPr>
            <a:xfrm>
              <a:off x="7620120" y="5406840"/>
              <a:ext cx="1080" cy="1515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123040" y="5406840"/>
              <a:ext cx="1440" cy="15156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5964120" y="4726080"/>
            <a:ext cx="482400" cy="348840"/>
            <a:chOff x="5964120" y="4726080"/>
            <a:chExt cx="482400" cy="348840"/>
          </a:xfrm>
        </p:grpSpPr>
        <p:sp>
          <p:nvSpPr>
            <p:cNvPr id="1330" name=""/>
            <p:cNvSpPr/>
            <p:nvPr/>
          </p:nvSpPr>
          <p:spPr>
            <a:xfrm>
              <a:off x="5965200" y="4870800"/>
              <a:ext cx="481320" cy="20412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64120" y="4830120"/>
              <a:ext cx="480960" cy="1447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964120" y="4830120"/>
              <a:ext cx="480960" cy="14472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965200" y="4726080"/>
              <a:ext cx="481320" cy="20412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6037200" y="4749840"/>
              <a:ext cx="334080" cy="154800"/>
              <a:chOff x="6037200" y="4749840"/>
              <a:chExt cx="334080" cy="154800"/>
            </a:xfrm>
          </p:grpSpPr>
          <p:grpSp>
            <p:nvGrpSpPr>
              <p:cNvPr id="1417" name=""/>
              <p:cNvGrpSpPr/>
              <p:nvPr/>
            </p:nvGrpSpPr>
            <p:grpSpPr>
              <a:xfrm>
                <a:off x="6037200" y="4749840"/>
                <a:ext cx="331560" cy="151920"/>
                <a:chOff x="6037200" y="4749840"/>
                <a:chExt cx="331560" cy="1519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210000" y="4753440"/>
                  <a:ext cx="158760" cy="64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210000" y="4753440"/>
                  <a:ext cx="158760" cy="64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037200" y="4829760"/>
                  <a:ext cx="158400" cy="68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037200" y="4829760"/>
                  <a:ext cx="158400" cy="68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6045480" y="4749840"/>
                  <a:ext cx="15876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6045480" y="4749840"/>
                  <a:ext cx="15876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6204600" y="4836240"/>
                  <a:ext cx="15840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6204600" y="4836240"/>
                  <a:ext cx="15840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6039720" y="4753440"/>
                <a:ext cx="331560" cy="151200"/>
                <a:chOff x="6039720" y="4753440"/>
                <a:chExt cx="331560" cy="15120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6212880" y="47570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6212880" y="47570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6039720" y="4832280"/>
                  <a:ext cx="158760" cy="694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039720" y="4832280"/>
                  <a:ext cx="158760" cy="694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6048360" y="47534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6048360" y="47534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207120" y="4840200"/>
                  <a:ext cx="158760" cy="6444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6207120" y="4840200"/>
                  <a:ext cx="158760" cy="6444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3" name=""/>
            <p:cNvSpPr/>
            <p:nvPr/>
          </p:nvSpPr>
          <p:spPr>
            <a:xfrm>
              <a:off x="5964120" y="4826160"/>
              <a:ext cx="1080" cy="14472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445080" y="4826160"/>
              <a:ext cx="1440" cy="14472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6756480" y="4726080"/>
            <a:ext cx="502920" cy="364680"/>
            <a:chOff x="6756480" y="4726080"/>
            <a:chExt cx="502920" cy="364680"/>
          </a:xfrm>
        </p:grpSpPr>
        <p:sp>
          <p:nvSpPr>
            <p:cNvPr id="1436" name=""/>
            <p:cNvSpPr/>
            <p:nvPr/>
          </p:nvSpPr>
          <p:spPr>
            <a:xfrm>
              <a:off x="6757560" y="4877280"/>
              <a:ext cx="501840" cy="21348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756480" y="4834800"/>
              <a:ext cx="501480" cy="1512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756480" y="4834800"/>
              <a:ext cx="501480" cy="15120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57560" y="4726080"/>
              <a:ext cx="501840" cy="21348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0" name=""/>
            <p:cNvGrpSpPr/>
            <p:nvPr/>
          </p:nvGrpSpPr>
          <p:grpSpPr>
            <a:xfrm>
              <a:off x="6832440" y="4750920"/>
              <a:ext cx="348120" cy="162000"/>
              <a:chOff x="6832440" y="4750920"/>
              <a:chExt cx="348120" cy="162000"/>
            </a:xfrm>
          </p:grpSpPr>
          <p:grpSp>
            <p:nvGrpSpPr>
              <p:cNvPr id="1441" name=""/>
              <p:cNvGrpSpPr/>
              <p:nvPr/>
            </p:nvGrpSpPr>
            <p:grpSpPr>
              <a:xfrm>
                <a:off x="6832440" y="4750920"/>
                <a:ext cx="345600" cy="159120"/>
                <a:chOff x="6832440" y="4750920"/>
                <a:chExt cx="345600" cy="15912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7012440" y="4754880"/>
                  <a:ext cx="165600" cy="673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012440" y="4754880"/>
                  <a:ext cx="165600" cy="673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6832440" y="4834800"/>
                  <a:ext cx="165240" cy="712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6832440" y="4834800"/>
                  <a:ext cx="165240" cy="712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6841080" y="4750920"/>
                  <a:ext cx="165600" cy="684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6841080" y="4750920"/>
                  <a:ext cx="165600" cy="684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006680" y="4841640"/>
                  <a:ext cx="165240" cy="6840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7006680" y="4841640"/>
                  <a:ext cx="165240" cy="6840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6834960" y="4754880"/>
                <a:ext cx="345600" cy="158040"/>
                <a:chOff x="6834960" y="4754880"/>
                <a:chExt cx="345600" cy="15804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7015320" y="4758840"/>
                  <a:ext cx="165240" cy="673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015320" y="4758840"/>
                  <a:ext cx="165240" cy="673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834960" y="4837320"/>
                  <a:ext cx="165600" cy="7236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834960" y="4837320"/>
                  <a:ext cx="165600" cy="7236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6843960" y="4754880"/>
                  <a:ext cx="165240" cy="6732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843960" y="4754880"/>
                  <a:ext cx="165240" cy="6732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009200" y="4845600"/>
                  <a:ext cx="165600" cy="6732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009200" y="4845600"/>
                  <a:ext cx="165600" cy="6732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7" name=""/>
            <p:cNvSpPr/>
            <p:nvPr/>
          </p:nvSpPr>
          <p:spPr>
            <a:xfrm>
              <a:off x="6756480" y="4830840"/>
              <a:ext cx="1080" cy="1512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257960" y="4830840"/>
              <a:ext cx="1440" cy="1512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7548480" y="4294080"/>
            <a:ext cx="482400" cy="348840"/>
            <a:chOff x="7548480" y="4294080"/>
            <a:chExt cx="482400" cy="348840"/>
          </a:xfrm>
        </p:grpSpPr>
        <p:sp>
          <p:nvSpPr>
            <p:cNvPr id="1460" name=""/>
            <p:cNvSpPr/>
            <p:nvPr/>
          </p:nvSpPr>
          <p:spPr>
            <a:xfrm>
              <a:off x="7549560" y="4438800"/>
              <a:ext cx="481320" cy="20412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548480" y="4398120"/>
              <a:ext cx="480960" cy="1447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548480" y="4398120"/>
              <a:ext cx="480960" cy="14472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49560" y="4294080"/>
              <a:ext cx="481320" cy="20412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3" name=""/>
            <p:cNvGrpSpPr/>
            <p:nvPr/>
          </p:nvGrpSpPr>
          <p:grpSpPr>
            <a:xfrm>
              <a:off x="7621560" y="4317840"/>
              <a:ext cx="334080" cy="154800"/>
              <a:chOff x="7621560" y="4317840"/>
              <a:chExt cx="334080" cy="154800"/>
            </a:xfrm>
          </p:grpSpPr>
          <p:grpSp>
            <p:nvGrpSpPr>
              <p:cNvPr id="1464" name=""/>
              <p:cNvGrpSpPr/>
              <p:nvPr/>
            </p:nvGrpSpPr>
            <p:grpSpPr>
              <a:xfrm>
                <a:off x="7621560" y="4317840"/>
                <a:ext cx="331560" cy="151920"/>
                <a:chOff x="7621560" y="4317840"/>
                <a:chExt cx="331560" cy="15192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7794360" y="4321440"/>
                  <a:ext cx="158760" cy="64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7794360" y="4321440"/>
                  <a:ext cx="158760" cy="64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7621560" y="4397760"/>
                  <a:ext cx="158400" cy="68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621560" y="4397760"/>
                  <a:ext cx="158400" cy="680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629840" y="4317840"/>
                  <a:ext cx="15876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629840" y="4317840"/>
                  <a:ext cx="15876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788960" y="4404240"/>
                  <a:ext cx="15840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788960" y="4404240"/>
                  <a:ext cx="158400" cy="6552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7624080" y="4321440"/>
                <a:ext cx="331560" cy="151200"/>
                <a:chOff x="7624080" y="4321440"/>
                <a:chExt cx="331560" cy="15120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7797240" y="43250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797240" y="43250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7624080" y="4400280"/>
                  <a:ext cx="158760" cy="694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7624080" y="4400280"/>
                  <a:ext cx="158760" cy="694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632720" y="43214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632720" y="4321440"/>
                  <a:ext cx="158400" cy="6444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7791480" y="4408200"/>
                  <a:ext cx="158760" cy="6444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791480" y="4408200"/>
                  <a:ext cx="158760" cy="6444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0" name=""/>
            <p:cNvSpPr/>
            <p:nvPr/>
          </p:nvSpPr>
          <p:spPr>
            <a:xfrm>
              <a:off x="7548480" y="4394160"/>
              <a:ext cx="1080" cy="14472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029440" y="4394160"/>
              <a:ext cx="1440" cy="14472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82" name=""/>
          <p:cNvCxnSpPr>
            <a:stCxn id="1329" idx="5"/>
            <a:endCxn id="1483" idx="0"/>
          </p:cNvCxnSpPr>
          <p:nvPr/>
        </p:nvCxnSpPr>
        <p:spPr>
          <a:xfrm>
            <a:off x="5601960" y="5338440"/>
            <a:ext cx="2731320" cy="1083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1484" name=""/>
          <p:cNvCxnSpPr>
            <a:stCxn id="1485" idx="4"/>
            <a:endCxn id="1486" idx="0"/>
          </p:cNvCxnSpPr>
          <p:nvPr/>
        </p:nvCxnSpPr>
        <p:spPr>
          <a:xfrm flipH="1">
            <a:off x="8376480" y="3992040"/>
            <a:ext cx="205560" cy="23187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grpSp>
        <p:nvGrpSpPr>
          <p:cNvPr id="1487" name=""/>
          <p:cNvGrpSpPr/>
          <p:nvPr/>
        </p:nvGrpSpPr>
        <p:grpSpPr>
          <a:xfrm>
            <a:off x="5173560" y="3744360"/>
            <a:ext cx="3645000" cy="1519560"/>
            <a:chOff x="5173560" y="3744360"/>
            <a:chExt cx="3645000" cy="1519560"/>
          </a:xfrm>
        </p:grpSpPr>
        <p:cxnSp>
          <p:nvCxnSpPr>
            <p:cNvPr id="1488" name=""/>
            <p:cNvCxnSpPr>
              <a:stCxn id="1480" idx="0"/>
              <a:endCxn id="1489" idx="0"/>
            </p:cNvCxnSpPr>
            <p:nvPr/>
          </p:nvCxnSpPr>
          <p:spPr>
            <a:xfrm flipV="1">
              <a:off x="7548120" y="3744360"/>
              <a:ext cx="793080" cy="649800"/>
            </a:xfrm>
            <a:prstGeom prst="straightConnector1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1490" name=""/>
            <p:cNvCxnSpPr>
              <a:stCxn id="1332" idx="6"/>
              <a:endCxn id="1491" idx="0"/>
            </p:cNvCxnSpPr>
            <p:nvPr/>
          </p:nvCxnSpPr>
          <p:spPr>
            <a:xfrm flipV="1">
              <a:off x="8030880" y="3744720"/>
              <a:ext cx="788040" cy="653040"/>
            </a:xfrm>
            <a:prstGeom prst="straightConnector1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1492" name=""/>
            <p:cNvCxnSpPr>
              <a:stCxn id="1480" idx="0"/>
              <a:endCxn id="1439" idx="2"/>
            </p:cNvCxnSpPr>
            <p:nvPr/>
          </p:nvCxnSpPr>
          <p:spPr>
            <a:xfrm flipH="1">
              <a:off x="6757560" y="4394160"/>
              <a:ext cx="791280" cy="440640"/>
            </a:xfrm>
            <a:prstGeom prst="straightConnector1">
              <a:avLst/>
            </a:prstGeom>
            <a:ln w="38160">
              <a:solidFill>
                <a:srgbClr val="0033cc"/>
              </a:solidFill>
              <a:prstDash val="sysDot"/>
              <a:miter/>
            </a:ln>
          </p:spPr>
        </p:cxnSp>
        <p:cxnSp>
          <p:nvCxnSpPr>
            <p:cNvPr id="1493" name=""/>
            <p:cNvCxnSpPr>
              <a:stCxn id="1415" idx="4"/>
              <a:endCxn id="1439" idx="4"/>
            </p:cNvCxnSpPr>
            <p:nvPr/>
          </p:nvCxnSpPr>
          <p:spPr>
            <a:xfrm>
              <a:off x="6206760" y="4930920"/>
              <a:ext cx="802440" cy="10080"/>
            </a:xfrm>
            <a:prstGeom prst="straightConnector1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1494" name=""/>
            <p:cNvCxnSpPr>
              <a:stCxn id="1415" idx="7"/>
              <a:endCxn id="1439" idx="1"/>
            </p:cNvCxnSpPr>
            <p:nvPr/>
          </p:nvCxnSpPr>
          <p:spPr>
            <a:xfrm>
              <a:off x="6376680" y="4756320"/>
              <a:ext cx="454680" cy="2160"/>
            </a:xfrm>
            <a:prstGeom prst="straightConnector1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1495" name=""/>
            <p:cNvCxnSpPr>
              <a:stCxn id="1329" idx="6"/>
              <a:endCxn id="1434" idx="0"/>
            </p:cNvCxnSpPr>
            <p:nvPr/>
          </p:nvCxnSpPr>
          <p:spPr>
            <a:xfrm flipV="1">
              <a:off x="5675400" y="4825440"/>
              <a:ext cx="770400" cy="438840"/>
            </a:xfrm>
            <a:prstGeom prst="straightConnector1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1496" name=""/>
            <p:cNvCxnSpPr>
              <a:stCxn id="1329" idx="2"/>
              <a:endCxn id="1433" idx="0"/>
            </p:cNvCxnSpPr>
            <p:nvPr/>
          </p:nvCxnSpPr>
          <p:spPr>
            <a:xfrm flipV="1">
              <a:off x="5173560" y="4825440"/>
              <a:ext cx="791280" cy="438840"/>
            </a:xfrm>
            <a:prstGeom prst="straightConnector1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1497" name=""/>
            <p:cNvCxnSpPr>
              <a:stCxn id="1439" idx="5"/>
              <a:endCxn id="1332" idx="5"/>
            </p:cNvCxnSpPr>
            <p:nvPr/>
          </p:nvCxnSpPr>
          <p:spPr>
            <a:xfrm flipV="1">
              <a:off x="7186680" y="4468320"/>
              <a:ext cx="775440" cy="440640"/>
            </a:xfrm>
            <a:prstGeom prst="straightConnector1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</p:cxnSp>
      </p:grpSp>
      <p:grpSp>
        <p:nvGrpSpPr>
          <p:cNvPr id="1498" name=""/>
          <p:cNvGrpSpPr/>
          <p:nvPr/>
        </p:nvGrpSpPr>
        <p:grpSpPr>
          <a:xfrm>
            <a:off x="5243040" y="4323960"/>
            <a:ext cx="2881440" cy="1086120"/>
            <a:chOff x="5243040" y="4323960"/>
            <a:chExt cx="2881440" cy="1086120"/>
          </a:xfrm>
        </p:grpSpPr>
        <p:cxnSp>
          <p:nvCxnSpPr>
            <p:cNvPr id="1499" name=""/>
            <p:cNvCxnSpPr>
              <a:stCxn id="1458" idx="0"/>
              <a:endCxn id="1332" idx="6"/>
            </p:cNvCxnSpPr>
            <p:nvPr/>
          </p:nvCxnSpPr>
          <p:spPr>
            <a:xfrm flipV="1">
              <a:off x="7257960" y="4397040"/>
              <a:ext cx="774000" cy="434160"/>
            </a:xfrm>
            <a:prstGeom prst="straightConnector1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1500" name=""/>
            <p:cNvCxnSpPr>
              <a:stCxn id="1338" idx="6"/>
              <a:endCxn id="1415" idx="0"/>
            </p:cNvCxnSpPr>
            <p:nvPr/>
          </p:nvCxnSpPr>
          <p:spPr>
            <a:xfrm>
              <a:off x="5654160" y="4397400"/>
              <a:ext cx="553320" cy="329040"/>
            </a:xfrm>
            <a:prstGeom prst="straightConnector1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1501" name=""/>
            <p:cNvCxnSpPr>
              <a:stCxn id="1415" idx="0"/>
              <a:endCxn id="1439" idx="0"/>
            </p:cNvCxnSpPr>
            <p:nvPr/>
          </p:nvCxnSpPr>
          <p:spPr>
            <a:xfrm>
              <a:off x="6206760" y="4725360"/>
              <a:ext cx="802440" cy="1080"/>
            </a:xfrm>
            <a:prstGeom prst="straightConnector1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1502" name=""/>
            <p:cNvCxnSpPr>
              <a:stCxn id="1415" idx="5"/>
              <a:endCxn id="1324" idx="1"/>
            </p:cNvCxnSpPr>
            <p:nvPr/>
          </p:nvCxnSpPr>
          <p:spPr>
            <a:xfrm>
              <a:off x="6376680" y="4900320"/>
              <a:ext cx="762840" cy="13320"/>
            </a:xfrm>
            <a:prstGeom prst="straightConnector1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1503" name=""/>
            <p:cNvCxnSpPr>
              <a:stCxn id="1439" idx="1"/>
              <a:endCxn id="1332" idx="1"/>
            </p:cNvCxnSpPr>
            <p:nvPr/>
          </p:nvCxnSpPr>
          <p:spPr>
            <a:xfrm flipV="1">
              <a:off x="6831000" y="4323960"/>
              <a:ext cx="789840" cy="434160"/>
            </a:xfrm>
            <a:prstGeom prst="straightConnector1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1504" name=""/>
            <p:cNvCxnSpPr>
              <a:stCxn id="1332" idx="1"/>
              <a:endCxn id="1410" idx="0"/>
            </p:cNvCxnSpPr>
            <p:nvPr/>
          </p:nvCxnSpPr>
          <p:spPr>
            <a:xfrm>
              <a:off x="7619760" y="4323960"/>
              <a:ext cx="1080" cy="1083240"/>
            </a:xfrm>
            <a:prstGeom prst="straightConnector1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1505" name=""/>
            <p:cNvCxnSpPr>
              <a:stCxn id="1327" idx="6"/>
              <a:endCxn id="1481" idx="0"/>
            </p:cNvCxnSpPr>
            <p:nvPr/>
          </p:nvCxnSpPr>
          <p:spPr>
            <a:xfrm flipH="1" flipV="1">
              <a:off x="8028720" y="4393800"/>
              <a:ext cx="96120" cy="1016640"/>
            </a:xfrm>
            <a:prstGeom prst="straightConnector1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1506" name=""/>
            <p:cNvCxnSpPr>
              <a:stCxn id="1338" idx="3"/>
              <a:endCxn id="1415" idx="3"/>
            </p:cNvCxnSpPr>
            <p:nvPr/>
          </p:nvCxnSpPr>
          <p:spPr>
            <a:xfrm>
              <a:off x="5243040" y="4468680"/>
              <a:ext cx="793080" cy="432720"/>
            </a:xfrm>
            <a:prstGeom prst="straightConnector1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</a:ln>
          </p:spPr>
        </p:cxnSp>
      </p:grpSp>
      <p:grpSp>
        <p:nvGrpSpPr>
          <p:cNvPr id="1507" name=""/>
          <p:cNvGrpSpPr/>
          <p:nvPr/>
        </p:nvGrpSpPr>
        <p:grpSpPr>
          <a:xfrm>
            <a:off x="5246640" y="3744720"/>
            <a:ext cx="3573000" cy="2746080"/>
            <a:chOff x="5246640" y="3744720"/>
            <a:chExt cx="3573000" cy="2746080"/>
          </a:xfrm>
        </p:grpSpPr>
        <p:cxnSp>
          <p:nvCxnSpPr>
            <p:cNvPr id="1508" name=""/>
            <p:cNvCxnSpPr>
              <a:stCxn id="1329" idx="7"/>
              <a:endCxn id="1486" idx="0"/>
            </p:cNvCxnSpPr>
            <p:nvPr/>
          </p:nvCxnSpPr>
          <p:spPr>
            <a:xfrm>
              <a:off x="5602320" y="5187960"/>
              <a:ext cx="2775600" cy="1122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</p:cxnSp>
        <p:cxnSp>
          <p:nvCxnSpPr>
            <p:cNvPr id="1509" name=""/>
            <p:cNvCxnSpPr>
              <a:stCxn id="1329" idx="3"/>
              <a:endCxn id="1486" idx="3"/>
            </p:cNvCxnSpPr>
            <p:nvPr/>
          </p:nvCxnSpPr>
          <p:spPr>
            <a:xfrm>
              <a:off x="5246640" y="5338440"/>
              <a:ext cx="295344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</p:cxnSp>
        <p:cxnSp>
          <p:nvCxnSpPr>
            <p:cNvPr id="1510" name=""/>
            <p:cNvCxnSpPr>
              <a:stCxn id="1511" idx="6"/>
              <a:endCxn id="1486" idx="6"/>
            </p:cNvCxnSpPr>
            <p:nvPr/>
          </p:nvCxnSpPr>
          <p:spPr>
            <a:xfrm flipH="1">
              <a:off x="8627400" y="3746160"/>
              <a:ext cx="192600" cy="2670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</p:cxnSp>
        <p:cxnSp>
          <p:nvCxnSpPr>
            <p:cNvPr id="1512" name=""/>
            <p:cNvCxnSpPr>
              <a:stCxn id="1489" idx="0"/>
              <a:endCxn id="1486" idx="2"/>
            </p:cNvCxnSpPr>
            <p:nvPr/>
          </p:nvCxnSpPr>
          <p:spPr>
            <a:xfrm flipH="1">
              <a:off x="8125920" y="3744720"/>
              <a:ext cx="215280" cy="267192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</p:cxnSp>
      </p:grpSp>
      <p:grpSp>
        <p:nvGrpSpPr>
          <p:cNvPr id="1513" name=""/>
          <p:cNvGrpSpPr/>
          <p:nvPr/>
        </p:nvGrpSpPr>
        <p:grpSpPr>
          <a:xfrm>
            <a:off x="8124840" y="6310440"/>
            <a:ext cx="502920" cy="361800"/>
            <a:chOff x="8124840" y="6310440"/>
            <a:chExt cx="502920" cy="361800"/>
          </a:xfrm>
        </p:grpSpPr>
        <p:sp>
          <p:nvSpPr>
            <p:cNvPr id="1514" name=""/>
            <p:cNvSpPr/>
            <p:nvPr/>
          </p:nvSpPr>
          <p:spPr>
            <a:xfrm>
              <a:off x="8125920" y="6460560"/>
              <a:ext cx="501840" cy="21168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124840" y="6418440"/>
              <a:ext cx="501480" cy="1501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124840" y="6418440"/>
              <a:ext cx="501480" cy="15012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125920" y="6310440"/>
              <a:ext cx="501840" cy="21168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7" name=""/>
            <p:cNvGrpSpPr/>
            <p:nvPr/>
          </p:nvGrpSpPr>
          <p:grpSpPr>
            <a:xfrm>
              <a:off x="8200800" y="6334920"/>
              <a:ext cx="348120" cy="160200"/>
              <a:chOff x="8200800" y="6334920"/>
              <a:chExt cx="348120" cy="160200"/>
            </a:xfrm>
          </p:grpSpPr>
          <p:grpSp>
            <p:nvGrpSpPr>
              <p:cNvPr id="1518" name=""/>
              <p:cNvGrpSpPr/>
              <p:nvPr/>
            </p:nvGrpSpPr>
            <p:grpSpPr>
              <a:xfrm>
                <a:off x="8200800" y="6334920"/>
                <a:ext cx="345600" cy="158040"/>
                <a:chOff x="8200800" y="6334920"/>
                <a:chExt cx="345600" cy="15804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8380800" y="6338880"/>
                  <a:ext cx="165600" cy="666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8380800" y="6338880"/>
                  <a:ext cx="165600" cy="666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200800" y="6418080"/>
                  <a:ext cx="165240" cy="7056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200800" y="6418080"/>
                  <a:ext cx="165240" cy="7056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209440" y="6334920"/>
                  <a:ext cx="165600" cy="680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209440" y="6334920"/>
                  <a:ext cx="165600" cy="6804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375040" y="6424920"/>
                  <a:ext cx="165240" cy="6804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375040" y="6424920"/>
                  <a:ext cx="165240" cy="6804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7" name=""/>
              <p:cNvGrpSpPr/>
              <p:nvPr/>
            </p:nvGrpSpPr>
            <p:grpSpPr>
              <a:xfrm>
                <a:off x="8203320" y="6338880"/>
                <a:ext cx="345600" cy="156240"/>
                <a:chOff x="8203320" y="6338880"/>
                <a:chExt cx="345600" cy="15624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8383680" y="6342840"/>
                  <a:ext cx="165240" cy="666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383680" y="6342840"/>
                  <a:ext cx="165240" cy="6660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8203320" y="6420600"/>
                  <a:ext cx="165600" cy="716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203320" y="6420600"/>
                  <a:ext cx="165600" cy="7164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212320" y="6338880"/>
                  <a:ext cx="165240" cy="6660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212320" y="6338880"/>
                  <a:ext cx="165240" cy="6660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377560" y="6428520"/>
                  <a:ext cx="165600" cy="6660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377560" y="6428520"/>
                  <a:ext cx="165600" cy="6660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5" name=""/>
            <p:cNvSpPr/>
            <p:nvPr/>
          </p:nvSpPr>
          <p:spPr>
            <a:xfrm>
              <a:off x="8124840" y="6414120"/>
              <a:ext cx="1080" cy="15012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626320" y="6414120"/>
              <a:ext cx="1440" cy="15012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8340840" y="3645000"/>
            <a:ext cx="478800" cy="347040"/>
            <a:chOff x="8340840" y="3645000"/>
            <a:chExt cx="478800" cy="347040"/>
          </a:xfrm>
        </p:grpSpPr>
        <p:sp>
          <p:nvSpPr>
            <p:cNvPr id="1485" name=""/>
            <p:cNvSpPr/>
            <p:nvPr/>
          </p:nvSpPr>
          <p:spPr>
            <a:xfrm>
              <a:off x="8341920" y="3789000"/>
              <a:ext cx="477720" cy="20304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340840" y="3748680"/>
              <a:ext cx="477360" cy="1440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340840" y="3748680"/>
              <a:ext cx="477360" cy="144000"/>
            </a:xfrm>
            <a:prstGeom prst="rect">
              <a:avLst/>
            </a:prstGeom>
            <a:solidFill>
              <a:srgbClr val="00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341920" y="3645000"/>
              <a:ext cx="477720" cy="203040"/>
            </a:xfrm>
            <a:prstGeom prst="ellipse">
              <a:avLst/>
            </a:prstGeom>
            <a:solidFill>
              <a:srgbClr val="0000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0" name=""/>
            <p:cNvGrpSpPr/>
            <p:nvPr/>
          </p:nvGrpSpPr>
          <p:grpSpPr>
            <a:xfrm>
              <a:off x="8413200" y="3668760"/>
              <a:ext cx="331560" cy="154080"/>
              <a:chOff x="8413200" y="3668760"/>
              <a:chExt cx="331560" cy="154080"/>
            </a:xfrm>
          </p:grpSpPr>
          <p:grpSp>
            <p:nvGrpSpPr>
              <p:cNvPr id="1541" name=""/>
              <p:cNvGrpSpPr/>
              <p:nvPr/>
            </p:nvGrpSpPr>
            <p:grpSpPr>
              <a:xfrm>
                <a:off x="8413200" y="3668760"/>
                <a:ext cx="329040" cy="151200"/>
                <a:chOff x="8413200" y="3668760"/>
                <a:chExt cx="329040" cy="15120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8584560" y="3672360"/>
                  <a:ext cx="157680" cy="64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584560" y="3672360"/>
                  <a:ext cx="157680" cy="64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5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413200" y="3748320"/>
                  <a:ext cx="157320" cy="676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413200" y="3748320"/>
                  <a:ext cx="157320" cy="6768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4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7" y="157"/>
                      </a:lnTo>
                      <a:lnTo>
                        <a:pt x="344" y="157"/>
                      </a:lnTo>
                      <a:lnTo>
                        <a:pt x="221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421480" y="3668760"/>
                  <a:ext cx="157680" cy="6516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421480" y="3668760"/>
                  <a:ext cx="157680" cy="6516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2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579160" y="3754800"/>
                  <a:ext cx="157320" cy="6516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579160" y="3754800"/>
                  <a:ext cx="157320" cy="65160"/>
                </a:xfrm>
                <a:custGeom>
                  <a:avLst/>
                  <a:gdLst/>
                  <a:ahLst/>
                  <a:rect l="l" t="t" r="r" b="b"/>
                  <a:pathLst>
                    <a:path w="442" h="149">
                      <a:moveTo>
                        <a:pt x="442" y="116"/>
                      </a:moveTo>
                      <a:lnTo>
                        <a:pt x="344" y="149"/>
                      </a:lnTo>
                      <a:lnTo>
                        <a:pt x="114" y="50"/>
                      </a:lnTo>
                      <a:lnTo>
                        <a:pt x="0" y="83"/>
                      </a:lnTo>
                      <a:lnTo>
                        <a:pt x="57" y="0"/>
                      </a:lnTo>
                      <a:lnTo>
                        <a:pt x="344" y="0"/>
                      </a:lnTo>
                      <a:lnTo>
                        <a:pt x="221" y="25"/>
                      </a:lnTo>
                      <a:lnTo>
                        <a:pt x="44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8415720" y="3672360"/>
                <a:ext cx="329040" cy="150480"/>
                <a:chOff x="8415720" y="3672360"/>
                <a:chExt cx="329040" cy="15048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8587440" y="3675960"/>
                  <a:ext cx="157320" cy="64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587440" y="3675960"/>
                  <a:ext cx="157320" cy="64080"/>
                </a:xfrm>
                <a:custGeom>
                  <a:avLst/>
                  <a:gdLst/>
                  <a:ahLst/>
                  <a:rect l="l" t="t" r="r" b="b"/>
                  <a:pathLst>
                    <a:path w="442" h="148">
                      <a:moveTo>
                        <a:pt x="0" y="115"/>
                      </a:moveTo>
                      <a:lnTo>
                        <a:pt x="97" y="148"/>
                      </a:lnTo>
                      <a:lnTo>
                        <a:pt x="335" y="50"/>
                      </a:lnTo>
                      <a:lnTo>
                        <a:pt x="442" y="82"/>
                      </a:lnTo>
                      <a:lnTo>
                        <a:pt x="384" y="0"/>
                      </a:lnTo>
                      <a:lnTo>
                        <a:pt x="106" y="0"/>
                      </a:lnTo>
                      <a:lnTo>
                        <a:pt x="220" y="2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415720" y="3750840"/>
                  <a:ext cx="157680" cy="6912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415720" y="3750840"/>
                  <a:ext cx="157680" cy="69120"/>
                </a:xfrm>
                <a:custGeom>
                  <a:avLst/>
                  <a:gdLst/>
                  <a:ahLst/>
                  <a:rect l="l" t="t" r="r" b="b"/>
                  <a:pathLst>
                    <a:path w="443" h="157">
                      <a:moveTo>
                        <a:pt x="443" y="33"/>
                      </a:moveTo>
                      <a:lnTo>
                        <a:pt x="345" y="0"/>
                      </a:lnTo>
                      <a:lnTo>
                        <a:pt x="115" y="99"/>
                      </a:lnTo>
                      <a:lnTo>
                        <a:pt x="0" y="66"/>
                      </a:lnTo>
                      <a:lnTo>
                        <a:pt x="58" y="157"/>
                      </a:lnTo>
                      <a:lnTo>
                        <a:pt x="345" y="157"/>
                      </a:lnTo>
                      <a:lnTo>
                        <a:pt x="222" y="124"/>
                      </a:lnTo>
                      <a:lnTo>
                        <a:pt x="443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424360" y="3672360"/>
                  <a:ext cx="157320" cy="6408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424360" y="3672360"/>
                  <a:ext cx="157320" cy="64080"/>
                </a:xfrm>
                <a:custGeom>
                  <a:avLst/>
                  <a:gdLst/>
                  <a:ahLst/>
                  <a:rect l="l" t="t" r="r" b="b"/>
                  <a:pathLst>
                    <a:path w="443" h="148">
                      <a:moveTo>
                        <a:pt x="0" y="33"/>
                      </a:moveTo>
                      <a:lnTo>
                        <a:pt x="98" y="0"/>
                      </a:lnTo>
                      <a:lnTo>
                        <a:pt x="336" y="90"/>
                      </a:lnTo>
                      <a:lnTo>
                        <a:pt x="443" y="66"/>
                      </a:lnTo>
                      <a:lnTo>
                        <a:pt x="385" y="148"/>
                      </a:lnTo>
                      <a:lnTo>
                        <a:pt x="106" y="148"/>
                      </a:lnTo>
                      <a:lnTo>
                        <a:pt x="221" y="123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581680" y="3758760"/>
                  <a:ext cx="157680" cy="6408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8581680" y="3758760"/>
                  <a:ext cx="157680" cy="64080"/>
                </a:xfrm>
                <a:custGeom>
                  <a:avLst/>
                  <a:gdLst/>
                  <a:ahLst/>
                  <a:rect l="l" t="t" r="r" b="b"/>
                  <a:pathLst>
                    <a:path w="441" h="148">
                      <a:moveTo>
                        <a:pt x="441" y="115"/>
                      </a:moveTo>
                      <a:lnTo>
                        <a:pt x="343" y="148"/>
                      </a:lnTo>
                      <a:lnTo>
                        <a:pt x="113" y="49"/>
                      </a:lnTo>
                      <a:lnTo>
                        <a:pt x="0" y="82"/>
                      </a:lnTo>
                      <a:lnTo>
                        <a:pt x="56" y="0"/>
                      </a:lnTo>
                      <a:lnTo>
                        <a:pt x="343" y="0"/>
                      </a:lnTo>
                      <a:lnTo>
                        <a:pt x="220" y="24"/>
                      </a:lnTo>
                      <a:lnTo>
                        <a:pt x="441" y="1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8" name=""/>
            <p:cNvSpPr/>
            <p:nvPr/>
          </p:nvSpPr>
          <p:spPr>
            <a:xfrm>
              <a:off x="8340840" y="3744720"/>
              <a:ext cx="1080" cy="1440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818200" y="3744720"/>
              <a:ext cx="1440" cy="1440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3429000" y="4365720"/>
            <a:ext cx="2079720" cy="537840"/>
            <a:chOff x="3429000" y="4365720"/>
            <a:chExt cx="2079720" cy="537840"/>
          </a:xfrm>
        </p:grpSpPr>
        <p:sp>
          <p:nvSpPr>
            <p:cNvPr id="1561" name=""/>
            <p:cNvSpPr/>
            <p:nvPr/>
          </p:nvSpPr>
          <p:spPr>
            <a:xfrm>
              <a:off x="3429000" y="4408560"/>
              <a:ext cx="20797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HP set up/mod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797720" y="4365720"/>
              <a:ext cx="288720" cy="215640"/>
            </a:xfrm>
            <a:prstGeom prst="rightArrow">
              <a:avLst>
                <a:gd name="adj1" fmla="val 50000"/>
                <a:gd name="adj2" fmla="val 33472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3" name=""/>
          <p:cNvSpPr/>
          <p:nvPr/>
        </p:nvSpPr>
        <p:spPr>
          <a:xfrm>
            <a:off x="7740720" y="57340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4454280" y="4580640"/>
            <a:ext cx="2082240" cy="1952640"/>
            <a:chOff x="4454280" y="4580640"/>
            <a:chExt cx="2082240" cy="1952640"/>
          </a:xfrm>
        </p:grpSpPr>
        <p:sp>
          <p:nvSpPr>
            <p:cNvPr id="1565" name=""/>
            <p:cNvSpPr/>
            <p:nvPr/>
          </p:nvSpPr>
          <p:spPr>
            <a:xfrm rot="1531800">
              <a:off x="4422240" y="5749920"/>
              <a:ext cx="214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P rerou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 rot="15519600">
              <a:off x="4474800" y="4976640"/>
              <a:ext cx="1536840" cy="888840"/>
            </a:xfrm>
            <a:custGeom>
              <a:avLst/>
              <a:gdLst>
                <a:gd name="textAreaLeft" fmla="*/ 239400 w 1536840"/>
                <a:gd name="textAreaRight" fmla="*/ 1161360 w 1536840"/>
                <a:gd name="textAreaTop" fmla="*/ 118800 h 888840"/>
                <a:gd name="textAreaBottom" fmla="*/ 77004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734" hR="21600" stAng="10800000" swAng="5400000"/>
                  <a:lnTo>
                    <a:pt x="12955" y="0"/>
                  </a:lnTo>
                  <a:arcTo wR="6734" hR="21600" stAng="-5400000" swAng="1735841"/>
                  <a:lnTo>
                    <a:pt x="20732" y="10989"/>
                  </a:lnTo>
                  <a:lnTo>
                    <a:pt x="16578" y="21600"/>
                  </a:lnTo>
                  <a:lnTo>
                    <a:pt x="10687" y="10989"/>
                  </a:lnTo>
                  <a:lnTo>
                    <a:pt x="12599" y="10989"/>
                  </a:lnTo>
                  <a:arcTo wR="6734" hR="21600" stAng="-3664159" swAng="-1182494"/>
                  <a:lnTo>
                    <a:pt x="9844" y="2443"/>
                  </a:lnTo>
                  <a:arcTo wR="6734" hR="21600" stAng="-5953347" swAng="-4846653"/>
                  <a:close/>
                </a:path>
                <a:path fill="darkenLess" w="21600" h="21600">
                  <a:moveTo>
                    <a:pt x="0" y="21600"/>
                  </a:moveTo>
                  <a:arcTo wR="6734" hR="21600" stAng="10800000" swAng="5400000"/>
                  <a:lnTo>
                    <a:pt x="6734" y="0"/>
                  </a:lnTo>
                  <a:arcTo wR="6734" hR="21600" stAng="-5400000" swAng="553347"/>
                  <a:lnTo>
                    <a:pt x="9844" y="2443"/>
                  </a:lnTo>
                  <a:arcTo wR="6734" hR="21600" stAng="-5953347" swAng="-4846653"/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34920" y="1123560"/>
            <a:ext cx="5400360" cy="2981520"/>
            <a:chOff x="34920" y="1123560"/>
            <a:chExt cx="5400360" cy="2981520"/>
          </a:xfrm>
        </p:grpSpPr>
        <p:grpSp>
          <p:nvGrpSpPr>
            <p:cNvPr id="1568" name=""/>
            <p:cNvGrpSpPr/>
            <p:nvPr/>
          </p:nvGrpSpPr>
          <p:grpSpPr>
            <a:xfrm>
              <a:off x="642960" y="1398600"/>
              <a:ext cx="4457160" cy="1812960"/>
              <a:chOff x="642960" y="1398600"/>
              <a:chExt cx="4457160" cy="1812960"/>
            </a:xfrm>
          </p:grpSpPr>
          <p:sp>
            <p:nvSpPr>
              <p:cNvPr id="1569" name=""/>
              <p:cNvSpPr/>
              <p:nvPr/>
            </p:nvSpPr>
            <p:spPr>
              <a:xfrm>
                <a:off x="642960" y="1398600"/>
                <a:ext cx="4280400" cy="1812960"/>
              </a:xfrm>
              <a:custGeom>
                <a:avLst/>
                <a:gdLst/>
                <a:ahLst/>
                <a:rect l="l" t="t" r="r" b="b"/>
                <a:pathLst>
                  <a:path w="3546" h="1528">
                    <a:moveTo>
                      <a:pt x="0" y="390"/>
                    </a:moveTo>
                    <a:lnTo>
                      <a:pt x="84" y="600"/>
                    </a:lnTo>
                    <a:lnTo>
                      <a:pt x="204" y="1110"/>
                    </a:lnTo>
                    <a:lnTo>
                      <a:pt x="282" y="1290"/>
                    </a:lnTo>
                    <a:cubicBezTo>
                      <a:pt x="310" y="1338"/>
                      <a:pt x="337" y="1373"/>
                      <a:pt x="372" y="1398"/>
                    </a:cubicBezTo>
                    <a:cubicBezTo>
                      <a:pt x="396" y="1430"/>
                      <a:pt x="459" y="1440"/>
                      <a:pt x="491" y="1440"/>
                    </a:cubicBezTo>
                    <a:cubicBezTo>
                      <a:pt x="523" y="1440"/>
                      <a:pt x="556" y="1424"/>
                      <a:pt x="588" y="1392"/>
                    </a:cubicBezTo>
                    <a:cubicBezTo>
                      <a:pt x="620" y="1360"/>
                      <a:pt x="653" y="1288"/>
                      <a:pt x="685" y="1248"/>
                    </a:cubicBezTo>
                    <a:cubicBezTo>
                      <a:pt x="717" y="1208"/>
                      <a:pt x="742" y="1176"/>
                      <a:pt x="782" y="1152"/>
                    </a:cubicBezTo>
                    <a:cubicBezTo>
                      <a:pt x="822" y="1128"/>
                      <a:pt x="879" y="1112"/>
                      <a:pt x="927" y="1104"/>
                    </a:cubicBezTo>
                    <a:cubicBezTo>
                      <a:pt x="975" y="1096"/>
                      <a:pt x="1032" y="1080"/>
                      <a:pt x="1073" y="1104"/>
                    </a:cubicBezTo>
                    <a:cubicBezTo>
                      <a:pt x="1114" y="1128"/>
                      <a:pt x="1130" y="1216"/>
                      <a:pt x="1170" y="1248"/>
                    </a:cubicBezTo>
                    <a:cubicBezTo>
                      <a:pt x="1210" y="1280"/>
                      <a:pt x="1267" y="1296"/>
                      <a:pt x="1315" y="1296"/>
                    </a:cubicBezTo>
                    <a:cubicBezTo>
                      <a:pt x="1363" y="1296"/>
                      <a:pt x="1412" y="1272"/>
                      <a:pt x="1461" y="1248"/>
                    </a:cubicBezTo>
                    <a:cubicBezTo>
                      <a:pt x="1510" y="1224"/>
                      <a:pt x="1574" y="1184"/>
                      <a:pt x="1606" y="1152"/>
                    </a:cubicBezTo>
                    <a:cubicBezTo>
                      <a:pt x="1638" y="1120"/>
                      <a:pt x="1631" y="1104"/>
                      <a:pt x="1655" y="1056"/>
                    </a:cubicBezTo>
                    <a:cubicBezTo>
                      <a:pt x="1679" y="1008"/>
                      <a:pt x="1712" y="936"/>
                      <a:pt x="1752" y="864"/>
                    </a:cubicBezTo>
                    <a:cubicBezTo>
                      <a:pt x="1792" y="792"/>
                      <a:pt x="1837" y="641"/>
                      <a:pt x="1897" y="624"/>
                    </a:cubicBezTo>
                    <a:cubicBezTo>
                      <a:pt x="1945" y="616"/>
                      <a:pt x="2080" y="698"/>
                      <a:pt x="2112" y="762"/>
                    </a:cubicBezTo>
                    <a:cubicBezTo>
                      <a:pt x="2144" y="826"/>
                      <a:pt x="2153" y="899"/>
                      <a:pt x="2214" y="972"/>
                    </a:cubicBezTo>
                    <a:cubicBezTo>
                      <a:pt x="2275" y="1045"/>
                      <a:pt x="2378" y="1186"/>
                      <a:pt x="2479" y="1200"/>
                    </a:cubicBezTo>
                    <a:cubicBezTo>
                      <a:pt x="2580" y="1214"/>
                      <a:pt x="2754" y="1112"/>
                      <a:pt x="2819" y="1056"/>
                    </a:cubicBezTo>
                    <a:cubicBezTo>
                      <a:pt x="2884" y="1000"/>
                      <a:pt x="2868" y="910"/>
                      <a:pt x="2892" y="870"/>
                    </a:cubicBezTo>
                    <a:cubicBezTo>
                      <a:pt x="2916" y="830"/>
                      <a:pt x="2928" y="817"/>
                      <a:pt x="2964" y="816"/>
                    </a:cubicBezTo>
                    <a:cubicBezTo>
                      <a:pt x="3000" y="815"/>
                      <a:pt x="3078" y="840"/>
                      <a:pt x="3110" y="864"/>
                    </a:cubicBezTo>
                    <a:cubicBezTo>
                      <a:pt x="3142" y="888"/>
                      <a:pt x="3134" y="920"/>
                      <a:pt x="3158" y="960"/>
                    </a:cubicBezTo>
                    <a:cubicBezTo>
                      <a:pt x="3182" y="1000"/>
                      <a:pt x="3223" y="1064"/>
                      <a:pt x="3255" y="1104"/>
                    </a:cubicBezTo>
                    <a:cubicBezTo>
                      <a:pt x="3287" y="1144"/>
                      <a:pt x="3306" y="1164"/>
                      <a:pt x="3330" y="1212"/>
                    </a:cubicBezTo>
                    <a:cubicBezTo>
                      <a:pt x="3354" y="1260"/>
                      <a:pt x="3369" y="1376"/>
                      <a:pt x="3401" y="1392"/>
                    </a:cubicBezTo>
                    <a:cubicBezTo>
                      <a:pt x="3433" y="1408"/>
                      <a:pt x="3522" y="1528"/>
                      <a:pt x="3546" y="1296"/>
                    </a:cubicBezTo>
                    <a:lnTo>
                      <a:pt x="3546" y="0"/>
                    </a:lnTo>
                    <a:lnTo>
                      <a:pt x="6" y="0"/>
                    </a:lnTo>
                    <a:lnTo>
                      <a:pt x="0" y="390"/>
                    </a:lnTo>
                    <a:close/>
                  </a:path>
                </a:pathLst>
              </a:custGeom>
              <a:solidFill>
                <a:srgbClr val="f5e1e1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010520" y="3117240"/>
                <a:ext cx="52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004120" y="2921760"/>
                <a:ext cx="52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492360" y="2818800"/>
                <a:ext cx="52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661640" y="3107160"/>
                <a:ext cx="43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54120" y="2535120"/>
              <a:ext cx="4305240" cy="1409760"/>
              <a:chOff x="654120" y="2535120"/>
              <a:chExt cx="4305240" cy="1409760"/>
            </a:xfrm>
          </p:grpSpPr>
          <p:sp>
            <p:nvSpPr>
              <p:cNvPr id="1575" name=""/>
              <p:cNvSpPr/>
              <p:nvPr/>
            </p:nvSpPr>
            <p:spPr>
              <a:xfrm>
                <a:off x="654120" y="2635200"/>
                <a:ext cx="4305240" cy="1309680"/>
              </a:xfrm>
              <a:custGeom>
                <a:avLst/>
                <a:gdLst/>
                <a:ahLst/>
                <a:rect l="l" t="t" r="r" b="b"/>
                <a:pathLst>
                  <a:path w="3566" h="1470">
                    <a:moveTo>
                      <a:pt x="0" y="1194"/>
                    </a:moveTo>
                    <a:cubicBezTo>
                      <a:pt x="33" y="1127"/>
                      <a:pt x="149" y="1106"/>
                      <a:pt x="198" y="1068"/>
                    </a:cubicBezTo>
                    <a:cubicBezTo>
                      <a:pt x="246" y="1012"/>
                      <a:pt x="204" y="1056"/>
                      <a:pt x="294" y="966"/>
                    </a:cubicBezTo>
                    <a:cubicBezTo>
                      <a:pt x="384" y="876"/>
                      <a:pt x="420" y="902"/>
                      <a:pt x="485" y="798"/>
                    </a:cubicBezTo>
                    <a:lnTo>
                      <a:pt x="679" y="462"/>
                    </a:lnTo>
                    <a:cubicBezTo>
                      <a:pt x="736" y="366"/>
                      <a:pt x="757" y="299"/>
                      <a:pt x="824" y="222"/>
                    </a:cubicBezTo>
                    <a:cubicBezTo>
                      <a:pt x="889" y="174"/>
                      <a:pt x="1007" y="8"/>
                      <a:pt x="1080" y="0"/>
                    </a:cubicBezTo>
                    <a:lnTo>
                      <a:pt x="1266" y="0"/>
                    </a:lnTo>
                    <a:lnTo>
                      <a:pt x="1416" y="0"/>
                    </a:lnTo>
                    <a:cubicBezTo>
                      <a:pt x="1466" y="35"/>
                      <a:pt x="1534" y="186"/>
                      <a:pt x="1566" y="210"/>
                    </a:cubicBezTo>
                    <a:cubicBezTo>
                      <a:pt x="1613" y="252"/>
                      <a:pt x="1645" y="196"/>
                      <a:pt x="1698" y="252"/>
                    </a:cubicBezTo>
                    <a:cubicBezTo>
                      <a:pt x="1751" y="308"/>
                      <a:pt x="1834" y="496"/>
                      <a:pt x="1884" y="546"/>
                    </a:cubicBezTo>
                    <a:cubicBezTo>
                      <a:pt x="1934" y="596"/>
                      <a:pt x="1950" y="552"/>
                      <a:pt x="1998" y="552"/>
                    </a:cubicBezTo>
                    <a:cubicBezTo>
                      <a:pt x="2039" y="554"/>
                      <a:pt x="2086" y="594"/>
                      <a:pt x="2130" y="558"/>
                    </a:cubicBezTo>
                    <a:cubicBezTo>
                      <a:pt x="2174" y="522"/>
                      <a:pt x="2211" y="405"/>
                      <a:pt x="2262" y="336"/>
                    </a:cubicBezTo>
                    <a:cubicBezTo>
                      <a:pt x="2313" y="267"/>
                      <a:pt x="2374" y="176"/>
                      <a:pt x="2436" y="144"/>
                    </a:cubicBezTo>
                    <a:lnTo>
                      <a:pt x="2634" y="144"/>
                    </a:lnTo>
                    <a:cubicBezTo>
                      <a:pt x="2684" y="149"/>
                      <a:pt x="2702" y="169"/>
                      <a:pt x="2736" y="174"/>
                    </a:cubicBezTo>
                    <a:cubicBezTo>
                      <a:pt x="2770" y="179"/>
                      <a:pt x="2797" y="150"/>
                      <a:pt x="2838" y="174"/>
                    </a:cubicBezTo>
                    <a:cubicBezTo>
                      <a:pt x="2879" y="198"/>
                      <a:pt x="2943" y="271"/>
                      <a:pt x="2982" y="318"/>
                    </a:cubicBezTo>
                    <a:cubicBezTo>
                      <a:pt x="3031" y="342"/>
                      <a:pt x="3012" y="438"/>
                      <a:pt x="3072" y="456"/>
                    </a:cubicBezTo>
                    <a:cubicBezTo>
                      <a:pt x="3132" y="474"/>
                      <a:pt x="3293" y="378"/>
                      <a:pt x="3342" y="426"/>
                    </a:cubicBezTo>
                    <a:cubicBezTo>
                      <a:pt x="3391" y="474"/>
                      <a:pt x="3383" y="546"/>
                      <a:pt x="3432" y="594"/>
                    </a:cubicBezTo>
                    <a:cubicBezTo>
                      <a:pt x="3481" y="642"/>
                      <a:pt x="3502" y="726"/>
                      <a:pt x="3534" y="750"/>
                    </a:cubicBezTo>
                    <a:cubicBezTo>
                      <a:pt x="3566" y="774"/>
                      <a:pt x="3540" y="678"/>
                      <a:pt x="3540" y="798"/>
                    </a:cubicBezTo>
                    <a:lnTo>
                      <a:pt x="3540" y="1470"/>
                    </a:lnTo>
                    <a:lnTo>
                      <a:pt x="0" y="1470"/>
                    </a:lnTo>
                    <a:lnTo>
                      <a:pt x="0" y="1194"/>
                    </a:lnTo>
                    <a:close/>
                  </a:path>
                </a:pathLst>
              </a:custGeom>
              <a:solidFill>
                <a:srgbClr val="ffff99">
                  <a:alpha val="65000"/>
                </a:srgbClr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6" name=""/>
              <p:cNvGrpSpPr/>
              <p:nvPr/>
            </p:nvGrpSpPr>
            <p:grpSpPr>
              <a:xfrm>
                <a:off x="1654200" y="2535120"/>
                <a:ext cx="2346120" cy="415800"/>
                <a:chOff x="1654200" y="2535120"/>
                <a:chExt cx="2346120" cy="415800"/>
              </a:xfrm>
            </p:grpSpPr>
            <p:sp>
              <p:nvSpPr>
                <p:cNvPr id="1577" name=""/>
                <p:cNvSpPr/>
                <p:nvPr/>
              </p:nvSpPr>
              <p:spPr>
                <a:xfrm>
                  <a:off x="1654200" y="2535120"/>
                  <a:ext cx="994320" cy="415800"/>
                </a:xfrm>
                <a:prstGeom prst="ellipse">
                  <a:avLst/>
                </a:prstGeom>
                <a:solidFill>
                  <a:srgbClr val="ffff99">
                    <a:alpha val="49000"/>
                  </a:srgbClr>
                </a:solidFill>
                <a:ln w="284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3453120" y="2603520"/>
                  <a:ext cx="547200" cy="299520"/>
                </a:xfrm>
                <a:prstGeom prst="ellipse">
                  <a:avLst/>
                </a:prstGeom>
                <a:solidFill>
                  <a:srgbClr val="ffff99">
                    <a:alpha val="49000"/>
                  </a:srgbClr>
                </a:solidFill>
                <a:ln w="2844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9" name=""/>
            <p:cNvSpPr/>
            <p:nvPr/>
          </p:nvSpPr>
          <p:spPr>
            <a:xfrm rot="16200000">
              <a:off x="-1231920" y="2390760"/>
              <a:ext cx="28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ercentage of BW for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7640" y="3763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045080" y="2225520"/>
              <a:ext cx="25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hreshold for HP traff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69960" y="2616120"/>
              <a:ext cx="427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3" name=""/>
            <p:cNvGrpSpPr/>
            <p:nvPr/>
          </p:nvGrpSpPr>
          <p:grpSpPr>
            <a:xfrm>
              <a:off x="695160" y="1295280"/>
              <a:ext cx="3422520" cy="1199880"/>
              <a:chOff x="695160" y="1295280"/>
              <a:chExt cx="3422520" cy="1199880"/>
            </a:xfrm>
          </p:grpSpPr>
          <p:sp>
            <p:nvSpPr>
              <p:cNvPr id="1584" name=""/>
              <p:cNvSpPr/>
              <p:nvPr/>
            </p:nvSpPr>
            <p:spPr>
              <a:xfrm>
                <a:off x="695160" y="1295280"/>
                <a:ext cx="114840" cy="1199880"/>
              </a:xfrm>
              <a:custGeom>
                <a:avLst/>
                <a:gdLst>
                  <a:gd name="textAreaLeft" fmla="*/ 0 w 114840"/>
                  <a:gd name="textAreaRight" fmla="*/ 41400 w 114840"/>
                  <a:gd name="textAreaTop" fmla="*/ 30960 h 1199880"/>
                  <a:gd name="textAreaBottom" fmla="*/ 1168920 h 119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73640" y="1747080"/>
                <a:ext cx="33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Minimum BW for LP traff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6" name=""/>
            <p:cNvGrpSpPr/>
            <p:nvPr/>
          </p:nvGrpSpPr>
          <p:grpSpPr>
            <a:xfrm>
              <a:off x="533520" y="3924360"/>
              <a:ext cx="4901760" cy="47520"/>
              <a:chOff x="533520" y="3924360"/>
              <a:chExt cx="4901760" cy="47520"/>
            </a:xfrm>
          </p:grpSpPr>
          <p:sp>
            <p:nvSpPr>
              <p:cNvPr id="1587" name=""/>
              <p:cNvSpPr/>
              <p:nvPr/>
            </p:nvSpPr>
            <p:spPr>
              <a:xfrm>
                <a:off x="533520" y="3947400"/>
                <a:ext cx="48265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57520" y="392436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118" h="120">
                    <a:moveTo>
                      <a:pt x="0" y="120"/>
                    </a:moveTo>
                    <a:lnTo>
                      <a:pt x="118" y="59"/>
                    </a:lnTo>
                    <a:lnTo>
                      <a:pt x="0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625320" y="1254240"/>
              <a:ext cx="59040" cy="2692080"/>
              <a:chOff x="625320" y="1254240"/>
              <a:chExt cx="59040" cy="2692080"/>
            </a:xfrm>
          </p:grpSpPr>
          <p:sp>
            <p:nvSpPr>
              <p:cNvPr id="1590" name=""/>
              <p:cNvSpPr/>
              <p:nvPr/>
            </p:nvSpPr>
            <p:spPr>
              <a:xfrm flipV="1">
                <a:off x="654120" y="1319400"/>
                <a:ext cx="720" cy="262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25320" y="1254240"/>
                <a:ext cx="59040" cy="6876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59" y="0"/>
                    </a:lnTo>
                    <a:lnTo>
                      <a:pt x="0" y="12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2" name=""/>
            <p:cNvSpPr/>
            <p:nvPr/>
          </p:nvSpPr>
          <p:spPr>
            <a:xfrm>
              <a:off x="360360" y="306864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60360" y="1933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71080" y="13334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0360" y="25257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96880" y="3171960"/>
              <a:ext cx="54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93640" y="2604960"/>
              <a:ext cx="55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93640" y="2011320"/>
              <a:ext cx="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92200" y="1401840"/>
              <a:ext cx="55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0" name=""/>
            <p:cNvGrpSpPr/>
            <p:nvPr/>
          </p:nvGrpSpPr>
          <p:grpSpPr>
            <a:xfrm>
              <a:off x="647640" y="1378080"/>
              <a:ext cx="4701960" cy="48960"/>
              <a:chOff x="647640" y="1378080"/>
              <a:chExt cx="4701960" cy="48960"/>
            </a:xfrm>
          </p:grpSpPr>
          <p:sp>
            <p:nvSpPr>
              <p:cNvPr id="1601" name=""/>
              <p:cNvSpPr/>
              <p:nvPr/>
            </p:nvSpPr>
            <p:spPr>
              <a:xfrm>
                <a:off x="647640" y="1401480"/>
                <a:ext cx="462996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75080" y="1378080"/>
                <a:ext cx="74520" cy="48960"/>
              </a:xfrm>
              <a:custGeom>
                <a:avLst/>
                <a:gdLst/>
                <a:ahLst/>
                <a:rect l="l" t="t" r="r" b="b"/>
                <a:pathLst>
                  <a:path w="118" h="120">
                    <a:moveTo>
                      <a:pt x="0" y="120"/>
                    </a:moveTo>
                    <a:lnTo>
                      <a:pt x="118" y="59"/>
                    </a:lnTo>
                    <a:lnTo>
                      <a:pt x="0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058720" y="1413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031000" y="198756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031000" y="31734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024160" y="37209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040360" y="26208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954680" y="3301920"/>
              <a:ext cx="5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40280" y="2730600"/>
              <a:ext cx="55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946760" y="2122560"/>
              <a:ext cx="5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395280" y="2622240"/>
              <a:ext cx="3557520" cy="1294920"/>
              <a:chOff x="395280" y="2622240"/>
              <a:chExt cx="3557520" cy="1294920"/>
            </a:xfrm>
          </p:grpSpPr>
          <p:sp>
            <p:nvSpPr>
              <p:cNvPr id="1612" name=""/>
              <p:cNvSpPr/>
              <p:nvPr/>
            </p:nvSpPr>
            <p:spPr>
              <a:xfrm rot="10800000">
                <a:off x="719640" y="2622240"/>
                <a:ext cx="181080" cy="1294920"/>
              </a:xfrm>
              <a:custGeom>
                <a:avLst/>
                <a:gdLst>
                  <a:gd name="textAreaLeft" fmla="*/ 115920 w 181080"/>
                  <a:gd name="textAreaRight" fmla="*/ 181440 w 181080"/>
                  <a:gd name="textAreaTop" fmla="*/ 33480 h 1294920"/>
                  <a:gd name="textAreaBottom" fmla="*/ 1261440 h 129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95280" y="3095280"/>
                <a:ext cx="355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BW for HP traff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4" name=""/>
            <p:cNvSpPr/>
            <p:nvPr/>
          </p:nvSpPr>
          <p:spPr>
            <a:xfrm>
              <a:off x="4321440" y="3689280"/>
              <a:ext cx="48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5" name=""/>
            <p:cNvGrpSpPr/>
            <p:nvPr/>
          </p:nvGrpSpPr>
          <p:grpSpPr>
            <a:xfrm>
              <a:off x="4903920" y="1413000"/>
              <a:ext cx="58680" cy="2692080"/>
              <a:chOff x="4903920" y="1413000"/>
              <a:chExt cx="58680" cy="2692080"/>
            </a:xfrm>
          </p:grpSpPr>
          <p:sp>
            <p:nvSpPr>
              <p:cNvPr id="1616" name=""/>
              <p:cNvSpPr/>
              <p:nvPr/>
            </p:nvSpPr>
            <p:spPr>
              <a:xfrm>
                <a:off x="4932720" y="1413000"/>
                <a:ext cx="720" cy="262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V="1">
                <a:off x="4903920" y="4035960"/>
                <a:ext cx="58680" cy="6876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59" y="0"/>
                    </a:lnTo>
                    <a:lnTo>
                      <a:pt x="0" y="12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8" name=""/>
          <p:cNvSpPr/>
          <p:nvPr/>
        </p:nvSpPr>
        <p:spPr>
          <a:xfrm>
            <a:off x="546120" y="4356000"/>
            <a:ext cx="27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749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4902"/>
                </a:solidFill>
                <a:latin typeface="Times New Roman"/>
              </a:rPr>
              <a:t>HP set up/modify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71680" y="499896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7490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4902"/>
                </a:solidFill>
                <a:latin typeface="Times New Roman"/>
              </a:rPr>
              <a:t>BE makes free the requested BW by means LP LSP preemption and rero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285960" y="14349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870840" y="955800"/>
            <a:ext cx="73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Bandwidth Engineering key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82680" y="2238480"/>
            <a:ext cx="73166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9b8"/>
                </a:solidFill>
                <a:latin typeface="Arial"/>
              </a:rPr>
              <a:t>Different selection criteria for LSPs to be preemp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considering the LP preemption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inimize the number of LSPs to inv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inimize the amount of bandwidth to inv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59b8"/>
                </a:solidFill>
                <a:latin typeface="Arial"/>
              </a:rPr>
              <a:t>Efficient dynamic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490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aximize the rerouting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/>
          </p:nvPr>
        </p:nvSpPr>
        <p:spPr>
          <a:xfrm>
            <a:off x="533520" y="4191120"/>
            <a:ext cx="8229600" cy="180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Times New Roman"/>
              </a:rPr>
              <a:t>8 node network, 12 bi-directional links, 16 channels (2.5Gbp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Times New Roman"/>
              </a:rPr>
              <a:t>Each node is L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Times New Roman"/>
              </a:rPr>
              <a:t>LSP bandwidth uniform in [0,500] Mbp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Times New Roman"/>
              </a:rPr>
              <a:t>Poisson distribution with mean of λ connections requests for unit time, mean connections holding time 1/μ=200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Times New Roman"/>
              </a:rPr>
              <a:t>= percentage of HP traffic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title"/>
          </p:nvPr>
        </p:nvSpPr>
        <p:spPr>
          <a:xfrm>
            <a:off x="558720" y="75528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33"/>
                </a:solidFill>
                <a:latin typeface="Arial"/>
                <a:ea typeface="Times New Roman"/>
              </a:rPr>
              <a:t>Simulation Hypotheses</a:t>
            </a:r>
            <a:endParaRPr b="1" lang="en-US" sz="3400" spc="-1" strike="noStrike">
              <a:solidFill>
                <a:srgbClr val="ff9933"/>
              </a:solidFill>
              <a:latin typeface="Arial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2382840" y="1968480"/>
            <a:ext cx="4320720" cy="1800000"/>
            <a:chOff x="2382840" y="1968480"/>
            <a:chExt cx="4320720" cy="1800000"/>
          </a:xfrm>
        </p:grpSpPr>
        <p:sp>
          <p:nvSpPr>
            <p:cNvPr id="1626" name=""/>
            <p:cNvSpPr/>
            <p:nvPr/>
          </p:nvSpPr>
          <p:spPr>
            <a:xfrm flipH="1">
              <a:off x="5567400" y="2857680"/>
              <a:ext cx="819360" cy="7063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75360" y="2967120"/>
              <a:ext cx="1009440" cy="496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57680" y="2992320"/>
              <a:ext cx="546120" cy="419400"/>
            </a:xfrm>
            <a:prstGeom prst="line">
              <a:avLst/>
            </a:prstGeom>
            <a:ln w="442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336120" y="2245320"/>
              <a:ext cx="1332000" cy="500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5621040" y="2928960"/>
              <a:ext cx="5475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 flipV="1">
              <a:off x="4895280" y="2308680"/>
              <a:ext cx="1369080" cy="5090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802760" y="2354760"/>
              <a:ext cx="649440" cy="5022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4357800" y="2925720"/>
              <a:ext cx="1054080" cy="50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559320" y="3533760"/>
              <a:ext cx="172548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2873160" y="2913120"/>
              <a:ext cx="1190520" cy="9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773080" y="2241720"/>
              <a:ext cx="547560" cy="595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4176360" y="2352240"/>
              <a:ext cx="531360" cy="4996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4399200" y="2041560"/>
              <a:ext cx="720360" cy="431640"/>
              <a:chOff x="4399200" y="2041560"/>
              <a:chExt cx="720360" cy="431640"/>
            </a:xfrm>
          </p:grpSpPr>
          <p:sp>
            <p:nvSpPr>
              <p:cNvPr id="1639" name=""/>
              <p:cNvSpPr/>
              <p:nvPr/>
            </p:nvSpPr>
            <p:spPr>
              <a:xfrm>
                <a:off x="4401000" y="222048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399200" y="2170440"/>
                <a:ext cx="717840" cy="1789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399200" y="2170440"/>
                <a:ext cx="717840" cy="178920"/>
              </a:xfrm>
              <a:prstGeom prst="rect">
                <a:avLst/>
              </a:prstGeom>
              <a:solidFill>
                <a:srgbClr val="0000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401000" y="204156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3" name=""/>
              <p:cNvGrpSpPr/>
              <p:nvPr/>
            </p:nvGrpSpPr>
            <p:grpSpPr>
              <a:xfrm>
                <a:off x="4508280" y="2071080"/>
                <a:ext cx="498600" cy="191160"/>
                <a:chOff x="4508280" y="2071080"/>
                <a:chExt cx="498600" cy="191160"/>
              </a:xfrm>
            </p:grpSpPr>
            <p:grpSp>
              <p:nvGrpSpPr>
                <p:cNvPr id="1644" name=""/>
                <p:cNvGrpSpPr/>
                <p:nvPr/>
              </p:nvGrpSpPr>
              <p:grpSpPr>
                <a:xfrm>
                  <a:off x="4508280" y="2071080"/>
                  <a:ext cx="494640" cy="187920"/>
                  <a:chOff x="4508280" y="2071080"/>
                  <a:chExt cx="494640" cy="187920"/>
                </a:xfrm>
              </p:grpSpPr>
              <p:sp>
                <p:nvSpPr>
                  <p:cNvPr id="1645" name=""/>
                  <p:cNvSpPr/>
                  <p:nvPr/>
                </p:nvSpPr>
                <p:spPr>
                  <a:xfrm>
                    <a:off x="4766040" y="207576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4766040" y="207576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4508280" y="217008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4508280" y="217008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4520520" y="207108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4520520" y="207108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4757760" y="217800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4757760" y="217800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3" name=""/>
                <p:cNvGrpSpPr/>
                <p:nvPr/>
              </p:nvGrpSpPr>
              <p:grpSpPr>
                <a:xfrm>
                  <a:off x="4511880" y="2075760"/>
                  <a:ext cx="495000" cy="186480"/>
                  <a:chOff x="4511880" y="2075760"/>
                  <a:chExt cx="495000" cy="186480"/>
                </a:xfrm>
              </p:grpSpPr>
              <p:sp>
                <p:nvSpPr>
                  <p:cNvPr id="1654" name=""/>
                  <p:cNvSpPr/>
                  <p:nvPr/>
                </p:nvSpPr>
                <p:spPr>
                  <a:xfrm>
                    <a:off x="4770360" y="208044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4770360" y="208044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4511880" y="217332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4511880" y="217332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4524840" y="207576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4524840" y="207576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4761360" y="218268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4761360" y="218268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2" name=""/>
              <p:cNvSpPr/>
              <p:nvPr/>
            </p:nvSpPr>
            <p:spPr>
              <a:xfrm>
                <a:off x="4399200" y="2165400"/>
                <a:ext cx="180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117040" y="2165400"/>
                <a:ext cx="216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3175200" y="3265560"/>
              <a:ext cx="720360" cy="431280"/>
              <a:chOff x="3175200" y="3265560"/>
              <a:chExt cx="720360" cy="431280"/>
            </a:xfrm>
          </p:grpSpPr>
          <p:sp>
            <p:nvSpPr>
              <p:cNvPr id="1665" name=""/>
              <p:cNvSpPr/>
              <p:nvPr/>
            </p:nvSpPr>
            <p:spPr>
              <a:xfrm>
                <a:off x="3177000" y="3444480"/>
                <a:ext cx="718560" cy="25236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175200" y="3394080"/>
                <a:ext cx="717840" cy="1789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175200" y="3394080"/>
                <a:ext cx="717840" cy="178920"/>
              </a:xfrm>
              <a:prstGeom prst="rect">
                <a:avLst/>
              </a:prstGeom>
              <a:solidFill>
                <a:srgbClr val="0000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177000" y="3265560"/>
                <a:ext cx="718560" cy="25236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9" name=""/>
              <p:cNvGrpSpPr/>
              <p:nvPr/>
            </p:nvGrpSpPr>
            <p:grpSpPr>
              <a:xfrm>
                <a:off x="3284280" y="3295080"/>
                <a:ext cx="498600" cy="191160"/>
                <a:chOff x="3284280" y="3295080"/>
                <a:chExt cx="498600" cy="191160"/>
              </a:xfrm>
            </p:grpSpPr>
            <p:grpSp>
              <p:nvGrpSpPr>
                <p:cNvPr id="1670" name=""/>
                <p:cNvGrpSpPr/>
                <p:nvPr/>
              </p:nvGrpSpPr>
              <p:grpSpPr>
                <a:xfrm>
                  <a:off x="3284280" y="3295080"/>
                  <a:ext cx="494640" cy="187920"/>
                  <a:chOff x="3284280" y="3295080"/>
                  <a:chExt cx="494640" cy="18792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>
                    <a:off x="3542040" y="329976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3542040" y="329976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3284280" y="339408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3284280" y="339408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3296520" y="329508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3296520" y="329508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3533760" y="340200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3533760" y="340200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3287880" y="3299760"/>
                  <a:ext cx="495000" cy="186480"/>
                  <a:chOff x="3287880" y="3299760"/>
                  <a:chExt cx="495000" cy="18648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>
                    <a:off x="3546360" y="330444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3546360" y="330444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3287880" y="339732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287880" y="339732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3300840" y="329976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3300840" y="329976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3537360" y="340668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537360" y="340668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8" name=""/>
              <p:cNvSpPr/>
              <p:nvPr/>
            </p:nvSpPr>
            <p:spPr>
              <a:xfrm>
                <a:off x="3175200" y="3389400"/>
                <a:ext cx="180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893040" y="3389400"/>
                <a:ext cx="216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"/>
            <p:cNvGrpSpPr/>
            <p:nvPr/>
          </p:nvGrpSpPr>
          <p:grpSpPr>
            <a:xfrm>
              <a:off x="5118120" y="3336840"/>
              <a:ext cx="720360" cy="431640"/>
              <a:chOff x="5118120" y="3336840"/>
              <a:chExt cx="720360" cy="431640"/>
            </a:xfrm>
          </p:grpSpPr>
          <p:sp>
            <p:nvSpPr>
              <p:cNvPr id="1691" name=""/>
              <p:cNvSpPr/>
              <p:nvPr/>
            </p:nvSpPr>
            <p:spPr>
              <a:xfrm>
                <a:off x="5119920" y="351576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118120" y="3465720"/>
                <a:ext cx="717840" cy="1789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118120" y="3465720"/>
                <a:ext cx="717840" cy="178920"/>
              </a:xfrm>
              <a:prstGeom prst="rect">
                <a:avLst/>
              </a:prstGeom>
              <a:solidFill>
                <a:srgbClr val="0000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119920" y="333684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5" name=""/>
              <p:cNvGrpSpPr/>
              <p:nvPr/>
            </p:nvGrpSpPr>
            <p:grpSpPr>
              <a:xfrm>
                <a:off x="5227200" y="3366360"/>
                <a:ext cx="498600" cy="191160"/>
                <a:chOff x="5227200" y="3366360"/>
                <a:chExt cx="498600" cy="191160"/>
              </a:xfrm>
            </p:grpSpPr>
            <p:grpSp>
              <p:nvGrpSpPr>
                <p:cNvPr id="1696" name=""/>
                <p:cNvGrpSpPr/>
                <p:nvPr/>
              </p:nvGrpSpPr>
              <p:grpSpPr>
                <a:xfrm>
                  <a:off x="5227200" y="3366360"/>
                  <a:ext cx="494640" cy="187920"/>
                  <a:chOff x="5227200" y="3366360"/>
                  <a:chExt cx="494640" cy="187920"/>
                </a:xfrm>
              </p:grpSpPr>
              <p:sp>
                <p:nvSpPr>
                  <p:cNvPr id="1697" name=""/>
                  <p:cNvSpPr/>
                  <p:nvPr/>
                </p:nvSpPr>
                <p:spPr>
                  <a:xfrm>
                    <a:off x="5484960" y="337104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5484960" y="337104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5227200" y="346536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5227200" y="346536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5239440" y="336636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5239440" y="336636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5476680" y="347328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5476680" y="347328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5" name=""/>
                <p:cNvGrpSpPr/>
                <p:nvPr/>
              </p:nvGrpSpPr>
              <p:grpSpPr>
                <a:xfrm>
                  <a:off x="5230800" y="3371040"/>
                  <a:ext cx="495000" cy="186480"/>
                  <a:chOff x="5230800" y="3371040"/>
                  <a:chExt cx="495000" cy="186480"/>
                </a:xfrm>
              </p:grpSpPr>
              <p:sp>
                <p:nvSpPr>
                  <p:cNvPr id="1706" name=""/>
                  <p:cNvSpPr/>
                  <p:nvPr/>
                </p:nvSpPr>
                <p:spPr>
                  <a:xfrm>
                    <a:off x="5489280" y="337572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5489280" y="337572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5230800" y="346860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5230800" y="346860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5243760" y="337104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5243760" y="337104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5480280" y="347796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5480280" y="347796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14" name=""/>
              <p:cNvSpPr/>
              <p:nvPr/>
            </p:nvSpPr>
            <p:spPr>
              <a:xfrm>
                <a:off x="5118120" y="3460680"/>
                <a:ext cx="180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835960" y="3460680"/>
                <a:ext cx="216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6" name=""/>
            <p:cNvGrpSpPr/>
            <p:nvPr/>
          </p:nvGrpSpPr>
          <p:grpSpPr>
            <a:xfrm>
              <a:off x="3894120" y="2689200"/>
              <a:ext cx="720360" cy="431640"/>
              <a:chOff x="3894120" y="2689200"/>
              <a:chExt cx="720360" cy="431640"/>
            </a:xfrm>
          </p:grpSpPr>
          <p:sp>
            <p:nvSpPr>
              <p:cNvPr id="1717" name=""/>
              <p:cNvSpPr/>
              <p:nvPr/>
            </p:nvSpPr>
            <p:spPr>
              <a:xfrm>
                <a:off x="3895920" y="286812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894120" y="2818080"/>
                <a:ext cx="717840" cy="1789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894120" y="2818080"/>
                <a:ext cx="717840" cy="178920"/>
              </a:xfrm>
              <a:prstGeom prst="rect">
                <a:avLst/>
              </a:prstGeom>
              <a:solidFill>
                <a:srgbClr val="0000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895920" y="268920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1" name=""/>
              <p:cNvGrpSpPr/>
              <p:nvPr/>
            </p:nvGrpSpPr>
            <p:grpSpPr>
              <a:xfrm>
                <a:off x="4003200" y="2718720"/>
                <a:ext cx="498600" cy="191160"/>
                <a:chOff x="4003200" y="2718720"/>
                <a:chExt cx="498600" cy="191160"/>
              </a:xfrm>
            </p:grpSpPr>
            <p:grpSp>
              <p:nvGrpSpPr>
                <p:cNvPr id="1722" name=""/>
                <p:cNvGrpSpPr/>
                <p:nvPr/>
              </p:nvGrpSpPr>
              <p:grpSpPr>
                <a:xfrm>
                  <a:off x="4003200" y="2718720"/>
                  <a:ext cx="494640" cy="187920"/>
                  <a:chOff x="4003200" y="2718720"/>
                  <a:chExt cx="494640" cy="187920"/>
                </a:xfrm>
              </p:grpSpPr>
              <p:sp>
                <p:nvSpPr>
                  <p:cNvPr id="1723" name=""/>
                  <p:cNvSpPr/>
                  <p:nvPr/>
                </p:nvSpPr>
                <p:spPr>
                  <a:xfrm>
                    <a:off x="4260960" y="272340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4260960" y="272340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4003200" y="281772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4003200" y="281772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4015440" y="271872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4015440" y="271872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4252680" y="282564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4252680" y="282564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4006800" y="2723400"/>
                  <a:ext cx="495000" cy="186480"/>
                  <a:chOff x="4006800" y="2723400"/>
                  <a:chExt cx="495000" cy="18648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4265280" y="272808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4265280" y="272808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4006800" y="282096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4006800" y="282096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4019760" y="272340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4019760" y="272340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4256280" y="283032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4256280" y="283032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40" name=""/>
              <p:cNvSpPr/>
              <p:nvPr/>
            </p:nvSpPr>
            <p:spPr>
              <a:xfrm>
                <a:off x="3894120" y="2813040"/>
                <a:ext cx="180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611960" y="2813040"/>
                <a:ext cx="216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5983200" y="2689200"/>
              <a:ext cx="720360" cy="431640"/>
              <a:chOff x="5983200" y="2689200"/>
              <a:chExt cx="720360" cy="431640"/>
            </a:xfrm>
          </p:grpSpPr>
          <p:sp>
            <p:nvSpPr>
              <p:cNvPr id="1743" name=""/>
              <p:cNvSpPr/>
              <p:nvPr/>
            </p:nvSpPr>
            <p:spPr>
              <a:xfrm>
                <a:off x="5985000" y="286812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983200" y="2818080"/>
                <a:ext cx="717840" cy="1789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983200" y="2818080"/>
                <a:ext cx="717840" cy="178920"/>
              </a:xfrm>
              <a:prstGeom prst="rect">
                <a:avLst/>
              </a:prstGeom>
              <a:solidFill>
                <a:srgbClr val="0000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5985000" y="268920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7" name=""/>
              <p:cNvGrpSpPr/>
              <p:nvPr/>
            </p:nvGrpSpPr>
            <p:grpSpPr>
              <a:xfrm>
                <a:off x="6092280" y="2718720"/>
                <a:ext cx="498600" cy="191160"/>
                <a:chOff x="6092280" y="2718720"/>
                <a:chExt cx="498600" cy="191160"/>
              </a:xfrm>
            </p:grpSpPr>
            <p:grpSp>
              <p:nvGrpSpPr>
                <p:cNvPr id="1748" name=""/>
                <p:cNvGrpSpPr/>
                <p:nvPr/>
              </p:nvGrpSpPr>
              <p:grpSpPr>
                <a:xfrm>
                  <a:off x="6092280" y="2718720"/>
                  <a:ext cx="494640" cy="187920"/>
                  <a:chOff x="6092280" y="2718720"/>
                  <a:chExt cx="494640" cy="18792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>
                    <a:off x="6350040" y="272340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6350040" y="272340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6092280" y="281772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6092280" y="281772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6104520" y="271872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6104520" y="271872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6341760" y="282564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6341760" y="282564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7" name=""/>
                <p:cNvGrpSpPr/>
                <p:nvPr/>
              </p:nvGrpSpPr>
              <p:grpSpPr>
                <a:xfrm>
                  <a:off x="6095880" y="2723400"/>
                  <a:ext cx="495000" cy="186480"/>
                  <a:chOff x="6095880" y="2723400"/>
                  <a:chExt cx="495000" cy="186480"/>
                </a:xfrm>
              </p:grpSpPr>
              <p:sp>
                <p:nvSpPr>
                  <p:cNvPr id="1758" name=""/>
                  <p:cNvSpPr/>
                  <p:nvPr/>
                </p:nvSpPr>
                <p:spPr>
                  <a:xfrm>
                    <a:off x="6354360" y="272808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6354360" y="272808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6095880" y="282096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6095880" y="282096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6108840" y="272340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6108840" y="272340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6345360" y="283032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6345360" y="283032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66" name=""/>
              <p:cNvSpPr/>
              <p:nvPr/>
            </p:nvSpPr>
            <p:spPr>
              <a:xfrm>
                <a:off x="5983200" y="2813040"/>
                <a:ext cx="180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701040" y="2813040"/>
                <a:ext cx="216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2886120" y="1968480"/>
              <a:ext cx="720360" cy="431640"/>
              <a:chOff x="2886120" y="1968480"/>
              <a:chExt cx="720360" cy="431640"/>
            </a:xfrm>
          </p:grpSpPr>
          <p:sp>
            <p:nvSpPr>
              <p:cNvPr id="1769" name=""/>
              <p:cNvSpPr/>
              <p:nvPr/>
            </p:nvSpPr>
            <p:spPr>
              <a:xfrm>
                <a:off x="2887920" y="214740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886120" y="2097360"/>
                <a:ext cx="717840" cy="1789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886120" y="2097360"/>
                <a:ext cx="717840" cy="178920"/>
              </a:xfrm>
              <a:prstGeom prst="rect">
                <a:avLst/>
              </a:prstGeom>
              <a:solidFill>
                <a:srgbClr val="0000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887920" y="196848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2995200" y="1998000"/>
                <a:ext cx="498600" cy="191160"/>
                <a:chOff x="2995200" y="1998000"/>
                <a:chExt cx="498600" cy="191160"/>
              </a:xfrm>
            </p:grpSpPr>
            <p:grpSp>
              <p:nvGrpSpPr>
                <p:cNvPr id="1774" name=""/>
                <p:cNvGrpSpPr/>
                <p:nvPr/>
              </p:nvGrpSpPr>
              <p:grpSpPr>
                <a:xfrm>
                  <a:off x="2995200" y="1998000"/>
                  <a:ext cx="494640" cy="187920"/>
                  <a:chOff x="2995200" y="1998000"/>
                  <a:chExt cx="494640" cy="18792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3252960" y="200268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3252960" y="200268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2995200" y="209700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2995200" y="209700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3007440" y="199800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3007440" y="199800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3244680" y="210492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3244680" y="210492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3" name=""/>
                <p:cNvGrpSpPr/>
                <p:nvPr/>
              </p:nvGrpSpPr>
              <p:grpSpPr>
                <a:xfrm>
                  <a:off x="2998800" y="2002680"/>
                  <a:ext cx="495000" cy="186480"/>
                  <a:chOff x="2998800" y="2002680"/>
                  <a:chExt cx="495000" cy="186480"/>
                </a:xfrm>
              </p:grpSpPr>
              <p:sp>
                <p:nvSpPr>
                  <p:cNvPr id="1784" name=""/>
                  <p:cNvSpPr/>
                  <p:nvPr/>
                </p:nvSpPr>
                <p:spPr>
                  <a:xfrm>
                    <a:off x="3257280" y="200736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3257280" y="200736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2998800" y="210024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>
                    <a:off x="2998800" y="210024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3011760" y="200268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3011760" y="200268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3248280" y="210960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3248280" y="210960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92" name=""/>
              <p:cNvSpPr/>
              <p:nvPr/>
            </p:nvSpPr>
            <p:spPr>
              <a:xfrm>
                <a:off x="2886120" y="2092320"/>
                <a:ext cx="180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603960" y="2092320"/>
                <a:ext cx="216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4" name=""/>
            <p:cNvGrpSpPr/>
            <p:nvPr/>
          </p:nvGrpSpPr>
          <p:grpSpPr>
            <a:xfrm>
              <a:off x="2382840" y="2689200"/>
              <a:ext cx="720360" cy="431640"/>
              <a:chOff x="2382840" y="2689200"/>
              <a:chExt cx="720360" cy="431640"/>
            </a:xfrm>
          </p:grpSpPr>
          <p:sp>
            <p:nvSpPr>
              <p:cNvPr id="1795" name=""/>
              <p:cNvSpPr/>
              <p:nvPr/>
            </p:nvSpPr>
            <p:spPr>
              <a:xfrm>
                <a:off x="2384640" y="286812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82840" y="2818080"/>
                <a:ext cx="717840" cy="1789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82840" y="2818080"/>
                <a:ext cx="717840" cy="178920"/>
              </a:xfrm>
              <a:prstGeom prst="rect">
                <a:avLst/>
              </a:prstGeom>
              <a:solidFill>
                <a:srgbClr val="0000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384640" y="268920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9" name=""/>
              <p:cNvGrpSpPr/>
              <p:nvPr/>
            </p:nvGrpSpPr>
            <p:grpSpPr>
              <a:xfrm>
                <a:off x="2491920" y="2718720"/>
                <a:ext cx="498600" cy="191160"/>
                <a:chOff x="2491920" y="2718720"/>
                <a:chExt cx="498600" cy="191160"/>
              </a:xfrm>
            </p:grpSpPr>
            <p:grpSp>
              <p:nvGrpSpPr>
                <p:cNvPr id="1800" name=""/>
                <p:cNvGrpSpPr/>
                <p:nvPr/>
              </p:nvGrpSpPr>
              <p:grpSpPr>
                <a:xfrm>
                  <a:off x="2491920" y="2718720"/>
                  <a:ext cx="494640" cy="187920"/>
                  <a:chOff x="2491920" y="2718720"/>
                  <a:chExt cx="494640" cy="187920"/>
                </a:xfrm>
              </p:grpSpPr>
              <p:sp>
                <p:nvSpPr>
                  <p:cNvPr id="1801" name=""/>
                  <p:cNvSpPr/>
                  <p:nvPr/>
                </p:nvSpPr>
                <p:spPr>
                  <a:xfrm>
                    <a:off x="2749680" y="272340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2749680" y="272340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2491920" y="281772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2491920" y="281772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2504160" y="271872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2504160" y="271872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2741400" y="282564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2741400" y="282564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9" name=""/>
                <p:cNvGrpSpPr/>
                <p:nvPr/>
              </p:nvGrpSpPr>
              <p:grpSpPr>
                <a:xfrm>
                  <a:off x="2495520" y="2723400"/>
                  <a:ext cx="495000" cy="186480"/>
                  <a:chOff x="2495520" y="2723400"/>
                  <a:chExt cx="495000" cy="186480"/>
                </a:xfrm>
              </p:grpSpPr>
              <p:sp>
                <p:nvSpPr>
                  <p:cNvPr id="1810" name=""/>
                  <p:cNvSpPr/>
                  <p:nvPr/>
                </p:nvSpPr>
                <p:spPr>
                  <a:xfrm>
                    <a:off x="2754000" y="272808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2754000" y="272808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>
                    <a:off x="2495520" y="282096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2495520" y="282096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2508480" y="272340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2508480" y="272340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2745000" y="283032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2745000" y="283032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18" name=""/>
              <p:cNvSpPr/>
              <p:nvPr/>
            </p:nvSpPr>
            <p:spPr>
              <a:xfrm>
                <a:off x="2382840" y="2813040"/>
                <a:ext cx="180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100680" y="2813040"/>
                <a:ext cx="216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0" name=""/>
            <p:cNvGrpSpPr/>
            <p:nvPr/>
          </p:nvGrpSpPr>
          <p:grpSpPr>
            <a:xfrm>
              <a:off x="5046840" y="2689200"/>
              <a:ext cx="720360" cy="431640"/>
              <a:chOff x="5046840" y="2689200"/>
              <a:chExt cx="720360" cy="431640"/>
            </a:xfrm>
          </p:grpSpPr>
          <p:sp>
            <p:nvSpPr>
              <p:cNvPr id="1821" name=""/>
              <p:cNvSpPr/>
              <p:nvPr/>
            </p:nvSpPr>
            <p:spPr>
              <a:xfrm>
                <a:off x="5048640" y="286812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046840" y="2818080"/>
                <a:ext cx="717840" cy="17892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046840" y="2818080"/>
                <a:ext cx="717840" cy="178920"/>
              </a:xfrm>
              <a:prstGeom prst="rect">
                <a:avLst/>
              </a:prstGeom>
              <a:solidFill>
                <a:srgbClr val="0000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048640" y="2689200"/>
                <a:ext cx="718560" cy="252720"/>
              </a:xfrm>
              <a:prstGeom prst="ellipse">
                <a:avLst/>
              </a:prstGeom>
              <a:solidFill>
                <a:srgbClr val="0000aa"/>
              </a:solidFill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5" name=""/>
              <p:cNvGrpSpPr/>
              <p:nvPr/>
            </p:nvGrpSpPr>
            <p:grpSpPr>
              <a:xfrm>
                <a:off x="5155920" y="2718720"/>
                <a:ext cx="498600" cy="191160"/>
                <a:chOff x="5155920" y="2718720"/>
                <a:chExt cx="498600" cy="191160"/>
              </a:xfrm>
            </p:grpSpPr>
            <p:grpSp>
              <p:nvGrpSpPr>
                <p:cNvPr id="1826" name=""/>
                <p:cNvGrpSpPr/>
                <p:nvPr/>
              </p:nvGrpSpPr>
              <p:grpSpPr>
                <a:xfrm>
                  <a:off x="5155920" y="2718720"/>
                  <a:ext cx="494640" cy="187920"/>
                  <a:chOff x="5155920" y="2718720"/>
                  <a:chExt cx="494640" cy="187920"/>
                </a:xfrm>
              </p:grpSpPr>
              <p:sp>
                <p:nvSpPr>
                  <p:cNvPr id="1827" name=""/>
                  <p:cNvSpPr/>
                  <p:nvPr/>
                </p:nvSpPr>
                <p:spPr>
                  <a:xfrm>
                    <a:off x="5413680" y="272340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5413680" y="272340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5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5155920" y="281772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>
                    <a:off x="5155920" y="2817720"/>
                    <a:ext cx="23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4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7" y="157"/>
                        </a:lnTo>
                        <a:lnTo>
                          <a:pt x="344" y="157"/>
                        </a:lnTo>
                        <a:lnTo>
                          <a:pt x="221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5168160" y="271872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5168160" y="2718720"/>
                    <a:ext cx="2368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2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5405400" y="282564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5405400" y="2825640"/>
                    <a:ext cx="236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9">
                        <a:moveTo>
                          <a:pt x="442" y="116"/>
                        </a:moveTo>
                        <a:lnTo>
                          <a:pt x="344" y="149"/>
                        </a:lnTo>
                        <a:lnTo>
                          <a:pt x="114" y="50"/>
                        </a:lnTo>
                        <a:lnTo>
                          <a:pt x="0" y="83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25"/>
                        </a:lnTo>
                        <a:lnTo>
                          <a:pt x="442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5" name=""/>
                <p:cNvGrpSpPr/>
                <p:nvPr/>
              </p:nvGrpSpPr>
              <p:grpSpPr>
                <a:xfrm>
                  <a:off x="5159520" y="2723400"/>
                  <a:ext cx="495000" cy="186480"/>
                  <a:chOff x="5159520" y="2723400"/>
                  <a:chExt cx="495000" cy="18648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5418000" y="272808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5418000" y="272808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148">
                        <a:moveTo>
                          <a:pt x="0" y="115"/>
                        </a:moveTo>
                        <a:lnTo>
                          <a:pt x="97" y="148"/>
                        </a:lnTo>
                        <a:lnTo>
                          <a:pt x="335" y="50"/>
                        </a:lnTo>
                        <a:lnTo>
                          <a:pt x="442" y="82"/>
                        </a:lnTo>
                        <a:lnTo>
                          <a:pt x="384" y="0"/>
                        </a:lnTo>
                        <a:lnTo>
                          <a:pt x="106" y="0"/>
                        </a:lnTo>
                        <a:lnTo>
                          <a:pt x="220" y="25"/>
                        </a:lnTo>
                        <a:lnTo>
                          <a:pt x="0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5159520" y="282096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5159520" y="2820960"/>
                    <a:ext cx="236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57">
                        <a:moveTo>
                          <a:pt x="443" y="33"/>
                        </a:moveTo>
                        <a:lnTo>
                          <a:pt x="345" y="0"/>
                        </a:lnTo>
                        <a:lnTo>
                          <a:pt x="115" y="99"/>
                        </a:lnTo>
                        <a:lnTo>
                          <a:pt x="0" y="66"/>
                        </a:lnTo>
                        <a:lnTo>
                          <a:pt x="58" y="157"/>
                        </a:lnTo>
                        <a:lnTo>
                          <a:pt x="345" y="157"/>
                        </a:lnTo>
                        <a:lnTo>
                          <a:pt x="222" y="124"/>
                        </a:lnTo>
                        <a:lnTo>
                          <a:pt x="443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5172480" y="272340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>
                    <a:off x="5172480" y="2723400"/>
                    <a:ext cx="23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48">
                        <a:moveTo>
                          <a:pt x="0" y="33"/>
                        </a:moveTo>
                        <a:lnTo>
                          <a:pt x="98" y="0"/>
                        </a:lnTo>
                        <a:lnTo>
                          <a:pt x="336" y="90"/>
                        </a:lnTo>
                        <a:lnTo>
                          <a:pt x="443" y="66"/>
                        </a:lnTo>
                        <a:lnTo>
                          <a:pt x="385" y="148"/>
                        </a:lnTo>
                        <a:lnTo>
                          <a:pt x="106" y="148"/>
                        </a:lnTo>
                        <a:lnTo>
                          <a:pt x="221" y="123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5409000" y="283032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5409000" y="2830320"/>
                    <a:ext cx="2368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148">
                        <a:moveTo>
                          <a:pt x="441" y="115"/>
                        </a:moveTo>
                        <a:lnTo>
                          <a:pt x="343" y="148"/>
                        </a:lnTo>
                        <a:lnTo>
                          <a:pt x="113" y="49"/>
                        </a:lnTo>
                        <a:lnTo>
                          <a:pt x="0" y="82"/>
                        </a:lnTo>
                        <a:lnTo>
                          <a:pt x="56" y="0"/>
                        </a:lnTo>
                        <a:lnTo>
                          <a:pt x="343" y="0"/>
                        </a:lnTo>
                        <a:lnTo>
                          <a:pt x="220" y="24"/>
                        </a:lnTo>
                        <a:lnTo>
                          <a:pt x="441" y="1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44" name=""/>
              <p:cNvSpPr/>
              <p:nvPr/>
            </p:nvSpPr>
            <p:spPr>
              <a:xfrm>
                <a:off x="5046840" y="2813040"/>
                <a:ext cx="180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764680" y="2813040"/>
                <a:ext cx="2160" cy="178920"/>
              </a:xfrm>
              <a:prstGeom prst="line">
                <a:avLst/>
              </a:prstGeom>
              <a:ln w="324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/>
          <p:nvPr/>
        </p:nvSpPr>
        <p:spPr>
          <a:xfrm>
            <a:off x="274320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7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5105160" cy="2895480"/>
          </a:xfrm>
          <a:prstGeom prst="rect">
            <a:avLst/>
          </a:prstGeom>
          <a:ln w="0">
            <a:noFill/>
          </a:ln>
        </p:spPr>
      </p:pic>
      <p:sp>
        <p:nvSpPr>
          <p:cNvPr id="1848" name=""/>
          <p:cNvSpPr/>
          <p:nvPr/>
        </p:nvSpPr>
        <p:spPr>
          <a:xfrm>
            <a:off x="5454720" y="1641600"/>
            <a:ext cx="308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Comparison over-provisioning vs. TE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= 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952880" y="1467000"/>
            <a:ext cx="457200" cy="2286000"/>
          </a:xfrm>
          <a:custGeom>
            <a:avLst/>
            <a:gdLst>
              <a:gd name="textAreaLeft" fmla="*/ 0 w 457200"/>
              <a:gd name="textAreaRight" fmla="*/ 164880 w 4572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445000" y="2878200"/>
            <a:ext cx="33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P= 50%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74902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major GAI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rom more than</a:t>
            </a:r>
            <a:r>
              <a:rPr b="0" lang="en-US" sz="1800" spc="-1" strike="noStrike">
                <a:solidFill>
                  <a:srgbClr val="f74902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90%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334120" y="2629080"/>
            <a:ext cx="3543120" cy="113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934320" y="2908440"/>
            <a:ext cx="355320" cy="342720"/>
          </a:xfrm>
          <a:prstGeom prst="rightArrow">
            <a:avLst>
              <a:gd name="adj1" fmla="val 50000"/>
              <a:gd name="adj2" fmla="val 25919"/>
            </a:avLst>
          </a:prstGeom>
          <a:solidFill>
            <a:srgbClr val="c7d0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0" y="4726080"/>
            <a:ext cx="416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Number of  LSP preemp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to be hand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733920" y="4102200"/>
            <a:ext cx="647640" cy="1904760"/>
          </a:xfrm>
          <a:custGeom>
            <a:avLst/>
            <a:gdLst>
              <a:gd name="textAreaLeft" fmla="*/ 414000 w 647640"/>
              <a:gd name="textAreaRight" fmla="*/ 648000 w 647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38080" y="5486400"/>
            <a:ext cx="27432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9% for β=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3% for β=0.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61800" y="5334120"/>
            <a:ext cx="35308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7" name="" descr=""/>
          <p:cNvPicPr/>
          <p:nvPr/>
        </p:nvPicPr>
        <p:blipFill>
          <a:blip r:embed="rId2"/>
          <a:stretch/>
        </p:blipFill>
        <p:spPr>
          <a:xfrm>
            <a:off x="4114800" y="3809880"/>
            <a:ext cx="5029200" cy="2895840"/>
          </a:xfrm>
          <a:prstGeom prst="rect">
            <a:avLst/>
          </a:prstGeom>
          <a:ln w="0">
            <a:noFill/>
          </a:ln>
        </p:spPr>
      </p:pic>
      <p:sp>
        <p:nvSpPr>
          <p:cNvPr id="1858" name=""/>
          <p:cNvSpPr/>
          <p:nvPr/>
        </p:nvSpPr>
        <p:spPr>
          <a:xfrm>
            <a:off x="6629400" y="6400800"/>
            <a:ext cx="1295280" cy="200520"/>
          </a:xfrm>
          <a:prstGeom prst="rect">
            <a:avLst/>
          </a:prstGeom>
          <a:solidFill>
            <a:srgbClr val="e6e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ffic  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743200" y="83808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0" name=""/>
          <p:cNvGraphicFramePr/>
          <p:nvPr/>
        </p:nvGraphicFramePr>
        <p:xfrm>
          <a:off x="457200" y="2487600"/>
          <a:ext cx="739152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87600"/>
                    <a:ext cx="73915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"/>
          <p:cNvSpPr/>
          <p:nvPr/>
        </p:nvSpPr>
        <p:spPr>
          <a:xfrm>
            <a:off x="3009960" y="83808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21560" y="1508040"/>
            <a:ext cx="78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59b8"/>
                </a:solidFill>
                <a:latin typeface="Arial"/>
              </a:rPr>
              <a:t>Blocking probability = refused set up connections + rerouting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657600" y="1828800"/>
            <a:ext cx="380880" cy="1981080"/>
          </a:xfrm>
          <a:prstGeom prst="line">
            <a:avLst/>
          </a:prstGeom>
          <a:ln w="38160">
            <a:solidFill>
              <a:srgbClr val="f749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647960" y="1981080"/>
            <a:ext cx="2361960" cy="3200400"/>
          </a:xfrm>
          <a:prstGeom prst="line">
            <a:avLst/>
          </a:prstGeom>
          <a:ln w="38160">
            <a:solidFill>
              <a:srgbClr val="f749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086600" y="2819520"/>
            <a:ext cx="18288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or three LP classes with different 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The re-routing failure for </a:t>
            </a:r>
            <a:r>
              <a:rPr b="0" lang="en-US" sz="1600" spc="-1" strike="noStrike">
                <a:solidFill>
                  <a:srgbClr val="f74902"/>
                </a:solidFill>
                <a:latin typeface="Arial"/>
              </a:rPr>
              <a:t>LP1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is less than </a:t>
            </a:r>
            <a:r>
              <a:rPr b="0" lang="en-US" sz="1600" spc="-1" strike="noStrike">
                <a:solidFill>
                  <a:srgbClr val="f74902"/>
                </a:solidFill>
                <a:latin typeface="Arial"/>
              </a:rPr>
              <a:t>10 </a:t>
            </a:r>
            <a:r>
              <a:rPr b="0" lang="en-US" sz="1600" spc="-1" strike="noStrike" baseline="30000">
                <a:solidFill>
                  <a:srgbClr val="f74902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"/>
          <p:cNvSpPr/>
          <p:nvPr/>
        </p:nvSpPr>
        <p:spPr>
          <a:xfrm>
            <a:off x="266760" y="1536840"/>
            <a:ext cx="8534520" cy="3949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992240" y="91764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E strategy advant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1101600" y="1630440"/>
            <a:ext cx="7178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Tight  QoS sup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Different QoS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Promptly reaction to traffic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Efficient use of the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Bandwidth on demand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Practical feasi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use of standardized functions,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Both distributed and centralized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59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Independent on network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59b8"/>
                </a:solidFill>
                <a:latin typeface="Arial"/>
              </a:rPr>
              <a:t>traffic granularity and/or timescale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8381880" cy="5277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1"/>
              </a:rPr>
              <a:t>P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2"/>
              </a:rPr>
              <a:t>. 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3"/>
              </a:rPr>
              <a:t>Iovanna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4"/>
              </a:rPr>
              <a:t>, M. 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5"/>
              </a:rPr>
              <a:t>Settembre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6"/>
              </a:rPr>
              <a:t>, R. 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7"/>
              </a:rPr>
              <a:t>Sabella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8"/>
              </a:rPr>
              <a:t>, "A Traffic Engineering System for multi-layer networks based on the GMPLS paradigm", IEEE network, March 2003.</a:t>
            </a:r>
            <a:br>
              <a:rPr sz="1000"/>
            </a:br>
            <a:br>
              <a:rPr sz="1000"/>
            </a:b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</a:rPr>
              <a:t>R. Sabella, M. Settembre, G. Oriolo, F. Razza, F. Ferlito, G. Conte, "A Multi-Layer Solution for Path Provisioning in New Generation Optical/MPLS Networks", to appear on Journal of Lightwave Technology, June 2003</a:t>
            </a:r>
            <a:br>
              <a:rPr sz="1000"/>
            </a:br>
            <a:br>
              <a:rPr sz="1000"/>
            </a:b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9"/>
              </a:rPr>
              <a:t>A. 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10"/>
              </a:rPr>
              <a:t>Bosco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11"/>
              </a:rPr>
              <a:t>, R. 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12"/>
              </a:rPr>
              <a:t>Mameli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13"/>
              </a:rPr>
              <a:t>, E. 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14"/>
              </a:rPr>
              <a:t>Manconi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15"/>
              </a:rPr>
              <a:t>, and F. 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16"/>
              </a:rPr>
              <a:t>Ubaldi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17"/>
              </a:rPr>
              <a:t>, "Edge Distributed Admission Control in MPLS Networks", IEEE Communications letters, Vol. 7, No. 2, pp. 88-90, February 2003.</a:t>
            </a:r>
            <a:br>
              <a:rPr sz="1000"/>
            </a:br>
            <a:br>
              <a:rPr sz="1000"/>
            </a:b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</a:rPr>
              <a:t>Bosco, Manconi, Sabella, Valentini “An innovative solution for Dynamic Bandwidth Engineering in MPLS networks with QoS support”, accepted to Photonic Network Communications</a:t>
            </a:r>
            <a:br>
              <a:rPr sz="1000"/>
            </a:br>
            <a:br>
              <a:rPr sz="1000"/>
            </a:b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18"/>
              </a:rPr>
              <a:t>A.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19"/>
              </a:rPr>
              <a:t>Bosco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20"/>
              </a:rPr>
              <a:t>, A.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21"/>
              </a:rPr>
              <a:t> Botta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22"/>
              </a:rPr>
              <a:t>, M.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23"/>
              </a:rPr>
              <a:t> Intermite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24"/>
              </a:rPr>
              <a:t>, P.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25"/>
              </a:rPr>
              <a:t> Iovanna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26"/>
              </a:rPr>
              <a:t>, S.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27"/>
              </a:rPr>
              <a:t>Salsano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28"/>
              </a:rPr>
              <a:t>, "Distributed implementation of a pre-emption mechanism for a network control based on IP/MPLS paradigm", ONDM 2003 Conference, February 3-5, 2003 Budapest, Hungary.</a:t>
            </a:r>
            <a:br>
              <a:rPr sz="1000"/>
            </a:br>
            <a:br>
              <a:rPr sz="1000"/>
            </a:b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29"/>
              </a:rPr>
              <a:t>G. Conte,P.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30"/>
              </a:rPr>
              <a:t>Iovanna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31"/>
              </a:rPr>
              <a:t>, R.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32"/>
              </a:rPr>
              <a:t>Sabella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33"/>
              </a:rPr>
              <a:t>. M.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34"/>
              </a:rPr>
              <a:t>Settembre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35"/>
              </a:rPr>
              <a:t>, L.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36"/>
              </a:rPr>
              <a:t>Valentini</a:t>
            </a: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  <a:hlinkClick r:id="rId37"/>
              </a:rPr>
              <a:t>, "A traffic engineering solution for GMPLS Networks: A hybrid approach based on off-line and on-line routing methods", ONDM 2003 Conference, February 3-5, 2003 Budapest, Hungary.</a:t>
            </a:r>
            <a:br>
              <a:rPr sz="1000"/>
            </a:br>
            <a:br>
              <a:rPr sz="1000"/>
            </a:b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</a:rPr>
              <a:t>P.Iovanna, R. Sabella, P. D’Aprile,”QoS Performance of a Traffic Engineering Systems Operating with Several Classes of Services”, accepted to FIRST INTERNATIONAL WORKING CONFERENCE ON PERFORMANCE MODELLING AND EVALUATION OF HETEROGENEOUS NETWORKS,(HET-NETs '03), 21-23, July 2003</a:t>
            </a:r>
            <a:br>
              <a:rPr sz="1000"/>
            </a:br>
            <a:br>
              <a:rPr sz="1000"/>
            </a:b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</a:rPr>
              <a:t>A. Bosco, A. Botta, P. Iovanna, R. Sabella, S. Salsano “Internet like control for MPLS based Networks”, accepted to FIRST INTERNATIONAL WORKING CONFERENCE ON PERFORMANCE MODELLING AND EVALUATION OF HETEROGENEOUS NETWORKS,(HET-NETs '03), 21-23, July 2003.</a:t>
            </a:r>
            <a:br>
              <a:rPr sz="1000"/>
            </a:br>
            <a:br>
              <a:rPr sz="1000"/>
            </a:br>
            <a:r>
              <a:rPr b="0" lang="en-US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</a:rPr>
              <a:t>P. Iovanna, M. Settembre, R. Sabella, G. Conte, L. Valentini  “Performance Analysis of a Traffic Engineering Solution for multiMulti-Layer Networks based on the GMPLS Paradigm” submitted  to JSAC</a:t>
            </a:r>
            <a:br>
              <a:rPr sz="1000"/>
            </a:br>
            <a:br>
              <a:rPr sz="1000"/>
            </a:br>
            <a:r>
              <a:rPr b="0" lang="it-IT" sz="1000" spc="-1" strike="noStrike" u="sng">
                <a:solidFill>
                  <a:srgbClr val="0059b8"/>
                </a:solidFill>
                <a:uFillTx/>
                <a:latin typeface="Device Font 10cpi"/>
                <a:ea typeface="Times New Roman"/>
              </a:rPr>
              <a:t>R. Sabella, P. Iovanna, G. Oriolo, P. D’Aprile Strategy for Dynamic Routing and Grooming of Data Flows into Lightpaths in New Generation Network Based on the GMPLS Paradigm submitted to Photonic Network Communications</a:t>
            </a:r>
            <a:endParaRPr b="1" lang="en-US" sz="1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710360" y="1066680"/>
            <a:ext cx="5531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Publications on TE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882880" y="2593800"/>
            <a:ext cx="5988240" cy="2995560"/>
            <a:chOff x="2882880" y="2593800"/>
            <a:chExt cx="5988240" cy="2995560"/>
          </a:xfrm>
        </p:grpSpPr>
        <p:sp>
          <p:nvSpPr>
            <p:cNvPr id="133" name="Cloud"/>
            <p:cNvSpPr/>
            <p:nvPr/>
          </p:nvSpPr>
          <p:spPr>
            <a:xfrm>
              <a:off x="2882880" y="4066560"/>
              <a:ext cx="5533560" cy="15228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3520" y="4281480"/>
              <a:ext cx="3078720" cy="486720"/>
            </a:xfrm>
            <a:custGeom>
              <a:avLst/>
              <a:gdLst/>
              <a:ahLst/>
              <a:rect l="l" t="t" r="r" b="b"/>
              <a:pathLst>
                <a:path w="2640" h="519">
                  <a:moveTo>
                    <a:pt x="0" y="519"/>
                  </a:moveTo>
                  <a:cubicBezTo>
                    <a:pt x="89" y="438"/>
                    <a:pt x="268" y="62"/>
                    <a:pt x="536" y="31"/>
                  </a:cubicBezTo>
                  <a:cubicBezTo>
                    <a:pt x="804" y="0"/>
                    <a:pt x="1257" y="320"/>
                    <a:pt x="1608" y="335"/>
                  </a:cubicBezTo>
                  <a:cubicBezTo>
                    <a:pt x="1959" y="350"/>
                    <a:pt x="2425" y="164"/>
                    <a:pt x="2640" y="119"/>
                  </a:cubicBezTo>
                </a:path>
              </a:pathLst>
            </a:custGeom>
            <a:noFill/>
            <a:ln w="7632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92240" y="4361400"/>
              <a:ext cx="3058920" cy="456480"/>
            </a:xfrm>
            <a:custGeom>
              <a:avLst/>
              <a:gdLst/>
              <a:ahLst/>
              <a:rect l="l" t="t" r="r" b="b"/>
              <a:pathLst>
                <a:path w="2640" h="519">
                  <a:moveTo>
                    <a:pt x="0" y="519"/>
                  </a:moveTo>
                  <a:cubicBezTo>
                    <a:pt x="89" y="438"/>
                    <a:pt x="268" y="62"/>
                    <a:pt x="536" y="31"/>
                  </a:cubicBezTo>
                  <a:cubicBezTo>
                    <a:pt x="804" y="0"/>
                    <a:pt x="1257" y="320"/>
                    <a:pt x="1608" y="335"/>
                  </a:cubicBezTo>
                  <a:cubicBezTo>
                    <a:pt x="1959" y="350"/>
                    <a:pt x="2425" y="164"/>
                    <a:pt x="2640" y="119"/>
                  </a:cubicBezTo>
                </a:path>
              </a:pathLst>
            </a:custGeom>
            <a:noFill/>
            <a:ln w="7632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560" y="4921200"/>
              <a:ext cx="3281400" cy="243720"/>
            </a:xfrm>
            <a:custGeom>
              <a:avLst/>
              <a:gdLst/>
              <a:ahLst/>
              <a:rect l="l" t="t" r="r" b="b"/>
              <a:pathLst>
                <a:path w="2712" h="176">
                  <a:moveTo>
                    <a:pt x="0" y="0"/>
                  </a:moveTo>
                  <a:cubicBezTo>
                    <a:pt x="91" y="24"/>
                    <a:pt x="285" y="117"/>
                    <a:pt x="544" y="144"/>
                  </a:cubicBezTo>
                  <a:cubicBezTo>
                    <a:pt x="803" y="171"/>
                    <a:pt x="1191" y="176"/>
                    <a:pt x="1552" y="160"/>
                  </a:cubicBezTo>
                  <a:cubicBezTo>
                    <a:pt x="1913" y="144"/>
                    <a:pt x="2470" y="71"/>
                    <a:pt x="2712" y="48"/>
                  </a:cubicBezTo>
                </a:path>
              </a:pathLst>
            </a:custGeom>
            <a:noFill/>
            <a:ln w="7632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Cloud"/>
            <p:cNvSpPr/>
            <p:nvPr/>
          </p:nvSpPr>
          <p:spPr>
            <a:xfrm>
              <a:off x="3012480" y="2593800"/>
              <a:ext cx="5553360" cy="1491840"/>
            </a:xfrm>
            <a:prstGeom prst="pie">
              <a:avLst/>
            </a:prstGeom>
            <a:solidFill>
              <a:srgbClr val="dddddd">
                <a:alpha val="99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8840" y="4282560"/>
              <a:ext cx="370800" cy="800640"/>
            </a:xfrm>
            <a:custGeom>
              <a:avLst/>
              <a:gdLst/>
              <a:ahLst/>
              <a:rect l="l" t="t" r="r" b="b"/>
              <a:pathLst>
                <a:path w="232" h="544">
                  <a:moveTo>
                    <a:pt x="232" y="544"/>
                  </a:moveTo>
                  <a:cubicBezTo>
                    <a:pt x="193" y="453"/>
                    <a:pt x="48" y="113"/>
                    <a:pt x="0" y="0"/>
                  </a:cubicBezTo>
                </a:path>
              </a:pathLst>
            </a:custGeom>
            <a:noFill/>
            <a:ln w="7632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292160" y="4212360"/>
              <a:ext cx="39096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56280" y="4323240"/>
              <a:ext cx="316800" cy="679680"/>
            </a:xfrm>
            <a:custGeom>
              <a:avLst/>
              <a:gdLst/>
              <a:ahLst/>
              <a:rect l="l" t="t" r="r" b="b"/>
              <a:pathLst>
                <a:path w="232" h="544">
                  <a:moveTo>
                    <a:pt x="232" y="544"/>
                  </a:moveTo>
                  <a:cubicBezTo>
                    <a:pt x="193" y="453"/>
                    <a:pt x="48" y="113"/>
                    <a:pt x="0" y="0"/>
                  </a:cubicBezTo>
                </a:path>
              </a:pathLst>
            </a:custGeom>
            <a:noFill/>
            <a:ln w="7632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819960" y="2822040"/>
              <a:ext cx="3071520" cy="4885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67520" y="2828160"/>
              <a:ext cx="261360" cy="6318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17720" y="3429360"/>
              <a:ext cx="3546000" cy="554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6800040" y="2646000"/>
            <a:ext cx="443880" cy="31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00040" y="2646000"/>
                      <a:ext cx="443880" cy="31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 flipH="1">
              <a:off x="3587400" y="3525480"/>
              <a:ext cx="18360" cy="1355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974640" y="2892600"/>
              <a:ext cx="9000" cy="1413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338240" y="3619080"/>
              <a:ext cx="9360" cy="1413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29760" y="2996280"/>
              <a:ext cx="3246120" cy="375840"/>
            </a:xfrm>
            <a:custGeom>
              <a:avLst/>
              <a:gdLst/>
              <a:ahLst/>
              <a:rect l="l" t="t" r="r" b="b"/>
              <a:pathLst>
                <a:path w="2880" h="491">
                  <a:moveTo>
                    <a:pt x="0" y="491"/>
                  </a:moveTo>
                  <a:cubicBezTo>
                    <a:pt x="401" y="415"/>
                    <a:pt x="1936" y="70"/>
                    <a:pt x="2408" y="35"/>
                  </a:cubicBezTo>
                  <a:cubicBezTo>
                    <a:pt x="2880" y="0"/>
                    <a:pt x="2757" y="222"/>
                    <a:pt x="2832" y="283"/>
                  </a:cubicBezTo>
                  <a:lnTo>
                    <a:pt x="2856" y="403"/>
                  </a:lnTo>
                </a:path>
              </a:pathLst>
            </a:custGeom>
            <a:noFill/>
            <a:ln w="76320">
              <a:solidFill>
                <a:srgbClr val="cccccc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600160" y="4213800"/>
              <a:ext cx="1368360" cy="2595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703680" y="4089600"/>
              <a:ext cx="685080" cy="6562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29880" y="4879440"/>
              <a:ext cx="836280" cy="3952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66160" y="4122360"/>
              <a:ext cx="1223280" cy="3920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11600" y="5127120"/>
              <a:ext cx="2559240" cy="88920"/>
            </a:xfrm>
            <a:custGeom>
              <a:avLst/>
              <a:gdLst/>
              <a:ahLst/>
              <a:rect l="l" t="t" r="r" b="b"/>
              <a:pathLst>
                <a:path w="3133" h="100">
                  <a:moveTo>
                    <a:pt x="0" y="100"/>
                  </a:moveTo>
                  <a:lnTo>
                    <a:pt x="1449" y="98"/>
                  </a:lnTo>
                  <a:lnTo>
                    <a:pt x="3133" y="0"/>
                  </a:ln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7058160" y="4222440"/>
              <a:ext cx="380520" cy="9205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00160" y="4444560"/>
              <a:ext cx="1825920" cy="6620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305600" y="5090760"/>
              <a:ext cx="427680" cy="275040"/>
              <a:chOff x="4305600" y="5090760"/>
              <a:chExt cx="427680" cy="275040"/>
            </a:xfrm>
          </p:grpSpPr>
          <p:pic>
            <p:nvPicPr>
              <p:cNvPr id="158" name="" descr="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>
                <a:off x="4305600" y="5090760"/>
                <a:ext cx="427680" cy="2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4524480" y="5121000"/>
                <a:ext cx="52560" cy="3420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44480" y="5092200"/>
                <a:ext cx="382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40680" y="5104800"/>
                <a:ext cx="7560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084800" y="4920120"/>
              <a:ext cx="427680" cy="277920"/>
              <a:chOff x="7084800" y="4920120"/>
              <a:chExt cx="427680" cy="277920"/>
            </a:xfrm>
          </p:grpSpPr>
          <p:pic>
            <p:nvPicPr>
              <p:cNvPr id="163" name="" descr="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>
                <a:off x="7084800" y="4920120"/>
                <a:ext cx="427680" cy="2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7303680" y="4950720"/>
                <a:ext cx="52560" cy="3456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23680" y="4921560"/>
                <a:ext cx="382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19880" y="4934520"/>
                <a:ext cx="7560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511800" y="4680720"/>
              <a:ext cx="428040" cy="276840"/>
              <a:chOff x="3511800" y="4680720"/>
              <a:chExt cx="428040" cy="276840"/>
            </a:xfrm>
          </p:grpSpPr>
          <p:pic>
            <p:nvPicPr>
              <p:cNvPr id="168" name="" descr="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>
                <a:off x="3511800" y="4680720"/>
                <a:ext cx="428040" cy="27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3731040" y="4711320"/>
                <a:ext cx="52920" cy="3420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50680" y="4682160"/>
                <a:ext cx="3826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47240" y="4694760"/>
                <a:ext cx="7560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189320" y="3995280"/>
              <a:ext cx="427680" cy="278280"/>
              <a:chOff x="4189320" y="3995280"/>
              <a:chExt cx="427680" cy="278280"/>
            </a:xfrm>
          </p:grpSpPr>
          <p:pic>
            <p:nvPicPr>
              <p:cNvPr id="173" name="" descr="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>
                <a:off x="4189320" y="3995280"/>
                <a:ext cx="427680" cy="27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4408200" y="4025880"/>
                <a:ext cx="52560" cy="3456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28200" y="3996720"/>
                <a:ext cx="382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24400" y="4009680"/>
                <a:ext cx="75600" cy="0"/>
              </a:xfrm>
              <a:prstGeom prst="line">
                <a:avLst/>
              </a:prstGeom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733000" y="5104080"/>
              <a:ext cx="429480" cy="277920"/>
              <a:chOff x="5733000" y="5104080"/>
              <a:chExt cx="429480" cy="277920"/>
            </a:xfrm>
          </p:grpSpPr>
          <p:pic>
            <p:nvPicPr>
              <p:cNvPr id="178" name="" descr="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>
                <a:off x="5733000" y="5104080"/>
                <a:ext cx="429480" cy="27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5952960" y="5134680"/>
                <a:ext cx="52920" cy="3456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71880" y="5105520"/>
                <a:ext cx="383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69160" y="5118480"/>
                <a:ext cx="7596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767640" y="4163040"/>
              <a:ext cx="427680" cy="276840"/>
              <a:chOff x="6767640" y="4163040"/>
              <a:chExt cx="427680" cy="276840"/>
            </a:xfrm>
          </p:grpSpPr>
          <p:pic>
            <p:nvPicPr>
              <p:cNvPr id="183" name="" descr="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>
                <a:off x="6767640" y="4163040"/>
                <a:ext cx="427680" cy="27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6986520" y="4193640"/>
                <a:ext cx="52560" cy="3420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06520" y="4164480"/>
                <a:ext cx="382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002720" y="4177080"/>
                <a:ext cx="7560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V="1">
              <a:off x="4613040" y="4536000"/>
              <a:ext cx="904680" cy="5864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7061400" y="3315240"/>
            <a:ext cx="445320" cy="317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061400" y="3315240"/>
                      <a:ext cx="445320" cy="31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"/>
            <p:cNvGraphicFramePr/>
            <p:nvPr/>
          </p:nvGraphicFramePr>
          <p:xfrm>
            <a:off x="3411720" y="3236760"/>
            <a:ext cx="443520" cy="31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411720" y="3236760"/>
                      <a:ext cx="443520" cy="31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 flipV="1">
              <a:off x="3834000" y="3556080"/>
              <a:ext cx="3281400" cy="81360"/>
            </a:xfrm>
            <a:custGeom>
              <a:avLst/>
              <a:gdLst/>
              <a:ahLst/>
              <a:rect l="l" t="t" r="r" b="b"/>
              <a:pathLst>
                <a:path w="2880" h="491">
                  <a:moveTo>
                    <a:pt x="0" y="491"/>
                  </a:moveTo>
                  <a:cubicBezTo>
                    <a:pt x="401" y="415"/>
                    <a:pt x="1936" y="70"/>
                    <a:pt x="2408" y="35"/>
                  </a:cubicBezTo>
                  <a:cubicBezTo>
                    <a:pt x="2880" y="0"/>
                    <a:pt x="2757" y="222"/>
                    <a:pt x="2832" y="283"/>
                  </a:cubicBezTo>
                  <a:lnTo>
                    <a:pt x="2856" y="403"/>
                  </a:lnTo>
                </a:path>
              </a:pathLst>
            </a:custGeom>
            <a:noFill/>
            <a:ln w="76320">
              <a:solidFill>
                <a:srgbClr val="f8f8f8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421960" y="4281480"/>
              <a:ext cx="428040" cy="276480"/>
              <a:chOff x="5421960" y="4281480"/>
              <a:chExt cx="428040" cy="27648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3">
                <a:grayscl/>
              </a:blip>
              <a:stretch/>
            </p:blipFill>
            <p:spPr>
              <a:xfrm>
                <a:off x="5421960" y="4281480"/>
                <a:ext cx="428040" cy="2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5641200" y="4312080"/>
                <a:ext cx="52920" cy="3420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60840" y="4282920"/>
                <a:ext cx="3826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57400" y="4295520"/>
                <a:ext cx="7560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520760" y="38710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WD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152480" y="2915640"/>
              <a:ext cx="39276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42280" y="2593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P/MP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ccccc"/>
            </a:outerShdw>
          </a:effectLst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Reference Scenario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03520" y="2916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75000" y="4678200"/>
            <a:ext cx="8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X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8600" y="4038480"/>
            <a:ext cx="2666880" cy="2057400"/>
            <a:chOff x="228600" y="4038480"/>
            <a:chExt cx="2666880" cy="2057400"/>
          </a:xfrm>
        </p:grpSpPr>
        <p:sp>
          <p:nvSpPr>
            <p:cNvPr id="205" name=""/>
            <p:cNvSpPr/>
            <p:nvPr/>
          </p:nvSpPr>
          <p:spPr>
            <a:xfrm>
              <a:off x="228600" y="4038480"/>
              <a:ext cx="2666880" cy="2057400"/>
            </a:xfrm>
            <a:prstGeom prst="wedgeEllipseCallout">
              <a:avLst>
                <a:gd name="adj1" fmla="val 70009"/>
                <a:gd name="adj2" fmla="val -12037"/>
              </a:avLst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0000"/>
                </a:lnSpc>
                <a:spcBef>
                  <a:spcPts val="1001"/>
                </a:spcBef>
                <a:buClr>
                  <a:srgbClr val="5f5f5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649440" y="4376880"/>
            <a:ext cx="2105280" cy="1490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49440" y="4376880"/>
                      <a:ext cx="2105280" cy="14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8" name=""/>
          <p:cNvSpPr/>
          <p:nvPr/>
        </p:nvSpPr>
        <p:spPr>
          <a:xfrm>
            <a:off x="5867280" y="5715000"/>
            <a:ext cx="24987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88000" y="1787400"/>
            <a:ext cx="41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5f5f5f"/>
                </a:solidFill>
                <a:latin typeface="Arial Narrow"/>
              </a:rPr>
              <a:t>GMP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4920" y="1733400"/>
            <a:ext cx="2810880" cy="2002320"/>
            <a:chOff x="304920" y="1733400"/>
            <a:chExt cx="2810880" cy="2002320"/>
          </a:xfrm>
        </p:grpSpPr>
        <p:grpSp>
          <p:nvGrpSpPr>
            <p:cNvPr id="211" name=""/>
            <p:cNvGrpSpPr/>
            <p:nvPr/>
          </p:nvGrpSpPr>
          <p:grpSpPr>
            <a:xfrm>
              <a:off x="304920" y="2922120"/>
              <a:ext cx="714960" cy="425160"/>
              <a:chOff x="304920" y="2922120"/>
              <a:chExt cx="714960" cy="425160"/>
            </a:xfrm>
          </p:grpSpPr>
          <p:pic>
            <p:nvPicPr>
              <p:cNvPr id="21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04920" y="2922120"/>
                <a:ext cx="71496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671040" y="2969280"/>
                <a:ext cx="88200" cy="52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0080" y="2924640"/>
                <a:ext cx="6390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8040" y="2944080"/>
                <a:ext cx="12636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6" name=""/>
            <p:cNvGraphicFramePr/>
            <p:nvPr/>
          </p:nvGraphicFramePr>
          <p:xfrm>
            <a:off x="320400" y="1733400"/>
            <a:ext cx="715680" cy="495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0400" y="1733400"/>
                      <a:ext cx="715680" cy="49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"/>
            <p:cNvSpPr/>
            <p:nvPr/>
          </p:nvSpPr>
          <p:spPr>
            <a:xfrm>
              <a:off x="1152360" y="174600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f5f5f"/>
                  </a:solidFill>
                  <a:latin typeface="Arial"/>
                </a:rPr>
                <a:t>LS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5880" y="2849400"/>
              <a:ext cx="196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f5f5f"/>
                  </a:solidFill>
                  <a:latin typeface="Arial"/>
                </a:rPr>
                <a:t>Optical 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52360" y="2099880"/>
              <a:ext cx="17092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SP switching cap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57040" y="3203280"/>
              <a:ext cx="17092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 cap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04920" y="1295280"/>
            <a:ext cx="2771640" cy="1800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265200" y="4495680"/>
            <a:ext cx="1306800" cy="1372320"/>
            <a:chOff x="3265200" y="4495680"/>
            <a:chExt cx="1306800" cy="1372320"/>
          </a:xfrm>
        </p:grpSpPr>
        <p:sp>
          <p:nvSpPr>
            <p:cNvPr id="224" name=""/>
            <p:cNvSpPr/>
            <p:nvPr/>
          </p:nvSpPr>
          <p:spPr>
            <a:xfrm>
              <a:off x="3265200" y="5603760"/>
              <a:ext cx="10342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5f5f5f"/>
                  </a:solidFill>
                  <a:latin typeface="Arial"/>
                </a:rPr>
                <a:t>light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09880" y="5029200"/>
              <a:ext cx="22860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809880" y="4495680"/>
              <a:ext cx="762120" cy="1067040"/>
            </a:xfrm>
            <a:prstGeom prst="line">
              <a:avLst/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052520" y="2362320"/>
            <a:ext cx="1128960" cy="685800"/>
            <a:chOff x="4052520" y="2362320"/>
            <a:chExt cx="1128960" cy="685800"/>
          </a:xfrm>
        </p:grpSpPr>
        <p:sp>
          <p:nvSpPr>
            <p:cNvPr id="228" name=""/>
            <p:cNvSpPr/>
            <p:nvPr/>
          </p:nvSpPr>
          <p:spPr>
            <a:xfrm>
              <a:off x="4052520" y="2362320"/>
              <a:ext cx="5752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5f5f5f"/>
                  </a:solidFill>
                  <a:latin typeface="Arial"/>
                </a:rPr>
                <a:t>L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9720" y="2590920"/>
              <a:ext cx="761760" cy="457200"/>
            </a:xfrm>
            <a:prstGeom prst="line">
              <a:avLst/>
            </a:prstGeom>
            <a:ln w="38160">
              <a:solidFill>
                <a:srgbClr val="0059b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Main features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676520"/>
            <a:ext cx="89917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Different QoS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(comparable to traditional transport technology such as A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Efficient use of the network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romptly react to traffic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Bandwidth on dem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86280" y="1981080"/>
            <a:ext cx="1714320" cy="1193760"/>
          </a:xfrm>
          <a:prstGeom prst="rect">
            <a:avLst/>
          </a:prstGeom>
          <a:solidFill>
            <a:srgbClr val="fe9b74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1981080"/>
            <a:ext cx="1714320" cy="1193760"/>
          </a:xfrm>
          <a:prstGeom prst="rect">
            <a:avLst/>
          </a:prstGeom>
          <a:solidFill>
            <a:srgbClr val="fe9b74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34640" y="79200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KEY building blocks for 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209680"/>
            <a:ext cx="17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Off-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1200" y="22543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On-line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5040" y="426708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Re-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re-e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4267080"/>
            <a:ext cx="187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Hybrid multi layer routing CoS a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21440" y="2006640"/>
            <a:ext cx="1714320" cy="1193760"/>
          </a:xfrm>
          <a:prstGeom prst="rect">
            <a:avLst/>
          </a:prstGeom>
          <a:solidFill>
            <a:srgbClr val="fe9b74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63920" y="21877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490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3280" y="22096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4902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6461280"/>
            <a:ext cx="2463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21440" y="2286000"/>
            <a:ext cx="18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99"/>
                </a:solidFill>
                <a:latin typeface="Arial"/>
              </a:rPr>
              <a:t>Bandwidth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6640" y="4419720"/>
            <a:ext cx="948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654960" y="3352680"/>
            <a:ext cx="9144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e9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2476440" y="2323800"/>
            <a:ext cx="762120" cy="2819160"/>
          </a:xfrm>
          <a:custGeom>
            <a:avLst/>
            <a:gdLst>
              <a:gd name="textAreaLeft" fmla="*/ 487080 w 762120"/>
              <a:gd name="textAreaRight" fmla="*/ 762480 w 7621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0400" y="5334120"/>
            <a:ext cx="1207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52480" y="1295280"/>
            <a:ext cx="51818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Hybrid rout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OFF-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ON-LI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approach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609480"/>
            <a:ext cx="9144000" cy="70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Hybrid rou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10960" y="2011320"/>
            <a:ext cx="3990960" cy="3228480"/>
            <a:chOff x="210960" y="2011320"/>
            <a:chExt cx="3990960" cy="3228480"/>
          </a:xfrm>
        </p:grpSpPr>
        <p:grpSp>
          <p:nvGrpSpPr>
            <p:cNvPr id="251" name=""/>
            <p:cNvGrpSpPr/>
            <p:nvPr/>
          </p:nvGrpSpPr>
          <p:grpSpPr>
            <a:xfrm>
              <a:off x="210960" y="2479680"/>
              <a:ext cx="3939840" cy="2424240"/>
              <a:chOff x="210960" y="2479680"/>
              <a:chExt cx="3939840" cy="2424240"/>
            </a:xfrm>
          </p:grpSpPr>
          <p:sp>
            <p:nvSpPr>
              <p:cNvPr id="252" name="Cloud"/>
              <p:cNvSpPr/>
              <p:nvPr/>
            </p:nvSpPr>
            <p:spPr>
              <a:xfrm>
                <a:off x="213840" y="2732040"/>
                <a:ext cx="3936960" cy="2049480"/>
              </a:xfrm>
              <a:prstGeom prst="pi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1360080" y="3866760"/>
                <a:ext cx="304920" cy="58284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466640" y="4264200"/>
                <a:ext cx="1855800" cy="9360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99920" y="3611520"/>
                <a:ext cx="754200" cy="60984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612440" y="3693960"/>
                <a:ext cx="916200" cy="1857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10800" y="3389400"/>
                <a:ext cx="411120" cy="102060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009440" y="3044520"/>
                <a:ext cx="1039680" cy="3459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2063520" y="3084480"/>
                <a:ext cx="1325520" cy="1065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528640" y="3096720"/>
                <a:ext cx="900000" cy="53028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1652040" y="3151080"/>
                <a:ext cx="252360" cy="64944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0480" y="3274920"/>
                <a:ext cx="450720" cy="1461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95120" y="2562120"/>
                <a:ext cx="0" cy="49068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3428640" y="2960280"/>
                <a:ext cx="503280" cy="1587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926640" y="4403880"/>
                <a:ext cx="370080" cy="2793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242520" y="4182840"/>
                <a:ext cx="423720" cy="2379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65000" y="4388040"/>
                <a:ext cx="459000" cy="363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8" name=""/>
              <p:cNvGrpSpPr/>
              <p:nvPr/>
            </p:nvGrpSpPr>
            <p:grpSpPr>
              <a:xfrm>
                <a:off x="3003120" y="4062600"/>
                <a:ext cx="436680" cy="327600"/>
                <a:chOff x="3003120" y="4062600"/>
                <a:chExt cx="436680" cy="327600"/>
              </a:xfrm>
            </p:grpSpPr>
            <p:pic>
              <p:nvPicPr>
                <p:cNvPr id="26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18960" y="4084560"/>
                  <a:ext cx="39528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0" name=""/>
                <p:cNvSpPr/>
                <p:nvPr/>
              </p:nvSpPr>
              <p:spPr>
                <a:xfrm>
                  <a:off x="3220560" y="4116240"/>
                  <a:ext cx="49320" cy="360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055320" y="4086000"/>
                  <a:ext cx="3524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36400" y="4100400"/>
                  <a:ext cx="698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5400000">
                  <a:off x="3008160" y="4057560"/>
                  <a:ext cx="6768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6200000">
                  <a:off x="3366720" y="4317120"/>
                  <a:ext cx="68040" cy="7812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125000" y="4268880"/>
                <a:ext cx="436320" cy="328680"/>
                <a:chOff x="1125000" y="4268880"/>
                <a:chExt cx="436320" cy="328680"/>
              </a:xfrm>
            </p:grpSpPr>
            <p:pic>
              <p:nvPicPr>
                <p:cNvPr id="27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40840" y="4291200"/>
                  <a:ext cx="39492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7" name=""/>
                <p:cNvSpPr/>
                <p:nvPr/>
              </p:nvSpPr>
              <p:spPr>
                <a:xfrm>
                  <a:off x="1342440" y="4322880"/>
                  <a:ext cx="48960" cy="363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177200" y="4292640"/>
                  <a:ext cx="35208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58280" y="4307040"/>
                  <a:ext cx="6948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5400000">
                  <a:off x="1129680" y="4264200"/>
                  <a:ext cx="68040" cy="7740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6200000">
                  <a:off x="1488240" y="4524480"/>
                  <a:ext cx="6840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431360" y="3691080"/>
                <a:ext cx="436320" cy="327600"/>
                <a:chOff x="1431360" y="3691080"/>
                <a:chExt cx="436320" cy="327600"/>
              </a:xfrm>
            </p:grpSpPr>
            <p:pic>
              <p:nvPicPr>
                <p:cNvPr id="28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47200" y="3713040"/>
                  <a:ext cx="39492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1648800" y="3744720"/>
                  <a:ext cx="48960" cy="360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483560" y="3714480"/>
                  <a:ext cx="35208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664640" y="3728880"/>
                  <a:ext cx="6948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5400000">
                  <a:off x="1436040" y="3686040"/>
                  <a:ext cx="67680" cy="7740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16200000">
                  <a:off x="1794600" y="3945600"/>
                  <a:ext cx="6804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309400" y="3513240"/>
                <a:ext cx="436680" cy="328680"/>
                <a:chOff x="2309400" y="3513240"/>
                <a:chExt cx="436680" cy="328680"/>
              </a:xfrm>
            </p:grpSpPr>
            <p:pic>
              <p:nvPicPr>
                <p:cNvPr id="29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25240" y="3535560"/>
                  <a:ext cx="39528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2526840" y="3567240"/>
                  <a:ext cx="49320" cy="363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361600" y="3537000"/>
                  <a:ext cx="3524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542680" y="3551400"/>
                  <a:ext cx="698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5400000">
                  <a:off x="2314080" y="3508200"/>
                  <a:ext cx="6804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16200000">
                  <a:off x="2672640" y="3768480"/>
                  <a:ext cx="68400" cy="7812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193560" y="2963880"/>
                <a:ext cx="436680" cy="328680"/>
                <a:chOff x="3193560" y="2963880"/>
                <a:chExt cx="436680" cy="328680"/>
              </a:xfrm>
            </p:grpSpPr>
            <p:pic>
              <p:nvPicPr>
                <p:cNvPr id="2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09400" y="2986200"/>
                  <a:ext cx="39528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3411000" y="3017880"/>
                  <a:ext cx="49320" cy="363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45760" y="2987640"/>
                  <a:ext cx="3524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426840" y="3002040"/>
                  <a:ext cx="698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5400000">
                  <a:off x="3198240" y="2958840"/>
                  <a:ext cx="6804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6200000">
                  <a:off x="3556800" y="3219120"/>
                  <a:ext cx="68400" cy="7812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650760" y="2797200"/>
                <a:ext cx="459000" cy="36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796760" y="2479680"/>
                <a:ext cx="458640" cy="363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5" name=""/>
              <p:cNvGrpSpPr/>
              <p:nvPr/>
            </p:nvGrpSpPr>
            <p:grpSpPr>
              <a:xfrm>
                <a:off x="1747440" y="2889360"/>
                <a:ext cx="436680" cy="328680"/>
                <a:chOff x="1747440" y="2889360"/>
                <a:chExt cx="436680" cy="32868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763280" y="2911680"/>
                  <a:ext cx="39528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7" name=""/>
                <p:cNvSpPr/>
                <p:nvPr/>
              </p:nvSpPr>
              <p:spPr>
                <a:xfrm>
                  <a:off x="1964880" y="2943360"/>
                  <a:ext cx="49320" cy="363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99640" y="2913120"/>
                  <a:ext cx="3524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980720" y="2927520"/>
                  <a:ext cx="698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5400000">
                  <a:off x="1752120" y="2884320"/>
                  <a:ext cx="6804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6200000">
                  <a:off x="2110680" y="3144600"/>
                  <a:ext cx="68400" cy="7812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63120" y="3240000"/>
                <a:ext cx="436680" cy="328680"/>
                <a:chOff x="663120" y="3240000"/>
                <a:chExt cx="436680" cy="328680"/>
              </a:xfrm>
            </p:grpSpPr>
            <p:pic>
              <p:nvPicPr>
                <p:cNvPr id="31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78960" y="3262320"/>
                  <a:ext cx="39528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>
                  <a:off x="880560" y="3294000"/>
                  <a:ext cx="49320" cy="363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5320" y="3263760"/>
                  <a:ext cx="3524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96400" y="3278160"/>
                  <a:ext cx="698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5400000">
                  <a:off x="667800" y="3234960"/>
                  <a:ext cx="6804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16200000">
                  <a:off x="1026360" y="3495240"/>
                  <a:ext cx="68400" cy="7812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1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6120" y="4540320"/>
                <a:ext cx="459000" cy="36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0960" y="3016440"/>
                <a:ext cx="458640" cy="36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1" name=""/>
            <p:cNvGrpSpPr/>
            <p:nvPr/>
          </p:nvGrpSpPr>
          <p:grpSpPr>
            <a:xfrm>
              <a:off x="235080" y="2011320"/>
              <a:ext cx="3966840" cy="3228480"/>
              <a:chOff x="235080" y="2011320"/>
              <a:chExt cx="3966840" cy="3228480"/>
            </a:xfrm>
          </p:grpSpPr>
          <p:sp>
            <p:nvSpPr>
              <p:cNvPr id="322" name=""/>
              <p:cNvSpPr/>
              <p:nvPr/>
            </p:nvSpPr>
            <p:spPr>
              <a:xfrm>
                <a:off x="235080" y="2571480"/>
                <a:ext cx="117720" cy="34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84560" y="2589120"/>
                <a:ext cx="3312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651240" y="2638080"/>
                <a:ext cx="14904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46640" y="2027160"/>
                <a:ext cx="21744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962360" y="2011320"/>
                <a:ext cx="666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2162520" y="2076120"/>
                <a:ext cx="11592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2328840" y="2193840"/>
                <a:ext cx="16668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353040" y="4822560"/>
                <a:ext cx="21744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669120" y="4806360"/>
                <a:ext cx="666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3853080" y="4821120"/>
                <a:ext cx="115920" cy="24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4035240" y="4773240"/>
                <a:ext cx="16668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528840" y="4890960"/>
                <a:ext cx="21744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795600" y="4941360"/>
                <a:ext cx="6660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flipV="1">
                <a:off x="979920" y="4956120"/>
                <a:ext cx="115920" cy="24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81800" y="2369160"/>
                <a:ext cx="6732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996720" y="2461680"/>
                <a:ext cx="22320" cy="23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35080" y="2111040"/>
                <a:ext cx="76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S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849240" y="3044880"/>
              <a:ext cx="2276640" cy="393480"/>
            </a:xfrm>
            <a:custGeom>
              <a:avLst/>
              <a:gdLst/>
              <a:ahLst/>
              <a:rect l="l" t="t" r="r" b="b"/>
              <a:pathLst>
                <a:path w="1434" h="248">
                  <a:moveTo>
                    <a:pt x="0" y="248"/>
                  </a:moveTo>
                  <a:cubicBezTo>
                    <a:pt x="215" y="152"/>
                    <a:pt x="431" y="56"/>
                    <a:pt x="670" y="28"/>
                  </a:cubicBezTo>
                  <a:cubicBezTo>
                    <a:pt x="909" y="0"/>
                    <a:pt x="1305" y="72"/>
                    <a:pt x="1434" y="8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90640" y="3102120"/>
              <a:ext cx="2276280" cy="393480"/>
            </a:xfrm>
            <a:custGeom>
              <a:avLst/>
              <a:gdLst/>
              <a:ahLst/>
              <a:rect l="l" t="t" r="r" b="b"/>
              <a:pathLst>
                <a:path w="1434" h="248">
                  <a:moveTo>
                    <a:pt x="0" y="248"/>
                  </a:moveTo>
                  <a:cubicBezTo>
                    <a:pt x="215" y="152"/>
                    <a:pt x="431" y="56"/>
                    <a:pt x="670" y="28"/>
                  </a:cubicBezTo>
                  <a:cubicBezTo>
                    <a:pt x="909" y="0"/>
                    <a:pt x="1305" y="72"/>
                    <a:pt x="1434" y="81"/>
                  </a:cubicBezTo>
                </a:path>
              </a:pathLst>
            </a:custGeom>
            <a:noFill/>
            <a:ln w="5724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9480" y="3457440"/>
              <a:ext cx="349200" cy="881280"/>
            </a:xfrm>
            <a:custGeom>
              <a:avLst/>
              <a:gdLst/>
              <a:ahLst/>
              <a:rect l="l" t="t" r="r" b="b"/>
              <a:pathLst>
                <a:path w="220" h="555">
                  <a:moveTo>
                    <a:pt x="0" y="0"/>
                  </a:moveTo>
                  <a:cubicBezTo>
                    <a:pt x="89" y="229"/>
                    <a:pt x="178" y="459"/>
                    <a:pt x="220" y="555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30280" y="3224160"/>
              <a:ext cx="1746360" cy="1063800"/>
            </a:xfrm>
            <a:custGeom>
              <a:avLst/>
              <a:gdLst/>
              <a:ahLst/>
              <a:rect l="l" t="t" r="r" b="b"/>
              <a:pathLst>
                <a:path w="1100" h="670">
                  <a:moveTo>
                    <a:pt x="0" y="670"/>
                  </a:moveTo>
                  <a:cubicBezTo>
                    <a:pt x="35" y="625"/>
                    <a:pt x="98" y="454"/>
                    <a:pt x="210" y="398"/>
                  </a:cubicBezTo>
                  <a:cubicBezTo>
                    <a:pt x="322" y="342"/>
                    <a:pt x="558" y="365"/>
                    <a:pt x="670" y="335"/>
                  </a:cubicBezTo>
                  <a:cubicBezTo>
                    <a:pt x="782" y="305"/>
                    <a:pt x="808" y="276"/>
                    <a:pt x="880" y="220"/>
                  </a:cubicBezTo>
                  <a:cubicBezTo>
                    <a:pt x="952" y="164"/>
                    <a:pt x="1054" y="46"/>
                    <a:pt x="1100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76280" y="3718080"/>
              <a:ext cx="2016360" cy="531720"/>
            </a:xfrm>
            <a:custGeom>
              <a:avLst/>
              <a:gdLst/>
              <a:ahLst/>
              <a:rect l="l" t="t" r="r" b="b"/>
              <a:pathLst>
                <a:path w="1270" h="335">
                  <a:moveTo>
                    <a:pt x="0" y="335"/>
                  </a:moveTo>
                  <a:cubicBezTo>
                    <a:pt x="35" y="290"/>
                    <a:pt x="79" y="117"/>
                    <a:pt x="210" y="63"/>
                  </a:cubicBezTo>
                  <a:cubicBezTo>
                    <a:pt x="341" y="9"/>
                    <a:pt x="643" y="0"/>
                    <a:pt x="788" y="14"/>
                  </a:cubicBezTo>
                  <a:cubicBezTo>
                    <a:pt x="933" y="28"/>
                    <a:pt x="1001" y="103"/>
                    <a:pt x="1081" y="150"/>
                  </a:cubicBezTo>
                  <a:cubicBezTo>
                    <a:pt x="1161" y="197"/>
                    <a:pt x="1231" y="267"/>
                    <a:pt x="1270" y="297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47760" y="3108240"/>
              <a:ext cx="581040" cy="1146240"/>
            </a:xfrm>
            <a:custGeom>
              <a:avLst/>
              <a:gdLst/>
              <a:ahLst/>
              <a:rect l="l" t="t" r="r" b="b"/>
              <a:pathLst>
                <a:path w="366" h="722">
                  <a:moveTo>
                    <a:pt x="0" y="722"/>
                  </a:moveTo>
                  <a:cubicBezTo>
                    <a:pt x="35" y="663"/>
                    <a:pt x="148" y="486"/>
                    <a:pt x="209" y="366"/>
                  </a:cubicBezTo>
                  <a:cubicBezTo>
                    <a:pt x="270" y="246"/>
                    <a:pt x="333" y="76"/>
                    <a:pt x="366" y="0"/>
                  </a:cubicBezTo>
                </a:path>
              </a:pathLst>
            </a:custGeom>
            <a:noFill/>
            <a:ln w="572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3520" y="3108240"/>
              <a:ext cx="942840" cy="1114560"/>
            </a:xfrm>
            <a:custGeom>
              <a:avLst/>
              <a:gdLst/>
              <a:ahLst/>
              <a:rect l="l" t="t" r="r" b="b"/>
              <a:pathLst>
                <a:path w="594" h="702">
                  <a:moveTo>
                    <a:pt x="489" y="702"/>
                  </a:moveTo>
                  <a:cubicBezTo>
                    <a:pt x="411" y="634"/>
                    <a:pt x="0" y="410"/>
                    <a:pt x="18" y="293"/>
                  </a:cubicBezTo>
                  <a:cubicBezTo>
                    <a:pt x="36" y="176"/>
                    <a:pt x="474" y="61"/>
                    <a:pt x="594" y="0"/>
                  </a:cubicBezTo>
                </a:path>
              </a:pathLst>
            </a:custGeom>
            <a:noFill/>
            <a:ln w="572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52560" y="3435480"/>
              <a:ext cx="349200" cy="880920"/>
            </a:xfrm>
            <a:custGeom>
              <a:avLst/>
              <a:gdLst/>
              <a:ahLst/>
              <a:rect l="l" t="t" r="r" b="b"/>
              <a:pathLst>
                <a:path w="220" h="555">
                  <a:moveTo>
                    <a:pt x="0" y="0"/>
                  </a:moveTo>
                  <a:cubicBezTo>
                    <a:pt x="89" y="229"/>
                    <a:pt x="178" y="459"/>
                    <a:pt x="220" y="555"/>
                  </a:cubicBezTo>
                </a:path>
              </a:pathLst>
            </a:custGeom>
            <a:noFill/>
            <a:ln w="5724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38360" y="3174840"/>
              <a:ext cx="1371600" cy="947880"/>
            </a:xfrm>
            <a:custGeom>
              <a:avLst/>
              <a:gdLst/>
              <a:ahLst/>
              <a:rect l="l" t="t" r="r" b="b"/>
              <a:pathLst>
                <a:path w="864" h="597">
                  <a:moveTo>
                    <a:pt x="864" y="597"/>
                  </a:moveTo>
                  <a:cubicBezTo>
                    <a:pt x="812" y="560"/>
                    <a:pt x="683" y="417"/>
                    <a:pt x="550" y="377"/>
                  </a:cubicBezTo>
                  <a:cubicBezTo>
                    <a:pt x="417" y="337"/>
                    <a:pt x="136" y="419"/>
                    <a:pt x="68" y="356"/>
                  </a:cubicBezTo>
                  <a:cubicBezTo>
                    <a:pt x="0" y="293"/>
                    <a:pt x="126" y="74"/>
                    <a:pt x="141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00040" y="4222800"/>
              <a:ext cx="1560600" cy="183960"/>
            </a:xfrm>
            <a:custGeom>
              <a:avLst/>
              <a:gdLst/>
              <a:ahLst/>
              <a:rect l="l" t="t" r="r" b="b"/>
              <a:pathLst>
                <a:path w="983" h="116">
                  <a:moveTo>
                    <a:pt x="0" y="116"/>
                  </a:moveTo>
                  <a:cubicBezTo>
                    <a:pt x="164" y="97"/>
                    <a:pt x="819" y="19"/>
                    <a:pt x="983" y="0"/>
                  </a:cubicBezTo>
                </a:path>
              </a:pathLst>
            </a:custGeom>
            <a:noFill/>
            <a:ln w="572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30280" y="4138560"/>
              <a:ext cx="1546200" cy="233280"/>
            </a:xfrm>
            <a:custGeom>
              <a:avLst/>
              <a:gdLst/>
              <a:ahLst/>
              <a:rect l="l" t="t" r="r" b="b"/>
              <a:pathLst>
                <a:path w="974" h="147">
                  <a:moveTo>
                    <a:pt x="0" y="147"/>
                  </a:moveTo>
                  <a:cubicBezTo>
                    <a:pt x="162" y="123"/>
                    <a:pt x="812" y="24"/>
                    <a:pt x="974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71480" y="3218040"/>
              <a:ext cx="1641600" cy="558720"/>
            </a:xfrm>
            <a:custGeom>
              <a:avLst/>
              <a:gdLst/>
              <a:ahLst/>
              <a:rect l="l" t="t" r="r" b="b"/>
              <a:pathLst>
                <a:path w="1034" h="352">
                  <a:moveTo>
                    <a:pt x="131" y="4"/>
                  </a:moveTo>
                  <a:cubicBezTo>
                    <a:pt x="122" y="53"/>
                    <a:pt x="0" y="242"/>
                    <a:pt x="79" y="297"/>
                  </a:cubicBezTo>
                  <a:cubicBezTo>
                    <a:pt x="158" y="352"/>
                    <a:pt x="482" y="348"/>
                    <a:pt x="604" y="335"/>
                  </a:cubicBezTo>
                  <a:cubicBezTo>
                    <a:pt x="726" y="322"/>
                    <a:pt x="742" y="276"/>
                    <a:pt x="814" y="220"/>
                  </a:cubicBezTo>
                  <a:cubicBezTo>
                    <a:pt x="886" y="164"/>
                    <a:pt x="988" y="46"/>
                    <a:pt x="1034" y="0"/>
                  </a:cubicBezTo>
                </a:path>
              </a:pathLst>
            </a:custGeom>
            <a:noFill/>
            <a:ln w="5724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34800" y="1577880"/>
            <a:ext cx="38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Times New Roman"/>
              </a:rPr>
              <a:t>Expected LSP Traffic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52840" y="1400040"/>
            <a:ext cx="4599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2"/>
                </a:solidFill>
                <a:latin typeface="Times New Roman"/>
              </a:rPr>
              <a:t>Off-line Path Provi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2"/>
                </a:solidFill>
                <a:latin typeface="Times New Roman"/>
              </a:rPr>
              <a:t>On the basis of traffic statistics, it is possible to configure optical channels (lightpaths), by accommodating expected L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2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82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82"/>
                </a:solidFill>
                <a:latin typeface="Times New Roman"/>
              </a:rPr>
              <a:t>configuration opt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609480"/>
            <a:ext cx="9144000" cy="70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33"/>
                </a:solidFill>
                <a:latin typeface="Arial"/>
              </a:rPr>
              <a:t>Hybrid routing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10960" y="2479680"/>
            <a:ext cx="3939840" cy="2424240"/>
            <a:chOff x="210960" y="2479680"/>
            <a:chExt cx="3939840" cy="2424240"/>
          </a:xfrm>
        </p:grpSpPr>
        <p:grpSp>
          <p:nvGrpSpPr>
            <p:cNvPr id="355" name=""/>
            <p:cNvGrpSpPr/>
            <p:nvPr/>
          </p:nvGrpSpPr>
          <p:grpSpPr>
            <a:xfrm>
              <a:off x="210960" y="2479680"/>
              <a:ext cx="3939840" cy="2424240"/>
              <a:chOff x="210960" y="2479680"/>
              <a:chExt cx="3939840" cy="2424240"/>
            </a:xfrm>
          </p:grpSpPr>
          <p:sp>
            <p:nvSpPr>
              <p:cNvPr id="356" name="Cloud"/>
              <p:cNvSpPr/>
              <p:nvPr/>
            </p:nvSpPr>
            <p:spPr>
              <a:xfrm>
                <a:off x="213840" y="2732040"/>
                <a:ext cx="3936960" cy="2049480"/>
              </a:xfrm>
              <a:prstGeom prst="pi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360080" y="3866760"/>
                <a:ext cx="304920" cy="58284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466640" y="4264200"/>
                <a:ext cx="1855800" cy="9360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99920" y="3611520"/>
                <a:ext cx="754200" cy="60984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612440" y="3693960"/>
                <a:ext cx="916200" cy="1857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910800" y="3389400"/>
                <a:ext cx="411120" cy="102060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009440" y="3044520"/>
                <a:ext cx="1039680" cy="3459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2063520" y="3084480"/>
                <a:ext cx="1325520" cy="1065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28640" y="3096720"/>
                <a:ext cx="900000" cy="53028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1652040" y="3151080"/>
                <a:ext cx="252360" cy="64944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20480" y="3274920"/>
                <a:ext cx="450720" cy="1461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95120" y="2562120"/>
                <a:ext cx="0" cy="49068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3428640" y="2960280"/>
                <a:ext cx="503280" cy="1587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926640" y="4403880"/>
                <a:ext cx="370080" cy="2793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3242520" y="4182840"/>
                <a:ext cx="423720" cy="237960"/>
              </a:xfrm>
              <a:prstGeom prst="line">
                <a:avLst/>
              </a:prstGeom>
              <a:ln w="5724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65000" y="4388040"/>
                <a:ext cx="459000" cy="363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2" name=""/>
              <p:cNvGrpSpPr/>
              <p:nvPr/>
            </p:nvGrpSpPr>
            <p:grpSpPr>
              <a:xfrm>
                <a:off x="3003120" y="4062600"/>
                <a:ext cx="436680" cy="327600"/>
                <a:chOff x="3003120" y="4062600"/>
                <a:chExt cx="436680" cy="327600"/>
              </a:xfrm>
            </p:grpSpPr>
            <p:pic>
              <p:nvPicPr>
                <p:cNvPr id="37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18960" y="4084560"/>
                  <a:ext cx="39528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" name=""/>
                <p:cNvSpPr/>
                <p:nvPr/>
              </p:nvSpPr>
              <p:spPr>
                <a:xfrm>
                  <a:off x="3220560" y="4116240"/>
                  <a:ext cx="49320" cy="360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55320" y="4086000"/>
                  <a:ext cx="3524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236400" y="4100400"/>
                  <a:ext cx="698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5400000">
                  <a:off x="3008160" y="4057560"/>
                  <a:ext cx="6768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6200000">
                  <a:off x="3366720" y="4317120"/>
                  <a:ext cx="68040" cy="7812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1125000" y="4268880"/>
                <a:ext cx="436320" cy="328680"/>
                <a:chOff x="1125000" y="4268880"/>
                <a:chExt cx="436320" cy="328680"/>
              </a:xfrm>
            </p:grpSpPr>
            <p:pic>
              <p:nvPicPr>
                <p:cNvPr id="38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40840" y="4291200"/>
                  <a:ext cx="39492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1" name=""/>
                <p:cNvSpPr/>
                <p:nvPr/>
              </p:nvSpPr>
              <p:spPr>
                <a:xfrm>
                  <a:off x="1342440" y="4322880"/>
                  <a:ext cx="48960" cy="363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77200" y="4292640"/>
                  <a:ext cx="35208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358280" y="4307040"/>
                  <a:ext cx="6948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5400000">
                  <a:off x="1129680" y="4264200"/>
                  <a:ext cx="68040" cy="7740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6200000">
                  <a:off x="1488240" y="4524480"/>
                  <a:ext cx="6840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431360" y="3691080"/>
                <a:ext cx="436320" cy="327600"/>
                <a:chOff x="1431360" y="3691080"/>
                <a:chExt cx="436320" cy="327600"/>
              </a:xfrm>
            </p:grpSpPr>
            <p:pic>
              <p:nvPicPr>
                <p:cNvPr id="3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47200" y="3713040"/>
                  <a:ext cx="394920" cy="28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8" name=""/>
                <p:cNvSpPr/>
                <p:nvPr/>
              </p:nvSpPr>
              <p:spPr>
                <a:xfrm>
                  <a:off x="1648800" y="3744720"/>
                  <a:ext cx="48960" cy="360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483560" y="3714480"/>
                  <a:ext cx="35208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664640" y="3728880"/>
                  <a:ext cx="6948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5400000">
                  <a:off x="1436040" y="3686040"/>
                  <a:ext cx="67680" cy="7740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16200000">
                  <a:off x="1794600" y="3945600"/>
                  <a:ext cx="6804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309400" y="3513240"/>
                <a:ext cx="436680" cy="328680"/>
                <a:chOff x="2309400" y="3513240"/>
                <a:chExt cx="436680" cy="328680"/>
              </a:xfrm>
            </p:grpSpPr>
            <p:pic>
              <p:nvPicPr>
                <p:cNvPr id="39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25240" y="3535560"/>
                  <a:ext cx="39528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2526840" y="3567240"/>
                  <a:ext cx="49320" cy="363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361600" y="3537000"/>
                  <a:ext cx="3524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542680" y="3551400"/>
                  <a:ext cx="698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5400000">
                  <a:off x="2314080" y="3508200"/>
                  <a:ext cx="6804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16200000">
                  <a:off x="2672640" y="3768480"/>
                  <a:ext cx="68400" cy="7812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193560" y="2963880"/>
                <a:ext cx="436680" cy="328680"/>
                <a:chOff x="3193560" y="2963880"/>
                <a:chExt cx="436680" cy="328680"/>
              </a:xfrm>
            </p:grpSpPr>
            <p:pic>
              <p:nvPicPr>
                <p:cNvPr id="4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09400" y="2986200"/>
                  <a:ext cx="39528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2" name=""/>
                <p:cNvSpPr/>
                <p:nvPr/>
              </p:nvSpPr>
              <p:spPr>
                <a:xfrm>
                  <a:off x="3411000" y="3017880"/>
                  <a:ext cx="49320" cy="363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245760" y="2987640"/>
                  <a:ext cx="3524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426840" y="3002040"/>
                  <a:ext cx="698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rot="5400000">
                  <a:off x="3198240" y="2958840"/>
                  <a:ext cx="6804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6200000">
                  <a:off x="3556800" y="3219120"/>
                  <a:ext cx="68400" cy="7812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650760" y="2797200"/>
                <a:ext cx="459000" cy="36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796760" y="2479680"/>
                <a:ext cx="458640" cy="363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9" name=""/>
              <p:cNvGrpSpPr/>
              <p:nvPr/>
            </p:nvGrpSpPr>
            <p:grpSpPr>
              <a:xfrm>
                <a:off x="1747440" y="2889360"/>
                <a:ext cx="436680" cy="328680"/>
                <a:chOff x="1747440" y="2889360"/>
                <a:chExt cx="436680" cy="328680"/>
              </a:xfrm>
            </p:grpSpPr>
            <p:pic>
              <p:nvPicPr>
                <p:cNvPr id="41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763280" y="2911680"/>
                  <a:ext cx="39528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1" name=""/>
                <p:cNvSpPr/>
                <p:nvPr/>
              </p:nvSpPr>
              <p:spPr>
                <a:xfrm>
                  <a:off x="1964880" y="2943360"/>
                  <a:ext cx="49320" cy="363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799640" y="2913120"/>
                  <a:ext cx="3524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980720" y="2927520"/>
                  <a:ext cx="698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rot="5400000">
                  <a:off x="1752120" y="2884320"/>
                  <a:ext cx="6804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16200000">
                  <a:off x="2110680" y="3144600"/>
                  <a:ext cx="68400" cy="7812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663120" y="3240000"/>
                <a:ext cx="436680" cy="328680"/>
                <a:chOff x="663120" y="3240000"/>
                <a:chExt cx="436680" cy="328680"/>
              </a:xfrm>
            </p:grpSpPr>
            <p:pic>
              <p:nvPicPr>
                <p:cNvPr id="41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78960" y="3262320"/>
                  <a:ext cx="39528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>
                  <a:off x="880560" y="3294000"/>
                  <a:ext cx="49320" cy="363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15320" y="3263760"/>
                  <a:ext cx="352440" cy="0"/>
                </a:xfrm>
                <a:prstGeom prst="line">
                  <a:avLst/>
                </a:prstGeom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96400" y="3278160"/>
                  <a:ext cx="69840" cy="0"/>
                </a:xfrm>
                <a:prstGeom prst="line">
                  <a:avLst/>
                </a:prstGeom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5400000">
                  <a:off x="667800" y="3234960"/>
                  <a:ext cx="68040" cy="7776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rot="16200000">
                  <a:off x="1026360" y="3495240"/>
                  <a:ext cx="68400" cy="78120"/>
                </a:xfrm>
                <a:prstGeom prst="rtTriangl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2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6120" y="4540320"/>
                <a:ext cx="459000" cy="36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0960" y="3016440"/>
                <a:ext cx="458640" cy="363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5" name=""/>
            <p:cNvSpPr/>
            <p:nvPr/>
          </p:nvSpPr>
          <p:spPr>
            <a:xfrm>
              <a:off x="849240" y="3044880"/>
              <a:ext cx="2276640" cy="393480"/>
            </a:xfrm>
            <a:custGeom>
              <a:avLst/>
              <a:gdLst/>
              <a:ahLst/>
              <a:rect l="l" t="t" r="r" b="b"/>
              <a:pathLst>
                <a:path w="1434" h="248">
                  <a:moveTo>
                    <a:pt x="0" y="248"/>
                  </a:moveTo>
                  <a:cubicBezTo>
                    <a:pt x="215" y="152"/>
                    <a:pt x="431" y="56"/>
                    <a:pt x="670" y="28"/>
                  </a:cubicBezTo>
                  <a:cubicBezTo>
                    <a:pt x="909" y="0"/>
                    <a:pt x="1305" y="72"/>
                    <a:pt x="1434" y="8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90640" y="3102120"/>
              <a:ext cx="2276280" cy="393480"/>
            </a:xfrm>
            <a:custGeom>
              <a:avLst/>
              <a:gdLst/>
              <a:ahLst/>
              <a:rect l="l" t="t" r="r" b="b"/>
              <a:pathLst>
                <a:path w="1434" h="248">
                  <a:moveTo>
                    <a:pt x="0" y="248"/>
                  </a:moveTo>
                  <a:cubicBezTo>
                    <a:pt x="215" y="152"/>
                    <a:pt x="431" y="56"/>
                    <a:pt x="670" y="28"/>
                  </a:cubicBezTo>
                  <a:cubicBezTo>
                    <a:pt x="909" y="0"/>
                    <a:pt x="1305" y="72"/>
                    <a:pt x="1434" y="81"/>
                  </a:cubicBezTo>
                </a:path>
              </a:pathLst>
            </a:custGeom>
            <a:noFill/>
            <a:ln w="5724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9480" y="3457440"/>
              <a:ext cx="349200" cy="881280"/>
            </a:xfrm>
            <a:custGeom>
              <a:avLst/>
              <a:gdLst/>
              <a:ahLst/>
              <a:rect l="l" t="t" r="r" b="b"/>
              <a:pathLst>
                <a:path w="220" h="555">
                  <a:moveTo>
                    <a:pt x="0" y="0"/>
                  </a:moveTo>
                  <a:cubicBezTo>
                    <a:pt x="89" y="229"/>
                    <a:pt x="178" y="459"/>
                    <a:pt x="220" y="555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30280" y="3224160"/>
              <a:ext cx="1746360" cy="1063800"/>
            </a:xfrm>
            <a:custGeom>
              <a:avLst/>
              <a:gdLst/>
              <a:ahLst/>
              <a:rect l="l" t="t" r="r" b="b"/>
              <a:pathLst>
                <a:path w="1100" h="670">
                  <a:moveTo>
                    <a:pt x="0" y="670"/>
                  </a:moveTo>
                  <a:cubicBezTo>
                    <a:pt x="35" y="625"/>
                    <a:pt x="98" y="454"/>
                    <a:pt x="210" y="398"/>
                  </a:cubicBezTo>
                  <a:cubicBezTo>
                    <a:pt x="322" y="342"/>
                    <a:pt x="558" y="365"/>
                    <a:pt x="670" y="335"/>
                  </a:cubicBezTo>
                  <a:cubicBezTo>
                    <a:pt x="782" y="305"/>
                    <a:pt x="808" y="276"/>
                    <a:pt x="880" y="220"/>
                  </a:cubicBezTo>
                  <a:cubicBezTo>
                    <a:pt x="952" y="164"/>
                    <a:pt x="1054" y="46"/>
                    <a:pt x="1100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76280" y="3718080"/>
              <a:ext cx="2016360" cy="531720"/>
            </a:xfrm>
            <a:custGeom>
              <a:avLst/>
              <a:gdLst/>
              <a:ahLst/>
              <a:rect l="l" t="t" r="r" b="b"/>
              <a:pathLst>
                <a:path w="1270" h="335">
                  <a:moveTo>
                    <a:pt x="0" y="335"/>
                  </a:moveTo>
                  <a:cubicBezTo>
                    <a:pt x="35" y="290"/>
                    <a:pt x="79" y="117"/>
                    <a:pt x="210" y="63"/>
                  </a:cubicBezTo>
                  <a:cubicBezTo>
                    <a:pt x="341" y="9"/>
                    <a:pt x="643" y="0"/>
                    <a:pt x="788" y="14"/>
                  </a:cubicBezTo>
                  <a:cubicBezTo>
                    <a:pt x="933" y="28"/>
                    <a:pt x="1001" y="103"/>
                    <a:pt x="1081" y="150"/>
                  </a:cubicBezTo>
                  <a:cubicBezTo>
                    <a:pt x="1161" y="197"/>
                    <a:pt x="1231" y="267"/>
                    <a:pt x="1270" y="297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47760" y="3108240"/>
              <a:ext cx="581040" cy="1146240"/>
            </a:xfrm>
            <a:custGeom>
              <a:avLst/>
              <a:gdLst/>
              <a:ahLst/>
              <a:rect l="l" t="t" r="r" b="b"/>
              <a:pathLst>
                <a:path w="366" h="722">
                  <a:moveTo>
                    <a:pt x="0" y="722"/>
                  </a:moveTo>
                  <a:cubicBezTo>
                    <a:pt x="35" y="663"/>
                    <a:pt x="148" y="486"/>
                    <a:pt x="209" y="366"/>
                  </a:cubicBezTo>
                  <a:cubicBezTo>
                    <a:pt x="270" y="246"/>
                    <a:pt x="333" y="76"/>
                    <a:pt x="366" y="0"/>
                  </a:cubicBezTo>
                </a:path>
              </a:pathLst>
            </a:custGeom>
            <a:noFill/>
            <a:ln w="572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03520" y="3108240"/>
              <a:ext cx="942840" cy="1114560"/>
            </a:xfrm>
            <a:custGeom>
              <a:avLst/>
              <a:gdLst/>
              <a:ahLst/>
              <a:rect l="l" t="t" r="r" b="b"/>
              <a:pathLst>
                <a:path w="594" h="702">
                  <a:moveTo>
                    <a:pt x="489" y="702"/>
                  </a:moveTo>
                  <a:cubicBezTo>
                    <a:pt x="411" y="634"/>
                    <a:pt x="0" y="410"/>
                    <a:pt x="18" y="293"/>
                  </a:cubicBezTo>
                  <a:cubicBezTo>
                    <a:pt x="36" y="176"/>
                    <a:pt x="474" y="61"/>
                    <a:pt x="594" y="0"/>
                  </a:cubicBezTo>
                </a:path>
              </a:pathLst>
            </a:custGeom>
            <a:noFill/>
            <a:ln w="572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52560" y="3435480"/>
              <a:ext cx="349200" cy="880920"/>
            </a:xfrm>
            <a:custGeom>
              <a:avLst/>
              <a:gdLst/>
              <a:ahLst/>
              <a:rect l="l" t="t" r="r" b="b"/>
              <a:pathLst>
                <a:path w="220" h="555">
                  <a:moveTo>
                    <a:pt x="0" y="0"/>
                  </a:moveTo>
                  <a:cubicBezTo>
                    <a:pt x="89" y="229"/>
                    <a:pt x="178" y="459"/>
                    <a:pt x="220" y="555"/>
                  </a:cubicBezTo>
                </a:path>
              </a:pathLst>
            </a:custGeom>
            <a:noFill/>
            <a:ln w="5724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38360" y="3174840"/>
              <a:ext cx="1371600" cy="947880"/>
            </a:xfrm>
            <a:custGeom>
              <a:avLst/>
              <a:gdLst/>
              <a:ahLst/>
              <a:rect l="l" t="t" r="r" b="b"/>
              <a:pathLst>
                <a:path w="864" h="597">
                  <a:moveTo>
                    <a:pt x="864" y="597"/>
                  </a:moveTo>
                  <a:cubicBezTo>
                    <a:pt x="812" y="560"/>
                    <a:pt x="683" y="417"/>
                    <a:pt x="550" y="377"/>
                  </a:cubicBezTo>
                  <a:cubicBezTo>
                    <a:pt x="417" y="337"/>
                    <a:pt x="136" y="419"/>
                    <a:pt x="68" y="356"/>
                  </a:cubicBezTo>
                  <a:cubicBezTo>
                    <a:pt x="0" y="293"/>
                    <a:pt x="126" y="74"/>
                    <a:pt x="141" y="0"/>
                  </a:cubicBezTo>
                </a:path>
              </a:pathLst>
            </a:custGeom>
            <a:noFill/>
            <a:ln w="5724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00040" y="4222800"/>
              <a:ext cx="1560600" cy="183960"/>
            </a:xfrm>
            <a:custGeom>
              <a:avLst/>
              <a:gdLst/>
              <a:ahLst/>
              <a:rect l="l" t="t" r="r" b="b"/>
              <a:pathLst>
                <a:path w="983" h="116">
                  <a:moveTo>
                    <a:pt x="0" y="116"/>
                  </a:moveTo>
                  <a:cubicBezTo>
                    <a:pt x="164" y="97"/>
                    <a:pt x="819" y="19"/>
                    <a:pt x="983" y="0"/>
                  </a:cubicBezTo>
                </a:path>
              </a:pathLst>
            </a:custGeom>
            <a:noFill/>
            <a:ln w="572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30280" y="4138560"/>
              <a:ext cx="1546200" cy="233280"/>
            </a:xfrm>
            <a:custGeom>
              <a:avLst/>
              <a:gdLst/>
              <a:ahLst/>
              <a:rect l="l" t="t" r="r" b="b"/>
              <a:pathLst>
                <a:path w="974" h="147">
                  <a:moveTo>
                    <a:pt x="0" y="147"/>
                  </a:moveTo>
                  <a:cubicBezTo>
                    <a:pt x="162" y="123"/>
                    <a:pt x="812" y="24"/>
                    <a:pt x="974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71480" y="3218040"/>
              <a:ext cx="1641600" cy="558720"/>
            </a:xfrm>
            <a:custGeom>
              <a:avLst/>
              <a:gdLst/>
              <a:ahLst/>
              <a:rect l="l" t="t" r="r" b="b"/>
              <a:pathLst>
                <a:path w="1034" h="352">
                  <a:moveTo>
                    <a:pt x="131" y="4"/>
                  </a:moveTo>
                  <a:cubicBezTo>
                    <a:pt x="122" y="53"/>
                    <a:pt x="0" y="242"/>
                    <a:pt x="79" y="297"/>
                  </a:cubicBezTo>
                  <a:cubicBezTo>
                    <a:pt x="158" y="352"/>
                    <a:pt x="482" y="348"/>
                    <a:pt x="604" y="335"/>
                  </a:cubicBezTo>
                  <a:cubicBezTo>
                    <a:pt x="726" y="322"/>
                    <a:pt x="742" y="276"/>
                    <a:pt x="814" y="220"/>
                  </a:cubicBezTo>
                  <a:cubicBezTo>
                    <a:pt x="886" y="164"/>
                    <a:pt x="988" y="46"/>
                    <a:pt x="1034" y="0"/>
                  </a:cubicBezTo>
                </a:path>
              </a:pathLst>
            </a:custGeom>
            <a:noFill/>
            <a:ln w="5724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79440" y="2576520"/>
            <a:ext cx="3294000" cy="2544840"/>
          </a:xfrm>
          <a:custGeom>
            <a:avLst/>
            <a:gdLst/>
            <a:ahLst/>
            <a:rect l="l" t="t" r="r" b="b"/>
            <a:pathLst>
              <a:path w="2075" h="1603">
                <a:moveTo>
                  <a:pt x="23" y="0"/>
                </a:moveTo>
                <a:lnTo>
                  <a:pt x="23" y="262"/>
                </a:lnTo>
                <a:cubicBezTo>
                  <a:pt x="46" y="337"/>
                  <a:pt x="0" y="449"/>
                  <a:pt x="159" y="451"/>
                </a:cubicBezTo>
                <a:cubicBezTo>
                  <a:pt x="318" y="453"/>
                  <a:pt x="686" y="305"/>
                  <a:pt x="976" y="273"/>
                </a:cubicBezTo>
                <a:cubicBezTo>
                  <a:pt x="1266" y="241"/>
                  <a:pt x="1728" y="236"/>
                  <a:pt x="1897" y="262"/>
                </a:cubicBezTo>
                <a:cubicBezTo>
                  <a:pt x="2066" y="288"/>
                  <a:pt x="2074" y="362"/>
                  <a:pt x="1992" y="430"/>
                </a:cubicBezTo>
                <a:cubicBezTo>
                  <a:pt x="1910" y="498"/>
                  <a:pt x="1393" y="544"/>
                  <a:pt x="1405" y="671"/>
                </a:cubicBezTo>
                <a:cubicBezTo>
                  <a:pt x="1417" y="798"/>
                  <a:pt x="1953" y="1039"/>
                  <a:pt x="2065" y="1194"/>
                </a:cubicBezTo>
                <a:lnTo>
                  <a:pt x="2075" y="1603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52840" y="3860640"/>
            <a:ext cx="459900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f5f5f"/>
                </a:solidFill>
                <a:latin typeface="Arial"/>
              </a:rPr>
              <a:t>On-line Path Sel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During the normal network operation, it is possible to accommodate on-demand the LSP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59b8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59b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59b8"/>
                </a:solidFill>
                <a:latin typeface="Arial"/>
              </a:rPr>
              <a:t>actual link state information explo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9280" y="1577880"/>
            <a:ext cx="33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5f5f"/>
                </a:solidFill>
                <a:latin typeface="Times New Roman"/>
              </a:rPr>
              <a:t>Actual LSP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52840" y="1400040"/>
            <a:ext cx="4599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Off-line Path Provi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On the basis of traffic statistics, it is possible to configure optical channels (lightpaths), by accommodating expected LS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9b8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59b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59b8"/>
                </a:solidFill>
                <a:latin typeface="Arial"/>
              </a:rPr>
              <a:t>configuration opt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476280" y="3700440"/>
            <a:ext cx="3592080" cy="2320560"/>
            <a:chOff x="476280" y="3700440"/>
            <a:chExt cx="3592080" cy="2320560"/>
          </a:xfrm>
        </p:grpSpPr>
        <p:sp>
          <p:nvSpPr>
            <p:cNvPr id="442" name=""/>
            <p:cNvSpPr/>
            <p:nvPr/>
          </p:nvSpPr>
          <p:spPr>
            <a:xfrm flipV="1">
              <a:off x="714240" y="4392360"/>
              <a:ext cx="434880" cy="11160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35160" y="4503600"/>
              <a:ext cx="1012680" cy="2509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57080" y="4776120"/>
              <a:ext cx="1481040" cy="692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281320" y="4444920"/>
              <a:ext cx="1388880" cy="15350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313000" y="4457520"/>
              <a:ext cx="1295280" cy="285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346120" y="5625720"/>
              <a:ext cx="1127160" cy="3538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641400" y="4492440"/>
              <a:ext cx="176040" cy="1174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1184040" y="3923640"/>
              <a:ext cx="5040" cy="544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293920" y="5329080"/>
              <a:ext cx="3240" cy="503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565440" y="5138640"/>
              <a:ext cx="0" cy="458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6040" y="5048280"/>
              <a:ext cx="0" cy="5108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89360" y="3997080"/>
              <a:ext cx="0" cy="3985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4" name="" descr=""/>
            <p:cNvPicPr/>
            <p:nvPr/>
          </p:nvPicPr>
          <p:blipFill>
            <a:blip r:embed="rId1"/>
            <a:stretch/>
          </p:blipFill>
          <p:spPr>
            <a:xfrm>
              <a:off x="3533760" y="3700440"/>
              <a:ext cx="50796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"/>
            <p:cNvGrpSpPr/>
            <p:nvPr/>
          </p:nvGrpSpPr>
          <p:grpSpPr>
            <a:xfrm>
              <a:off x="3309840" y="5487840"/>
              <a:ext cx="526680" cy="315720"/>
              <a:chOff x="3309840" y="5487840"/>
              <a:chExt cx="526680" cy="315720"/>
            </a:xfrm>
          </p:grpSpPr>
          <p:pic>
            <p:nvPicPr>
              <p:cNvPr id="4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09840" y="5487840"/>
                <a:ext cx="526680" cy="31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3579480" y="5522760"/>
                <a:ext cx="64800" cy="39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357720" y="5489640"/>
                <a:ext cx="4705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599280" y="5504040"/>
                <a:ext cx="9288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543120" y="4190760"/>
              <a:ext cx="525240" cy="315720"/>
              <a:chOff x="3543120" y="4190760"/>
              <a:chExt cx="525240" cy="315720"/>
            </a:xfrm>
          </p:grpSpPr>
          <p:pic>
            <p:nvPicPr>
              <p:cNvPr id="4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43120" y="4190760"/>
                <a:ext cx="525240" cy="31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3812040" y="4225680"/>
                <a:ext cx="64800" cy="39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90640" y="4192560"/>
                <a:ext cx="469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31840" y="4206960"/>
                <a:ext cx="9288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927000" y="4309920"/>
              <a:ext cx="526680" cy="315720"/>
              <a:chOff x="927000" y="4309920"/>
              <a:chExt cx="526680" cy="315720"/>
            </a:xfrm>
          </p:grpSpPr>
          <p:pic>
            <p:nvPicPr>
              <p:cNvPr id="4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27000" y="4309920"/>
                <a:ext cx="526680" cy="31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1196640" y="4344840"/>
                <a:ext cx="64800" cy="39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74880" y="4311720"/>
                <a:ext cx="4705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16440" y="4326120"/>
                <a:ext cx="9288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2103480" y="4549680"/>
              <a:ext cx="526680" cy="317160"/>
              <a:chOff x="2103480" y="4549680"/>
              <a:chExt cx="526680" cy="317160"/>
            </a:xfrm>
          </p:grpSpPr>
          <p:pic>
            <p:nvPicPr>
              <p:cNvPr id="4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03480" y="4549680"/>
                <a:ext cx="52668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2373120" y="4584600"/>
                <a:ext cx="64800" cy="39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151360" y="4551480"/>
                <a:ext cx="4705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92920" y="4565880"/>
                <a:ext cx="9288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5" name="" descr=""/>
            <p:cNvPicPr/>
            <p:nvPr/>
          </p:nvPicPr>
          <p:blipFill>
            <a:blip r:embed="rId6"/>
            <a:stretch/>
          </p:blipFill>
          <p:spPr>
            <a:xfrm>
              <a:off x="938160" y="3805200"/>
              <a:ext cx="5112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7"/>
            <a:stretch/>
          </p:blipFill>
          <p:spPr>
            <a:xfrm>
              <a:off x="2052720" y="5149800"/>
              <a:ext cx="5108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8"/>
            <a:stretch/>
          </p:blipFill>
          <p:spPr>
            <a:xfrm>
              <a:off x="3306600" y="4933800"/>
              <a:ext cx="5112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927000" y="5638680"/>
              <a:ext cx="1216080" cy="374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2019240" y="5703840"/>
              <a:ext cx="526680" cy="317160"/>
              <a:chOff x="2019240" y="5703840"/>
              <a:chExt cx="526680" cy="317160"/>
            </a:xfrm>
          </p:grpSpPr>
          <p:pic>
            <p:nvPicPr>
              <p:cNvPr id="48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019240" y="5703840"/>
                <a:ext cx="52668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2288880" y="5738760"/>
                <a:ext cx="64800" cy="39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067120" y="5705640"/>
                <a:ext cx="4705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8680" y="5720040"/>
                <a:ext cx="9288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476280" y="5408640"/>
              <a:ext cx="524880" cy="316800"/>
              <a:chOff x="476280" y="5408640"/>
              <a:chExt cx="524880" cy="316800"/>
            </a:xfrm>
          </p:grpSpPr>
          <p:pic>
            <p:nvPicPr>
              <p:cNvPr id="4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6280" y="5408640"/>
                <a:ext cx="52488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744840" y="5443560"/>
                <a:ext cx="64800" cy="39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23800" y="5410440"/>
                <a:ext cx="469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64640" y="5424840"/>
                <a:ext cx="92520" cy="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9" name="" descr=""/>
            <p:cNvPicPr/>
            <p:nvPr/>
          </p:nvPicPr>
          <p:blipFill>
            <a:blip r:embed="rId11"/>
            <a:stretch/>
          </p:blipFill>
          <p:spPr>
            <a:xfrm>
              <a:off x="487440" y="4848120"/>
              <a:ext cx="5112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0" name=""/>
          <p:cNvSpPr/>
          <p:nvPr/>
        </p:nvSpPr>
        <p:spPr>
          <a:xfrm>
            <a:off x="0" y="609480"/>
            <a:ext cx="9144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Global Path Provisioning</a:t>
            </a:r>
            <a:r>
              <a:rPr b="1" lang="it-IT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56000" y="3432240"/>
            <a:ext cx="45849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In order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inimize employed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Balance the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(Spare resources can be used for optical restoration or when a significant change of traffic volume occu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09520" y="1523880"/>
            <a:ext cx="2087640" cy="1128600"/>
            <a:chOff x="209520" y="1523880"/>
            <a:chExt cx="2087640" cy="1128600"/>
          </a:xfrm>
        </p:grpSpPr>
        <p:sp>
          <p:nvSpPr>
            <p:cNvPr id="493" name=""/>
            <p:cNvSpPr/>
            <p:nvPr/>
          </p:nvSpPr>
          <p:spPr>
            <a:xfrm>
              <a:off x="209520" y="2373120"/>
              <a:ext cx="37152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25640" y="2060280"/>
              <a:ext cx="37152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2680" y="1950840"/>
              <a:ext cx="37116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62080" y="2257200"/>
              <a:ext cx="37152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84280" y="1618920"/>
              <a:ext cx="37152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8440" y="1523880"/>
              <a:ext cx="371520" cy="279360"/>
            </a:xfrm>
            <a:prstGeom prst="ellipse">
              <a:avLst/>
            </a:prstGeom>
            <a:solidFill>
              <a:srgbClr val="f9c493"/>
            </a:solidFill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95280" y="1676160"/>
              <a:ext cx="293760" cy="80496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6800" y="1692000"/>
              <a:ext cx="92160" cy="46368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441360" y="2079360"/>
              <a:ext cx="479520" cy="51120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09680" y="1722240"/>
              <a:ext cx="387360" cy="66672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936720" y="1784160"/>
              <a:ext cx="620640" cy="27936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417680" y="2155680"/>
              <a:ext cx="666720" cy="24912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89200" y="1815840"/>
              <a:ext cx="325440" cy="32544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452520" y="2357280"/>
              <a:ext cx="806400" cy="13968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2880" y="1644480"/>
              <a:ext cx="884160" cy="77760"/>
            </a:xfrm>
            <a:prstGeom prst="line">
              <a:avLst/>
            </a:prstGeom>
            <a:ln w="9360">
              <a:solidFill>
                <a:srgbClr val="f9c4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6320" y="1557360"/>
            <a:ext cx="3163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hysical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LSP traffic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43400" y="1355760"/>
            <a:ext cx="32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Logical topology design (Routes for lightpa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16080" y="1349280"/>
            <a:ext cx="2089440" cy="1470240"/>
          </a:xfrm>
          <a:prstGeom prst="rightArrow">
            <a:avLst>
              <a:gd name="adj1" fmla="val 50000"/>
              <a:gd name="adj2" fmla="val 35529"/>
            </a:avLst>
          </a:prstGeom>
          <a:gradFill rotWithShape="0">
            <a:gsLst>
              <a:gs pos="0">
                <a:srgbClr val="99ccff"/>
              </a:gs>
              <a:gs pos="100000">
                <a:srgbClr val="e7f2fe"/>
              </a:gs>
            </a:gsLst>
            <a:lin ang="10800000"/>
          </a:gradFill>
          <a:ln w="9360">
            <a:solidFill>
              <a:srgbClr val="005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Global </a:t>
            </a:r>
            <a:br>
              <a:rPr sz="2400"/>
            </a:b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ovi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2900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6e35"/>
                </a:solidFill>
                <a:latin typeface="Arial"/>
              </a:rPr>
              <a:t>Goal: minimize the maximum resources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52960" y="5533920"/>
            <a:ext cx="49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9b8"/>
                </a:solidFill>
                <a:latin typeface="Arial"/>
              </a:rPr>
              <a:t>Multi-layer routing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80880" y="3368520"/>
            <a:ext cx="3808440" cy="2576520"/>
            <a:chOff x="380880" y="3368520"/>
            <a:chExt cx="3808440" cy="2576520"/>
          </a:xfrm>
        </p:grpSpPr>
        <p:sp>
          <p:nvSpPr>
            <p:cNvPr id="514" name=""/>
            <p:cNvSpPr/>
            <p:nvPr/>
          </p:nvSpPr>
          <p:spPr>
            <a:xfrm flipV="1">
              <a:off x="3514680" y="5057280"/>
              <a:ext cx="0" cy="4590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76200" y="3933720"/>
              <a:ext cx="2425680" cy="714600"/>
            </a:xfrm>
            <a:custGeom>
              <a:avLst/>
              <a:gdLst/>
              <a:ahLst/>
              <a:rect l="l" t="t" r="r" b="b"/>
              <a:pathLst>
                <a:path w="1376" h="405">
                  <a:moveTo>
                    <a:pt x="0" y="64"/>
                  </a:moveTo>
                  <a:lnTo>
                    <a:pt x="0" y="268"/>
                  </a:lnTo>
                  <a:cubicBezTo>
                    <a:pt x="99" y="323"/>
                    <a:pt x="367" y="405"/>
                    <a:pt x="596" y="392"/>
                  </a:cubicBezTo>
                  <a:cubicBezTo>
                    <a:pt x="825" y="379"/>
                    <a:pt x="1242" y="257"/>
                    <a:pt x="1372" y="192"/>
                  </a:cubicBezTo>
                  <a:lnTo>
                    <a:pt x="1376" y="0"/>
                  </a:lnTo>
                </a:path>
              </a:pathLst>
            </a:custGeom>
            <a:noFill/>
            <a:ln w="7632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56080" y="3832200"/>
              <a:ext cx="336600" cy="1935360"/>
            </a:xfrm>
            <a:custGeom>
              <a:avLst/>
              <a:gdLst/>
              <a:ahLst/>
              <a:rect l="l" t="t" r="r" b="b"/>
              <a:pathLst>
                <a:path w="190" h="1098">
                  <a:moveTo>
                    <a:pt x="190" y="0"/>
                  </a:moveTo>
                  <a:lnTo>
                    <a:pt x="189" y="253"/>
                  </a:lnTo>
                  <a:cubicBezTo>
                    <a:pt x="175" y="415"/>
                    <a:pt x="136" y="852"/>
                    <a:pt x="105" y="975"/>
                  </a:cubicBezTo>
                  <a:cubicBezTo>
                    <a:pt x="74" y="1098"/>
                    <a:pt x="21" y="1039"/>
                    <a:pt x="4" y="990"/>
                  </a:cubicBezTo>
                  <a:lnTo>
                    <a:pt x="0" y="682"/>
                  </a:lnTo>
                </a:path>
              </a:pathLst>
            </a:custGeom>
            <a:noFill/>
            <a:ln w="7632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76240" y="5557680"/>
              <a:ext cx="1216080" cy="374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71480" y="4116240"/>
              <a:ext cx="1386000" cy="1828800"/>
            </a:xfrm>
            <a:custGeom>
              <a:avLst/>
              <a:gdLst/>
              <a:ahLst/>
              <a:rect l="l" t="t" r="r" b="b"/>
              <a:pathLst>
                <a:path w="786" h="1037">
                  <a:moveTo>
                    <a:pt x="180" y="0"/>
                  </a:moveTo>
                  <a:lnTo>
                    <a:pt x="168" y="246"/>
                  </a:lnTo>
                  <a:lnTo>
                    <a:pt x="0" y="726"/>
                  </a:lnTo>
                  <a:cubicBezTo>
                    <a:pt x="31" y="838"/>
                    <a:pt x="223" y="870"/>
                    <a:pt x="354" y="918"/>
                  </a:cubicBezTo>
                  <a:cubicBezTo>
                    <a:pt x="485" y="966"/>
                    <a:pt x="714" y="1037"/>
                    <a:pt x="786" y="1014"/>
                  </a:cubicBezTo>
                  <a:lnTo>
                    <a:pt x="786" y="780"/>
                  </a:lnTo>
                </a:path>
              </a:pathLst>
            </a:custGeom>
            <a:noFill/>
            <a:ln w="7632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0600" y="3979800"/>
              <a:ext cx="2425680" cy="714600"/>
            </a:xfrm>
            <a:custGeom>
              <a:avLst/>
              <a:gdLst/>
              <a:ahLst/>
              <a:rect l="l" t="t" r="r" b="b"/>
              <a:pathLst>
                <a:path w="1376" h="405">
                  <a:moveTo>
                    <a:pt x="0" y="64"/>
                  </a:moveTo>
                  <a:lnTo>
                    <a:pt x="0" y="268"/>
                  </a:lnTo>
                  <a:cubicBezTo>
                    <a:pt x="99" y="323"/>
                    <a:pt x="367" y="405"/>
                    <a:pt x="596" y="392"/>
                  </a:cubicBezTo>
                  <a:cubicBezTo>
                    <a:pt x="825" y="379"/>
                    <a:pt x="1242" y="257"/>
                    <a:pt x="1372" y="192"/>
                  </a:cubicBezTo>
                  <a:lnTo>
                    <a:pt x="1376" y="0"/>
                  </a:lnTo>
                </a:path>
              </a:pathLst>
            </a:custGeom>
            <a:noFill/>
            <a:ln w="7632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83000" y="3840120"/>
              <a:ext cx="336600" cy="1935360"/>
            </a:xfrm>
            <a:custGeom>
              <a:avLst/>
              <a:gdLst/>
              <a:ahLst/>
              <a:rect l="l" t="t" r="r" b="b"/>
              <a:pathLst>
                <a:path w="190" h="1098">
                  <a:moveTo>
                    <a:pt x="190" y="0"/>
                  </a:moveTo>
                  <a:lnTo>
                    <a:pt x="189" y="253"/>
                  </a:lnTo>
                  <a:cubicBezTo>
                    <a:pt x="175" y="415"/>
                    <a:pt x="136" y="852"/>
                    <a:pt x="105" y="975"/>
                  </a:cubicBezTo>
                  <a:cubicBezTo>
                    <a:pt x="74" y="1098"/>
                    <a:pt x="21" y="1039"/>
                    <a:pt x="4" y="990"/>
                  </a:cubicBezTo>
                  <a:lnTo>
                    <a:pt x="0" y="682"/>
                  </a:lnTo>
                </a:path>
              </a:pathLst>
            </a:custGeom>
            <a:noFill/>
            <a:ln w="7632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6040" y="3489480"/>
              <a:ext cx="3473280" cy="2219040"/>
            </a:xfrm>
            <a:custGeom>
              <a:avLst/>
              <a:gdLst/>
              <a:ahLst/>
              <a:rect l="l" t="t" r="r" b="b"/>
              <a:pathLst>
                <a:path w="2188" h="1398">
                  <a:moveTo>
                    <a:pt x="0" y="0"/>
                  </a:moveTo>
                  <a:cubicBezTo>
                    <a:pt x="58" y="42"/>
                    <a:pt x="290" y="160"/>
                    <a:pt x="345" y="254"/>
                  </a:cubicBezTo>
                  <a:lnTo>
                    <a:pt x="332" y="566"/>
                  </a:lnTo>
                  <a:cubicBezTo>
                    <a:pt x="433" y="648"/>
                    <a:pt x="696" y="753"/>
                    <a:pt x="952" y="746"/>
                  </a:cubicBezTo>
                  <a:cubicBezTo>
                    <a:pt x="1207" y="738"/>
                    <a:pt x="1715" y="608"/>
                    <a:pt x="1864" y="519"/>
                  </a:cubicBezTo>
                  <a:lnTo>
                    <a:pt x="1844" y="213"/>
                  </a:lnTo>
                  <a:cubicBezTo>
                    <a:pt x="1854" y="131"/>
                    <a:pt x="1901" y="23"/>
                    <a:pt x="1924" y="26"/>
                  </a:cubicBezTo>
                  <a:cubicBezTo>
                    <a:pt x="1948" y="30"/>
                    <a:pt x="1991" y="8"/>
                    <a:pt x="1984" y="233"/>
                  </a:cubicBezTo>
                  <a:cubicBezTo>
                    <a:pt x="1978" y="458"/>
                    <a:pt x="1910" y="1184"/>
                    <a:pt x="1884" y="1378"/>
                  </a:cubicBezTo>
                  <a:lnTo>
                    <a:pt x="1831" y="1398"/>
                  </a:lnTo>
                  <a:lnTo>
                    <a:pt x="1784" y="1351"/>
                  </a:lnTo>
                  <a:lnTo>
                    <a:pt x="1771" y="872"/>
                  </a:lnTo>
                  <a:cubicBezTo>
                    <a:pt x="1838" y="769"/>
                    <a:pt x="2101" y="764"/>
                    <a:pt x="2188" y="735"/>
                  </a:cubicBezTo>
                </a:path>
              </a:pathLst>
            </a:custGeom>
            <a:noFill/>
            <a:ln cap="rnd" w="38160">
              <a:solidFill>
                <a:srgbClr val="ff0066"/>
              </a:solidFill>
              <a:custDash>
                <a:ds d="100000" sp="1000"/>
              </a:custDash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5200" y="4091040"/>
              <a:ext cx="1385640" cy="1828800"/>
            </a:xfrm>
            <a:custGeom>
              <a:avLst/>
              <a:gdLst/>
              <a:ahLst/>
              <a:rect l="l" t="t" r="r" b="b"/>
              <a:pathLst>
                <a:path w="786" h="1037">
                  <a:moveTo>
                    <a:pt x="180" y="0"/>
                  </a:moveTo>
                  <a:lnTo>
                    <a:pt x="168" y="246"/>
                  </a:lnTo>
                  <a:lnTo>
                    <a:pt x="0" y="726"/>
                  </a:lnTo>
                  <a:cubicBezTo>
                    <a:pt x="31" y="838"/>
                    <a:pt x="223" y="870"/>
                    <a:pt x="354" y="918"/>
                  </a:cubicBezTo>
                  <a:cubicBezTo>
                    <a:pt x="485" y="966"/>
                    <a:pt x="714" y="1037"/>
                    <a:pt x="786" y="1014"/>
                  </a:cubicBezTo>
                  <a:lnTo>
                    <a:pt x="786" y="780"/>
                  </a:lnTo>
                </a:path>
              </a:pathLst>
            </a:custGeom>
            <a:noFill/>
            <a:ln w="7632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0880" y="3800520"/>
              <a:ext cx="1776600" cy="2114640"/>
            </a:xfrm>
            <a:custGeom>
              <a:avLst/>
              <a:gdLst/>
              <a:ahLst/>
              <a:rect l="l" t="t" r="r" b="b"/>
              <a:pathLst>
                <a:path w="1177" h="1401">
                  <a:moveTo>
                    <a:pt x="0" y="0"/>
                  </a:moveTo>
                  <a:lnTo>
                    <a:pt x="448" y="84"/>
                  </a:lnTo>
                  <a:lnTo>
                    <a:pt x="469" y="483"/>
                  </a:lnTo>
                  <a:lnTo>
                    <a:pt x="266" y="1107"/>
                  </a:lnTo>
                  <a:lnTo>
                    <a:pt x="525" y="1226"/>
                  </a:lnTo>
                  <a:lnTo>
                    <a:pt x="1177" y="1401"/>
                  </a:lnTo>
                  <a:lnTo>
                    <a:pt x="1175" y="931"/>
                  </a:lnTo>
                  <a:lnTo>
                    <a:pt x="735" y="701"/>
                  </a:lnTo>
                </a:path>
              </a:pathLst>
            </a:custGeom>
            <a:noFill/>
            <a:ln cap="rnd" w="28440">
              <a:solidFill>
                <a:srgbClr val="ffcc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7960" y="3368520"/>
              <a:ext cx="3640320" cy="1265400"/>
            </a:xfrm>
            <a:custGeom>
              <a:avLst/>
              <a:gdLst/>
              <a:ahLst/>
              <a:rect l="l" t="t" r="r" b="b"/>
              <a:pathLst>
                <a:path w="2293" h="797">
                  <a:moveTo>
                    <a:pt x="0" y="187"/>
                  </a:moveTo>
                  <a:cubicBezTo>
                    <a:pt x="70" y="214"/>
                    <a:pt x="337" y="270"/>
                    <a:pt x="418" y="350"/>
                  </a:cubicBezTo>
                  <a:lnTo>
                    <a:pt x="485" y="670"/>
                  </a:lnTo>
                  <a:lnTo>
                    <a:pt x="745" y="750"/>
                  </a:lnTo>
                  <a:lnTo>
                    <a:pt x="1138" y="797"/>
                  </a:lnTo>
                  <a:lnTo>
                    <a:pt x="1997" y="617"/>
                  </a:lnTo>
                  <a:lnTo>
                    <a:pt x="1976" y="132"/>
                  </a:lnTo>
                  <a:cubicBezTo>
                    <a:pt x="1996" y="30"/>
                    <a:pt x="2065" y="14"/>
                    <a:pt x="2118" y="7"/>
                  </a:cubicBezTo>
                  <a:cubicBezTo>
                    <a:pt x="2171" y="0"/>
                    <a:pt x="2257" y="73"/>
                    <a:pt x="2293" y="90"/>
                  </a:cubicBezTo>
                </a:path>
              </a:pathLst>
            </a:custGeom>
            <a:noFill/>
            <a:ln cap="rnd" w="38160">
              <a:solidFill>
                <a:srgbClr val="009900"/>
              </a:solidFill>
              <a:custDash>
                <a:ds d="100000" sp="1000"/>
              </a:custDash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5105520" y="230184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Routes for LSPs into light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08:37:58Z</dcterms:created>
  <dc:creator>Marina settembre</dc:creator>
  <dc:description>Rev A</dc:description>
  <dc:language>en-US</dc:language>
  <cp:lastModifiedBy>teiiopa</cp:lastModifiedBy>
  <cp:lastPrinted>2001-11-30T21:03:52Z</cp:lastPrinted>
  <dcterms:modified xsi:type="dcterms:W3CDTF">2003-07-06T18:27:38Z</dcterms:modified>
  <cp:revision>194</cp:revision>
  <dc:subject>II Giornata di Studio CoRiTeL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1-11-19</vt:lpwstr>
  </property>
  <property fmtid="{D5CDD505-2E9C-101B-9397-08002B2CF9AE}" pid="5" name="DocName">
    <vt:lpwstr/>
  </property>
  <property fmtid="{D5CDD505-2E9C-101B-9397-08002B2CF9AE}" pid="6" name="DocNo">
    <vt:lpwstr> </vt:lpwstr>
  </property>
  <property fmtid="{D5CDD505-2E9C-101B-9397-08002B2CF9AE}" pid="7" name="DocumentType">
    <vt:lpwstr>EnOHLogoNew2001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>Lena Segerstene</vt:lpwstr>
  </property>
  <property fmtid="{D5CDD505-2E9C-101B-9397-08002B2CF9AE}" pid="13" name="Reference">
    <vt:lpwstr/>
  </property>
  <property fmtid="{D5CDD505-2E9C-101B-9397-08002B2CF9AE}" pid="14" name="Revision">
    <vt:lpwstr>A</vt:lpwstr>
  </property>
  <property fmtid="{D5CDD505-2E9C-101B-9397-08002B2CF9AE}" pid="15" name="RightFooterField">
    <vt:lpwstr>ETX/D/NP Örjan Mattsson</vt:lpwstr>
  </property>
  <property fmtid="{D5CDD505-2E9C-101B-9397-08002B2CF9AE}" pid="16" name="SecClassViewType">
    <vt:lpwstr>True</vt:lpwstr>
  </property>
  <property fmtid="{D5CDD505-2E9C-101B-9397-08002B2CF9AE}" pid="17" name="SecurityClass">
    <vt:lpwstr>Limited Internal</vt:lpwstr>
  </property>
  <property fmtid="{D5CDD505-2E9C-101B-9397-08002B2CF9AE}" pid="18" name="TemplateName">
    <vt:lpwstr>EN/FAD 109 0015/8</vt:lpwstr>
  </property>
  <property fmtid="{D5CDD505-2E9C-101B-9397-08002B2CF9AE}" pid="19" name="TemplateVersion">
    <vt:lpwstr>R1A</vt:lpwstr>
  </property>
  <property fmtid="{D5CDD505-2E9C-101B-9397-08002B2CF9AE}" pid="20" name="Title">
    <vt:lpwstr>Presentation E/M in Burgess Hills 011121</vt:lpwstr>
  </property>
  <property fmtid="{D5CDD505-2E9C-101B-9397-08002B2CF9AE}" pid="21" name="TotalNumb">
    <vt:lpwstr> </vt:lpwstr>
  </property>
  <property fmtid="{D5CDD505-2E9C-101B-9397-08002B2CF9AE}" pid="22" name="_AdHocReviewCycleID">
    <vt:r8>1581540743</vt:r8>
  </property>
  <property fmtid="{D5CDD505-2E9C-101B-9397-08002B2CF9AE}" pid="23" name="_AuthorEmail">
    <vt:lpwstr>m.settembre@tiscali.it</vt:lpwstr>
  </property>
  <property fmtid="{D5CDD505-2E9C-101B-9397-08002B2CF9AE}" pid="24" name="_AuthorEmailDisplayName">
    <vt:lpwstr>marina</vt:lpwstr>
  </property>
  <property fmtid="{D5CDD505-2E9C-101B-9397-08002B2CF9AE}" pid="25" name="_EmailSubject">
    <vt:lpwstr/>
  </property>
  <property fmtid="{D5CDD505-2E9C-101B-9397-08002B2CF9AE}" pid="26" name="x">
    <vt:lpwstr>1</vt:lpwstr>
  </property>
</Properties>
</file>