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913938" cy="674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DAE4-31A7-426A-8B38-A1EEB957A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2819160"/>
            <a:ext cx="6858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00200" y="4530600"/>
            <a:ext cx="6858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56C6-DE85-44D6-96A0-436405809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0200" y="2819160"/>
            <a:ext cx="3346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4520" y="2819160"/>
            <a:ext cx="3346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00200" y="4530600"/>
            <a:ext cx="3346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4520" y="4530600"/>
            <a:ext cx="3346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82A7-7528-47C1-B3B1-79CC81528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00200" y="2819160"/>
            <a:ext cx="220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18960" y="2819160"/>
            <a:ext cx="220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7360" y="2819160"/>
            <a:ext cx="220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00200" y="4530600"/>
            <a:ext cx="220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18960" y="4530600"/>
            <a:ext cx="220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7360" y="4530600"/>
            <a:ext cx="220788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8A9D-0D0B-4917-8F37-E067274DB8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00200" y="2819160"/>
            <a:ext cx="68580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4906-135D-4120-A260-DBB89165B0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819160"/>
            <a:ext cx="6858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E4C7-42FB-45CD-B1CE-F1EEDA65F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2819160"/>
            <a:ext cx="33465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4520" y="2819160"/>
            <a:ext cx="33465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95EA-ADEA-497E-8E54-7195105F5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1884-948A-42B6-8DF2-D668E8AF1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3805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98BB-A728-4A04-8A13-20A122BA6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2819160"/>
            <a:ext cx="3346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4520" y="2819160"/>
            <a:ext cx="33465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00200" y="4530600"/>
            <a:ext cx="3346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79AA-53F3-4705-A467-FEE4DEE9F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2819160"/>
            <a:ext cx="33465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4520" y="2819160"/>
            <a:ext cx="3346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4520" y="4530600"/>
            <a:ext cx="3346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5D5C-11EA-4A03-A822-0E33DF29F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2819160"/>
            <a:ext cx="3346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4520" y="2819160"/>
            <a:ext cx="33465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00200" y="4530600"/>
            <a:ext cx="68580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0751-A22F-4DA2-8AEF-A3A9601DA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304920"/>
            <a:ext cx="8458200" cy="8380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36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819160"/>
            <a:ext cx="6858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477120" y="6400800"/>
            <a:ext cx="2666880" cy="45720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TANGO - Palermo 8-9 lugli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0"/>
            <a:ext cx="914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6172200"/>
            <a:ext cx="474480" cy="533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46120" y="5486400"/>
            <a:ext cx="461880" cy="609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aphicFrame>
        <p:nvGraphicFramePr>
          <p:cNvPr id="7" name=""/>
          <p:cNvGraphicFramePr/>
          <p:nvPr/>
        </p:nvGraphicFramePr>
        <p:xfrm>
          <a:off x="380880" y="4876920"/>
          <a:ext cx="76212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4876920"/>
                    <a:ext cx="762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12949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outing Dinamico, Controllo a Squadra e Approssimatori Funzio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94440" y="3048120"/>
            <a:ext cx="74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arco Baglietto, Raffaele Bolla, Franco Davoli, Riccardo Zopp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0560" y="6448320"/>
            <a:ext cx="1699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08240" y="6095880"/>
            <a:ext cx="4190760" cy="3049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ept. of Communications, Computer and Systems 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5791320"/>
            <a:ext cx="1600200" cy="3045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University of Gen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35480" y="3786120"/>
            <a:ext cx="32925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C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Unità di Ricerca DIST-Università di Geno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Via Opera Pia 13, I-16145 Ge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mbaglietto, lelus, franco, zop@dist.unige.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92EC-4556-44E3-B3DC-326166D4C4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ssimazione parametrica non-lin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6477120" cy="386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3880" y="1219320"/>
            <a:ext cx="739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ncoliamo le strategie di controllo ad assumere una struttura funzionale prefissata, con buona ricchezza di parametri, che appaiono in forma non-lineare (e.g., reti neura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E0E3-2CB1-4AE6-A48F-F5D19603DD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ssimazione parametrica non-lin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12193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 Modifica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629400" cy="2066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00200" y="38862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981080" y="4267080"/>
                <a:ext cx="632484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ati</m:t>
                                      </m:r>
                                    </m:e>
                                  </m:mr>
                                  <m:mr>
                                    <m:e>
                                      <m:eqArr>
                                        <m:e>
                                          <m:r>
                                            <m:t xml:space="preserve">p</m:t>
                                          </m:r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x</m:t>
                                          </m:r>
                                          <m:r>
                                            <m:t xml:space="preserve">)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, </m:t>
                                          </m:r>
                                          <m:r>
                                            <m:t xml:space="preserve">h</m:t>
                                          </m:r>
                                          <m:r>
                                            <m:t xml:space="preserve">e</m:t>
                                          </m:r>
                                          <m:r>
                                            <m:t xml:space="preserve">J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       Data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una struttura  {</m:t>
                                          </m:r>
                                          <m:acc>
                                            <m:accPr>
                                              <m:chr m:val="^"/>
                                            </m:accPr>
                                            <m:e>
                                              <m:r>
                                                <m:t xml:space="preserve">g</m:t>
                                              </m:r>
                                            </m:e>
                                          </m:acc>
                                        </m:e>
                                      </m:eqAr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  <m:e>
                          <m:r>
                            <m:t xml:space="preserve">⇒</m:t>
                          </m:r>
                        </m:e>
                        <m:e>
                          <m:m>
                            <m:mr>
                              <m:e>
                                <m:eqAr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ovare il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ettore ottimo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              </m:t>
                                    </m:r>
                                    <m:r>
                                      <m:t xml:space="preserve">w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eqAr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he minimizza</m:t>
                                </m:r>
                              </m:e>
                            </m:mr>
                          </m:m>
                        </m:e>
                      </m:mr>
                    </m:m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x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333F-8869-452B-83B5-972419BC5C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ssimazione parametrica non-lin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2193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 di addest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67676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628D-36BD-4601-B5C4-DD3598778C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52480" y="1601640"/>
            <a:ext cx="7086600" cy="1370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ssimazione parametrica non-lin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2193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rnando quindi al problema del routing dina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05120" y="4299120"/>
            <a:ext cx="6172200" cy="1655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76360" y="3276720"/>
            <a:ext cx="69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questo caso, occorre aggiungere blocchi di normalizzazion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7A11-631C-421F-B3D4-271CE40C38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ssimazione parametrica non-lin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2193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opportune funzioni di pena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495680" cy="1503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30481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anto, la nuova funzione di costo div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81080" y="3581280"/>
            <a:ext cx="5943600" cy="27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C787-AB59-488E-B327-3FBAE40E52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timizzazione distribu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21932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omponenti del gradiente alla k-esima ite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14520" y="3657600"/>
            <a:ext cx="739152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ono essere calcolate con una classica procedura d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k-propa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 problema su orizzonte finito, si ha una rete neurale per ogni stadio tempo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k-propa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questo caso ammette una decomposizione temporale, propagando tra una rete e l’altra variabili aggiunte, che giocano il ruolo di un co-sta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2133720" cy="344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99840" y="2209680"/>
            <a:ext cx="316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sia le derivate parzi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5486400" cy="73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E737-4D44-4E40-8A82-4CEC6A8513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timizzazione distribu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7772400" cy="507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50A6-09DC-4575-A3F0-1CE726EC5F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 staziona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1359000"/>
            <a:ext cx="70866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’orizzonte temporale finito dà luogo a strategie tempo-varianti, espresse da una catena di reti neur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e stazionarie possono corrispondere al problema su orizzonte temporale infinito. Computazionalmente, si può proced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ando un problema su orizzonte mobile -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ceding-horiz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o meglio 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hifting-horiz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), dove si valuta il costo T stadi temporali in avanti ad ogni stadio, applicando sempre la prima strateg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ando il costo su orizzonte infinito, valutato generando la distribuzione stazionaria della dinamica del sistema, espressa in termini di catene di Marko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8115-9F14-4B60-BE83-E43829C97C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esempio nume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6400800" cy="507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5833-ABA4-494E-8BB7-CBF75CBC67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esempio nume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553080" cy="49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AD62-5BB5-48C9-A0E7-0C53785ADF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00240" y="38052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biettivi della Rice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6476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Problemi di controllo nelle Reti di TL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Routing Dinamico a Informazione Decentralizz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Approssimazione Parametrica Non-Lineare di Strategie Ot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Raffinamento di Modelli Dinamici del No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Analisi di Convergenza e Prestazion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2AA8-97FE-49F1-9492-D6C1057E96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esempio nume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95324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2618-A477-4AA1-BEF9-9EE4CE13ED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esempio nume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639040" cy="515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0824-4EF6-490F-A6CA-526865EDE1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esempio nume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26744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E1DA-BF20-423C-B358-A936D9DB87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vità in co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600200"/>
            <a:ext cx="708660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iche alla rappresentazione del nodo e al modello di sistema dinam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zione di elementi di QoS-rou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viluppo di moduli in ns2 per la simulazione delle strategie in un contesto di rete reale (TCP/I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visitazione di strategie di squadra statica per il source-routing basato su informazione decentralizzata sui fluss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85E4-18A4-458A-AF0D-B430A9C152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i di Controllo Dinamico nelle R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odelli e Sist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ensionalità elev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ale temporali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za di dinamiche velo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rollo ottimo con vinc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ormazione distribuita, obiettivi comuni (controllo a squad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plessità elev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cniche di Approssi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ormation State” rido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rossimazioni parametriche non-lineari (reti neura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rossimazione stocastica del 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4583-CAFB-4BA4-9373-7C3A5C0846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48320" y="38052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li per il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5783400" cy="465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295280" y="5486400"/>
                <a:ext cx="13716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2666880" y="54864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fo diretto connesso, con un insieme      di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odi e un insieme     di archi orientat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620120" y="5599080"/>
                <a:ext cx="4572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986360" y="5911920"/>
                <a:ext cx="30492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E4D1-7EC3-45D6-B77B-93030C30F9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6520" y="1133640"/>
            <a:ext cx="5486400" cy="5278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48320" y="38052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li per il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63B4-8146-4212-BF0E-83B491CA8E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14800" y="38052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tate” rido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6400800" cy="3267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76520" y="1219320"/>
            <a:ext cx="685800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amo che ogni “instradatore” (Decision Maker, D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ssuma le sue decisioni sulla base di u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ieme informativo person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he include la lunghezza delle code locali e (possibilmente) informazioni ricevute da altri DM, tipicamente da quelli adiace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es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CD71-82F5-4516-BF27-B88B531BB5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zionale di costo e problema di ottim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33720" y="1347840"/>
            <a:ext cx="5790960" cy="50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8D3E-7C54-4BBF-9870-1D1392ED7C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o di Controllo a Squa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8280" y="3857760"/>
            <a:ext cx="5410440" cy="2543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95280" y="1219320"/>
            <a:ext cx="7404120" cy="26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gredienti di 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ili impredicibili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ttura informativa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zioni di decisione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zionale di cos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874960" y="2438280"/>
                <a:ext cx="45385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;  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l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895480" y="3124080"/>
                <a:ext cx="4324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;  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l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556160" y="3548160"/>
                <a:ext cx="182880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DE98-D188-490B-9730-0D10C241D0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o di Controllo a Squad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133720" y="2133720"/>
                <a:ext cx="632448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ati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, </m:t>
                                      </m:r>
                                      <m:r>
                                        <m:t xml:space="preserve">h</m:t>
                                      </m:r>
                                      <m:r>
                                        <m:t xml:space="preserve">e</m:t>
                                      </m:r>
                                      <m:r>
                                        <m:t xml:space="preserve">J</m:t>
                                      </m:r>
                                    </m:e>
                                  </m:mr>
                                </m:m>
                              </m:e>
                              <m:e>
                                <m:r>
                                  <m:t xml:space="preserve">⇒</m:t>
                                </m:r>
                              </m:e>
                              <m:e>
                                <m:m>
                                  <m:mr>
                                    <m:e>
                                      <m:eqAr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rovare le 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strategie ottime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          </m:t>
                                          </m:r>
                                          <m:sSubSup>
                                            <m:e>
                                              <m:r>
                                                <m:t xml:space="preserve">g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°</m:t>
                                              </m:r>
                                            </m:sup>
                                          </m:sSubSup>
                                          <m:r>
                                            <m:t xml:space="preserve">(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t xml:space="preserve">)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t xml:space="preserve">,</m:t>
                                          </m:r>
                                          <m:sSubSup>
                                            <m:e>
                                              <m:r>
                                                <m:t xml:space="preserve">g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N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°</m:t>
                                              </m:r>
                                            </m:sup>
                                          </m:sSubSup>
                                          <m:r>
                                            <m:t xml:space="preserve">(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t xml:space="preserve">)</m:t>
                                          </m:r>
                                        </m:e>
                                      </m:eqAr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he minimizzano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  <m:e/>
                      </m:mr>
                      <m:m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         </m:t>
                              </m:r>
                              <m:r>
                                <m:t xml:space="preserve">E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J</m:t>
                                  </m:r>
                                </m:e>
                              </m:d>
                            </m:e>
                            <m:lim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               </m:t>
                              </m:r>
                              <m:r>
                                <m:t xml:space="preserve">x</m:t>
                              </m:r>
                            </m:lim>
                          </m:limLow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487880" y="1295280"/>
            <a:ext cx="213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a ba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5720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e, il problema base è impossibile da risolvere analitica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C08D-0117-4CD0-BEB0-02056368F7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08:39:01Z</dcterms:created>
  <dc:creator>repetto</dc:creator>
  <dc:description/>
  <dc:language>en-US</dc:language>
  <cp:lastModifiedBy>Franco Davoli</cp:lastModifiedBy>
  <cp:lastPrinted>2002-12-02T18:21:21Z</cp:lastPrinted>
  <dcterms:modified xsi:type="dcterms:W3CDTF">2003-07-06T19:29:25Z</dcterms:modified>
  <cp:revision>260</cp:revision>
  <dc:subject/>
  <dc:title>Tecniche per allocazione dinamica di banda per reti radiomobili in ambiente autostradale</dc:title>
</cp:coreProperties>
</file>