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DA6-F3AB-4D77-B49C-6CC85E3C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ECD-5B10-4AB7-97A4-B2D3BF4C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F08-73B7-4EB9-9983-B3C76C65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161-EE3C-4444-936E-5CBC8AB5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978-E65E-49C9-B355-1F1A28A6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347-1717-4B69-B8AF-F91C0ED7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E03-7742-4AFB-BB3A-EEE3A0D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5214-8431-43CC-88B0-51749254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35B5-2AF7-4893-ACD9-C7838212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C46-B8EB-463F-BA35-913AB230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D20-5334-4F42-A15D-AB304810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020-6ACF-48ED-963F-85BF1161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f011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f0119"/>
                </a:solidFill>
                <a:latin typeface="Times New Roman"/>
              </a:rPr>
              <a:t>Palermo,plenaria TANG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f0119"/>
                </a:solidFill>
                <a:latin typeface="Times New Roman"/>
              </a:rPr>
              <a:t>7-8 Luglio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ef011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f0119"/>
                </a:solidFill>
                <a:latin typeface="Times New Roman"/>
              </a:rPr>
              <a:t>ISTI/CN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f0119"/>
                </a:solidFill>
                <a:latin typeface="Times New Roman"/>
              </a:rPr>
              <a:t>W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18D4-BD13-408F-B6E8-C2E5B9A23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eople.qualcomm.com/karn/code/fec/" TargetMode="External"/><Relationship Id="rId2" Type="http://schemas.openxmlformats.org/officeDocument/2006/relationships/hyperlink" Target="http://people.qualcomm.com/karn/code/fec/" TargetMode="External"/><Relationship Id="rId3" Type="http://schemas.openxmlformats.org/officeDocument/2006/relationships/hyperlink" Target="http://people.qualcomm.com/karn/code/fec/" TargetMode="External"/><Relationship Id="rId4" Type="http://schemas.openxmlformats.org/officeDocument/2006/relationships/hyperlink" Target="http://people.qualcomm.com/karn/code/fec/" TargetMode="External"/><Relationship Id="rId5" Type="http://schemas.openxmlformats.org/officeDocument/2006/relationships/hyperlink" Target="http://people.qualcomm.com/karn/code/fec/" TargetMode="External"/><Relationship Id="rId6" Type="http://schemas.openxmlformats.org/officeDocument/2006/relationships/hyperlink" Target="http://people.qualcomm.com/karn/code/fec/" TargetMode="External"/><Relationship Id="rId7" Type="http://schemas.openxmlformats.org/officeDocument/2006/relationships/hyperlink" Target="http://people.qualcomm.com/karn/code/fec/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572000" cy="222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66680" y="3428640"/>
            <a:ext cx="7010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c101b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bc101b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bc101b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bc101b"/>
                </a:solidFill>
                <a:latin typeface="Times New Roman"/>
              </a:rPr>
              <a:t>TANGO - W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10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bc101b"/>
                </a:solidFill>
                <a:latin typeface="Times New Roman"/>
              </a:rPr>
              <a:t>ATTIVITA’ DI RICERCA NEL PERI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c10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bc101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bc101b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bc101b"/>
                </a:solidFill>
                <a:latin typeface="Times New Roman"/>
              </a:rPr>
              <a:t>DICEMBRE 2002- GIUGNO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404-D71C-4FED-AB43-71E44BA61C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0119"/>
                </a:solidFill>
                <a:latin typeface="Times New Roman"/>
              </a:rPr>
              <a:t>Results of point by point optimization in a real cas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4674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E02-1E55-4CC5-91F0-52D9D4BFD3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2147"/>
                </a:solidFill>
                <a:latin typeface="Times New Roman"/>
              </a:rPr>
              <a:t>CONVOLUTIONAL ENCODER/VITERBI DECODER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019920" cy="5084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02480" y="2209680"/>
            <a:ext cx="219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 and ave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burst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us Ec/No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valu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olu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polated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circ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DBF-CB63-45F6-8BB4-2EE947072F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019920" cy="561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410080"/>
            <a:ext cx="8305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CP throughput versus C/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for the complete set of transmission parameters for R = 2.048 Mbit/s. 1000 byt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5F8-4A66-4AEA-8916-EEC3039B3D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9F3-2801-46C0-9B45-E799468A70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263520"/>
            <a:ext cx="5488200" cy="55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A83-0E7C-4409-A820-581DA1BA7E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52480" y="714240"/>
            <a:ext cx="5488200" cy="508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DE2-16B4-4FE7-8D8C-283EE7CFF6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867280" cy="56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6AB-2889-4E09-ADFF-7A30FC6625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315200" cy="4954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32480" y="562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257800"/>
            <a:ext cx="8381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ment Error Rate (SER) versu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different convolutional coding rates and for concatenated RS(255,223)/convolutional codes, with and without symbol interleaver. 1115 byte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27D-8331-4C7B-84F4-5BEAF25841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2147"/>
                </a:solidFill>
                <a:latin typeface="Times New Roman"/>
              </a:rPr>
              <a:t>Comparison of maximum throughput versus C/No for different coding types. 1115 byte segments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25D-D3E7-4E83-AB0D-3BEACBDCC0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0119"/>
                </a:solidFill>
                <a:latin typeface="Times New Roman"/>
              </a:rPr>
              <a:t>Future 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erasure and erasure+convolutional coding in AWG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multi-connections sharing the same AWG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latency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segment 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data prot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short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nd multi-connections per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+ short connections over the same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in wir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ed packet losses (multipath f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of Wi Fi MAC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657-308B-4F4F-81F7-4BB84DA7A7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713"/>
                </a:solidFill>
                <a:latin typeface="Times New Roman"/>
              </a:rPr>
              <a:t>CNR-ISTI ACTIVITY </a:t>
            </a:r>
            <a:br>
              <a:rPr sz="2800"/>
            </a:br>
            <a:r>
              <a:rPr b="1" lang="en-US" sz="2800" spc="-1" strike="noStrike">
                <a:solidFill>
                  <a:srgbClr val="c50713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of TCP goodput for connections over links with at least one wireless hop (general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a followed to maximize TCP goodput of a wireless connection with random packet loss acting on transmission parameters, given a channel quality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/simulation tools adopted to evaluate the goodput of a TCP connection (W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achieved for  long range connections over geostationary satellite links corrupted by additive white Gaussian noise (AWG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a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F84-6421-43D6-96F6-2273000C11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2147"/>
                </a:solidFill>
                <a:latin typeface="Times New Roman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. Partridge and T. J. Shepard, “TCP/IP performance over satellite links”, IEEE Network, Vol. 11, No. 5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ember/October 1997, pp. 44-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. Celandroni, F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ortì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"Maximising single connection TCPgoodpu by trading bandwidth for BER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JSC Vol. 16, pp. 63-79,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. V. Lakshman and U. Madhow, “The performance of TCP/IP for networks with high bandwidth-del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 and random loss”, IEEE/ACM Trans. on Networking, Vol. 5, No. 3, June 1997, pp. 336-3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. Allman, V. Paxson and W. S. Stevens, “TCP congestion control”, RFC 2581, April 199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“Q1401: K=7 rate 1/2 single-chip Viterbi decoder technical data sheet”, Qualcomm incorporated, September 198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P. Karn, “Error correcting codes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URL:http://people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qualcomm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com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karn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code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fec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V. Jacobson, R. Braden and D. Borman, “TCP extensions for high performance”, IETF, RFC 1323, May 199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E. Altman, K. Avrachenkov, C. Barakat, “A stochastic model of TCP/IP with stationary random losses”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Commun. Review, Vol.30, No.4, October 2000, pp. 231-2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M. K. Simon, J.K. Omura, R. A. Scholtz and B. K. Levitt, "Spread Spectrum Communications Handbook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ed edition: McGraw-Hill, 199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M. Riley and I. Richardson, "Reed_Solomon Codes", online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4i2i.com/reed_solomon_codes.htm, November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R. Blahut, "Theory and Practice of Error Control Codes", Reading, MA: Addison-Wesley, 198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S. Lin and D.J. Costello, "Error Control Coding: Fundamental and Applications": Prentice-Hall, 198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050-7BDA-405B-A2C7-0630C73EB3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119"/>
                </a:solidFill>
                <a:latin typeface="Times New Roman"/>
              </a:rPr>
              <a:t>Optimization of TCP connections over wireless links (1 out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5071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50713"/>
                </a:solidFill>
                <a:uFillTx/>
                <a:latin typeface="Times New Roman"/>
              </a:rPr>
              <a:t>The end-to-end through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TCP connection (goodput) depends, among other factors, on rate and modality of packet loss at I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5071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50713"/>
                </a:solidFill>
                <a:uFillTx/>
                <a:latin typeface="Times New Roman"/>
              </a:rPr>
              <a:t>Packet lo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 to corruption over low quality wireless channels </a:t>
            </a:r>
            <a:r>
              <a:rPr b="0" lang="en-US" sz="2400" spc="-1" strike="noStrike">
                <a:solidFill>
                  <a:srgbClr val="c50713"/>
                </a:solidFill>
                <a:latin typeface="Times New Roman"/>
              </a:rPr>
              <a:t>may dramatically reduce goodput, especi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50713"/>
                </a:solidFill>
                <a:latin typeface="Times New Roman"/>
              </a:rPr>
              <a:t>on high delay-bandwidth product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ireless links, given a transmission power, spectrum occupancy and antennas’ characteristics, </a:t>
            </a:r>
            <a:r>
              <a:rPr b="1" lang="en-US" sz="2400" spc="-1" strike="noStrike" u="sng">
                <a:solidFill>
                  <a:srgbClr val="c50713"/>
                </a:solidFill>
                <a:uFillTx/>
                <a:latin typeface="Times New Roman"/>
              </a:rPr>
              <a:t>BER can be improved acting on modulation scheme and 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BER can be reduced at the cost of a lower bit rate (TCP bottleneck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74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747"/>
                </a:solidFill>
                <a:latin typeface="Times New Roman"/>
              </a:rPr>
              <a:t>Problem: to maximize TCP goodput acting on modulation scheme and F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73B-B876-4238-BC29-07178434F4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119"/>
                </a:solidFill>
                <a:latin typeface="Times New Roman"/>
              </a:rPr>
              <a:t>Optimization of TCP connections over wireless links (2 out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 goodput in packets/s is practically given by the product of the bottleneck  rate by a decreasing function of the packet loss and thus of the 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 is an increasing function of bottleneck 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ation of goodput is obtained by trading bottleneck rate for data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made for each channel quality condition, characterized by C/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arrier power over one sided noise spectral density) ratio, in AWGN pres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ef0119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0119"/>
                </a:solidFill>
                <a:latin typeface="Times New Roman"/>
              </a:rPr>
              <a:t>We propose to choose the vector of transmission parameters which yield maximum goodput for each channel condition instead of  applying general rules (e.g. BER threshold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8BE-05F0-4F3E-9D81-FE826B1B48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119"/>
                </a:solidFill>
                <a:latin typeface="Times New Roman"/>
              </a:rPr>
              <a:t>Optimization of TCP connections over wireless links (3 out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hannel condition max TCP goodput is obtained with transmission parameters that give minimum BER for the same information bit rate (Circled points in the fig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6019920" cy="40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AFB-FC4E-4E09-9EC1-C8B6664B2C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0119"/>
                </a:solidFill>
                <a:latin typeface="Times New Roman"/>
              </a:rPr>
              <a:t>TCP THROUGHPUT EVALUATION TOOLS</a:t>
            </a:r>
            <a:br>
              <a:rPr sz="2800"/>
            </a:br>
            <a:r>
              <a:rPr b="1" lang="en-US" sz="2400" spc="-1" strike="noStrike">
                <a:solidFill>
                  <a:srgbClr val="ef0119"/>
                </a:solidFill>
                <a:latin typeface="Times New Roman"/>
              </a:rPr>
              <a:t>Steady state analysis of long run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o TCP implementation without the SACK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 Scale option used (RFC 118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ver a limiting factor and transmission window equal to the congestion wind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w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loss detection on receiving three duplicate ACKs, never because of a 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ing side never runs out of data to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dy state analysis, limit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gestion Avoi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ffer of capac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sociated with the bottleneck link, whose transmission rate i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gments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packet losses (AWGN channe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A64-B01E-4263-832D-674DABFA4C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0119"/>
                </a:solidFill>
                <a:latin typeface="Times New Roman"/>
              </a:rPr>
              <a:t>TCP THROUGHPUT EVALUATION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of the approximate analysis is made by T. V. Lakshman and U. Madhow( “The performance of TCP/IP for networks with high bandwidth-delay products and random loss”, IEEE/ACM TON, Vol. 5, No. 3, June 1997, pp. 336-3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gives slightly better results for some input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ed in: N. Celandroni, 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ortì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Maximising single connection TCP goodput by trading bandwidth for BER", IJSC Vol. 16, pp. 63-79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f011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0119"/>
                </a:solidFill>
                <a:latin typeface="Times New Roman"/>
              </a:rPr>
              <a:t>TCP goodput evaluation program (TGEP) written in </a:t>
            </a:r>
            <a:r>
              <a:rPr b="0" i="1" lang="en-US" sz="2400" spc="-1" strike="noStrike">
                <a:solidFill>
                  <a:srgbClr val="ef0119"/>
                </a:solidFill>
                <a:latin typeface="Times New Roman"/>
              </a:rPr>
              <a:t> Mathematica</a:t>
            </a:r>
            <a:r>
              <a:rPr b="0" lang="en-US" sz="2400" spc="-1" strike="noStrike" baseline="30000">
                <a:solidFill>
                  <a:srgbClr val="ef0119"/>
                </a:solidFill>
                <a:latin typeface="Times New Roman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 way between analysis an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(see W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C8E-BEAD-490D-835E-E71424F835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9067680" cy="1090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5029200" cy="4532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562720" y="304812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yload TCP through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versus segment siz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fferent 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5000" y="228600"/>
            <a:ext cx="44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2147"/>
                </a:solidFill>
                <a:latin typeface="Times New Roman"/>
              </a:rPr>
              <a:t>OPTIMUM PACKET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1F2-5DDF-46E9-9356-7DE83B8154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0119"/>
                </a:solidFill>
                <a:latin typeface="Times New Roman"/>
              </a:rPr>
              <a:t>Results of point by point optimization in a real case</a:t>
            </a:r>
            <a:r>
              <a:rPr b="1" lang="en-US" sz="2400" spc="-1" strike="noStrike">
                <a:solidFill>
                  <a:srgbClr val="ef011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f0119"/>
                </a:solidFill>
                <a:latin typeface="Times New Roman"/>
              </a:rPr>
              <a:t>(1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8798-C1F4-4D7C-8948-660547E0AC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9:17:40Z</dcterms:created>
  <dc:creator>Nedo Celandroni</dc:creator>
  <dc:description/>
  <dc:language>en-US</dc:language>
  <cp:lastModifiedBy>Nedo Celandroni</cp:lastModifiedBy>
  <cp:lastPrinted>2003-07-02T10:27:40Z</cp:lastPrinted>
  <dcterms:modified xsi:type="dcterms:W3CDTF">2003-07-15T14:15:01Z</dcterms:modified>
  <cp:revision>48</cp:revision>
  <dc:subject/>
  <dc:title>TCP THROUGHPUT EVALUATION</dc:title>
</cp:coreProperties>
</file>