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0501-309C-411B-B23A-D5DD3D11C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85A0-88E4-4BF6-9AF3-D6CA79EC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1883-E9A9-4CE2-9FED-F316141BD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BE91-65BF-4CD3-8CDF-8C05F5F47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DDD9-B3BC-4882-AF28-249988EB9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30AD-A83B-4657-9CFC-36D2030C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25A1-6C0C-49F0-8ADE-FE18A14D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1E59-3A6A-45D7-89A8-DCDF8FF1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BFBC-DFA9-4C4B-ABA8-A3873765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C177-0825-42F6-BC6D-616E529E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2490-BEE9-4599-B9FE-15339C4A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7816-EFCC-4BE0-B975-68A76861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036C-D674-4693-9ED9-F0A74B2C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09C6-370E-42FE-99EA-7CD36078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D17F-A42C-48B3-B134-F4DCD68B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8D36-D207-42E6-A433-4D4C6D1EE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4E23-EE30-4A3C-B142-1D2BDC917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A678-3254-4BE1-9948-041DD206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9126-0015-4E17-87C2-21C49E2C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73DF-6611-4F00-866E-BE665D29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8919-9007-48FC-908F-D880DBC0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E8E6-84F6-4592-B89F-547301FA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D487-0918-4872-A7D0-2470908B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3416-D11E-46DF-84CA-AB9BAA1E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8D57-8A40-4BD8-916F-8F534633C6CE}" type="datetime">
              <a:rPr b="0" lang="it-IT" sz="1400" spc="-1" strike="noStrike">
                <a:solidFill>
                  <a:srgbClr val="40458c"/>
                </a:solidFill>
                <a:latin typeface="Tahoma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9BB9-A80C-4FB7-A707-D818A5E7B13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092E-F0A6-4D62-8C21-0F6C570A7EAB}" type="datetime">
              <a:rPr b="0" lang="it-IT" sz="1400" spc="-1" strike="noStrike">
                <a:solidFill>
                  <a:srgbClr val="40458c"/>
                </a:solidFill>
                <a:latin typeface="Tahoma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6744-A0C0-46A9-AD0C-7805A87C336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An Analytical Framework for SLA Admission Control in a DiffServ Domain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Marco Melli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Claudio Casett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40458c"/>
                </a:solidFill>
                <a:latin typeface="Tahoma"/>
              </a:rPr>
              <a:t>Gianluca Mardent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Marco Ajmone Marsa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57200" y="3962520"/>
            <a:ext cx="1752480" cy="236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24F55-503A-47E7-BA2A-77CAF785DD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other solu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l possible pdfs hav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ame average </a:t>
            </a:r>
            <a:r>
              <a:rPr b="0" i="1" lang="it-IT" sz="2000" spc="-1" strike="noStrike">
                <a:solidFill>
                  <a:srgbClr val="40458c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 baseline="-25000">
                <a:solidFill>
                  <a:srgbClr val="40458c"/>
                </a:solidFill>
                <a:latin typeface="Times New Roman"/>
              </a:rPr>
              <a:t>i,j</a:t>
            </a:r>
            <a:r>
              <a:rPr b="0" i="1" lang="it-IT" sz="2000" spc="-1" strike="noStrike">
                <a:solidFill>
                  <a:srgbClr val="40458c"/>
                </a:solidFill>
                <a:latin typeface="Symbol"/>
                <a:ea typeface="Symbol"/>
              </a:rPr>
              <a:t>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B</a:t>
            </a:r>
            <a:r>
              <a:rPr b="0" i="1" lang="en-US" sz="2400" spc="-1" strike="noStrike" baseline="-25000">
                <a:solidFill>
                  <a:srgbClr val="40458c"/>
                </a:solidFill>
                <a:latin typeface="Times New Roman"/>
              </a:rPr>
              <a:t>i </a:t>
            </a:r>
            <a:r>
              <a:rPr b="0" i="1" lang="en-US" sz="2000" spc="-1" strike="noStrike">
                <a:solidFill>
                  <a:srgbClr val="40458c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40458c"/>
                </a:solidFill>
                <a:latin typeface="Times New Roman"/>
              </a:rPr>
              <a:t>i,j</a:t>
            </a:r>
            <a:r>
              <a:rPr b="0" i="1" lang="en-US" sz="2400" spc="-1" strike="noStrike" baseline="-25000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ifferent standard deviation </a:t>
            </a:r>
            <a:r>
              <a:rPr b="0" i="1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-25000">
                <a:solidFill>
                  <a:srgbClr val="40458c"/>
                </a:solidFill>
                <a:latin typeface="Times New Roman"/>
              </a:rPr>
              <a:t>i,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orst case analysis: choose the pdf that maximizes </a:t>
            </a:r>
            <a:r>
              <a:rPr b="0" i="1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40458c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wo deltas: either no traffic, or the maximum amount of traffic flows to the same destinat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4120" y="2536920"/>
            <a:ext cx="3102480" cy="2790000"/>
            <a:chOff x="5334120" y="2536920"/>
            <a:chExt cx="3102480" cy="2790000"/>
          </a:xfrm>
        </p:grpSpPr>
        <p:grpSp>
          <p:nvGrpSpPr>
            <p:cNvPr id="285" name=""/>
            <p:cNvGrpSpPr/>
            <p:nvPr/>
          </p:nvGrpSpPr>
          <p:grpSpPr>
            <a:xfrm>
              <a:off x="5334120" y="2612520"/>
              <a:ext cx="3047760" cy="2714400"/>
              <a:chOff x="5334120" y="2612520"/>
              <a:chExt cx="3047760" cy="2714400"/>
            </a:xfrm>
          </p:grpSpPr>
          <p:sp>
            <p:nvSpPr>
              <p:cNvPr id="286" name=""/>
              <p:cNvSpPr/>
              <p:nvPr/>
            </p:nvSpPr>
            <p:spPr>
              <a:xfrm>
                <a:off x="5562720" y="3146400"/>
                <a:ext cx="2361960" cy="1523880"/>
              </a:xfrm>
              <a:prstGeom prst="rect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5562720" y="2612520"/>
                <a:ext cx="0" cy="221004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334120" y="4670280"/>
                <a:ext cx="304776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924680" y="3222720"/>
                <a:ext cx="0" cy="144756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727400" y="4594320"/>
                <a:ext cx="494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40458c"/>
                    </a:solidFill>
                    <a:latin typeface="Times New Roman"/>
                  </a:rPr>
                  <a:t>B</a:t>
                </a:r>
                <a:r>
                  <a:rPr b="0" i="1" lang="en-US" sz="3200" spc="-1" strike="noStrike" baseline="-25000">
                    <a:solidFill>
                      <a:srgbClr val="40458c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426720" y="4678200"/>
                <a:ext cx="9198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40458c"/>
                    </a:solidFill>
                    <a:latin typeface="Times New Roman"/>
                  </a:rPr>
                  <a:t>B</a:t>
                </a:r>
                <a:r>
                  <a:rPr b="0" i="1" lang="en-US" sz="3200" spc="-1" strike="noStrike" baseline="-25000">
                    <a:solidFill>
                      <a:srgbClr val="40458c"/>
                    </a:solidFill>
                    <a:latin typeface="Times New Roman"/>
                  </a:rPr>
                  <a:t>i </a:t>
                </a:r>
                <a:r>
                  <a:rPr b="0" i="1" lang="en-US" sz="2800" spc="-1" strike="noStrike">
                    <a:solidFill>
                      <a:srgbClr val="40458c"/>
                    </a:solidFill>
                    <a:latin typeface="Times New Roman"/>
                  </a:rPr>
                  <a:t>r</a:t>
                </a:r>
                <a:r>
                  <a:rPr b="0" i="1" lang="en-US" sz="2800" spc="-1" strike="noStrike" baseline="-25000">
                    <a:solidFill>
                      <a:srgbClr val="40458c"/>
                    </a:solidFill>
                    <a:latin typeface="Times New Roman"/>
                  </a:rPr>
                  <a:t>i,j</a:t>
                </a:r>
                <a:r>
                  <a:rPr b="0" i="1" lang="en-US" sz="3200" spc="-1" strike="noStrike" baseline="-25000">
                    <a:solidFill>
                      <a:srgbClr val="40458c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858000" y="3375000"/>
                <a:ext cx="0" cy="144792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5547600" y="2536920"/>
              <a:ext cx="28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Traffic profile on </a:t>
              </a:r>
              <a:r>
                <a:rPr b="0" i="1" lang="en-US" sz="1800" spc="-1" strike="noStrike">
                  <a:solidFill>
                    <a:srgbClr val="40458c"/>
                  </a:solidFill>
                  <a:latin typeface="Tahoma"/>
                </a:rPr>
                <a:t>path</a:t>
              </a: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 to </a:t>
              </a:r>
              <a:r>
                <a:rPr b="0" i="1" lang="en-US" sz="1800" spc="-1" strike="noStrike">
                  <a:solidFill>
                    <a:srgbClr val="40458c"/>
                  </a:solidFill>
                  <a:latin typeface="Times New Roman"/>
                </a:rPr>
                <a:t>j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562720" y="2841480"/>
            <a:ext cx="2361960" cy="1828800"/>
            <a:chOff x="5562720" y="2841480"/>
            <a:chExt cx="2361960" cy="1828800"/>
          </a:xfrm>
        </p:grpSpPr>
        <p:sp>
          <p:nvSpPr>
            <p:cNvPr id="295" name=""/>
            <p:cNvSpPr/>
            <p:nvPr/>
          </p:nvSpPr>
          <p:spPr>
            <a:xfrm flipV="1">
              <a:off x="5562720" y="3375000"/>
              <a:ext cx="0" cy="1295280"/>
            </a:xfrm>
            <a:prstGeom prst="line">
              <a:avLst/>
            </a:prstGeom>
            <a:ln w="3168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7924680" y="2841480"/>
              <a:ext cx="0" cy="1828800"/>
            </a:xfrm>
            <a:prstGeom prst="line">
              <a:avLst/>
            </a:prstGeom>
            <a:ln w="3168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76C2-4928-4AB1-BF68-3D7E2F279D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mp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oesn’t require the user to specify its traffic profi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ma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iders the probability that traffic will be present on link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AB95-FCEB-42B6-BCAC-CB1BC7AE1A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447920" y="3429000"/>
            <a:ext cx="7086600" cy="68580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thodology ide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nd the traffic profile on network link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oute user’s “SLA-flows” on the topolog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nd the traffic profile as sum of the different flows routed on the link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95280" indent="-38088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e exact 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pdf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on each link is given by the convolution of all the flow 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pdf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valuate the overbooking probabil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set of admissible SLAs is such that the “overbooking probability” is within the SLA constraint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LA admissibility reg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n line” SLA admission contro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1D6E-FB20-4193-A4CD-0405AB564B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447920" y="3429000"/>
            <a:ext cx="7086600" cy="68580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thodology ide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nd the traffic profile on network link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oute user’s “SLA-flows” on the topolog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nd the traffic profile as sum of the different flows routed on the link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95280" indent="-38088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pproximate the pdf by applying the central limit theorem. Assume indipendence between traffic on path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valuate the overbooking probabil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set of admissible SLAs is such that the “overbooking probability” is within the SLA constraint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LA admissibility reg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n line” SLA admission contro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FC5F-11A1-461A-A75A-86539F6B0D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762120" y="1600200"/>
            <a:ext cx="8076960" cy="76212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62120" y="2362320"/>
            <a:ext cx="8076960" cy="76176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3124080"/>
            <a:ext cx="8076960" cy="152424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2120" y="4648320"/>
            <a:ext cx="8076960" cy="99036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2120" y="5638680"/>
            <a:ext cx="8076960" cy="76212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ormul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800240" y="1523880"/>
            <a:ext cx="419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verage SLA traffic  on  link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due to source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LA standard deviation on link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due to source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otal average traffic on link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otal standard deviation on link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verflow prob. on link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verflow prob. for  SLA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762120" y="1658880"/>
                <a:ext cx="3413160" cy="472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</m:sup>
                            </m:sSubSup>
                          </m:e>
                        </m:nary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/>
                      <m:e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</m:sup>
                            </m:sSubSup>
                          </m:e>
                        </m:nary>
                      </m:e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l</m:t>
                                    </m:r>
                                  </m:sup>
                                </m:sSubSup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rad>
                      </m:e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erfc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l</m:t>
                                </m:r>
                              </m:sup>
                            </m:sSup>
                          </m:e>
                        </m:d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l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l</m:t>
                                    </m:r>
                                  </m:sup>
                                </m:sSub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p>
                                    <m:r>
                                      <m:t xml:space="preserve">l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295E-BE6B-4CF3-BB39-A61F599771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8" dur="1" fill="hold"/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erfomance evalu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e two too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mplementation of the methodolog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nd SLA admissibility region scenari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est single scenarios (SLA-AC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vent-driven simulat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Given a scenario {</a:t>
            </a:r>
            <a:r>
              <a:rPr b="0" i="1" lang="en-US" sz="2000" spc="-1" strike="noStrike">
                <a:solidFill>
                  <a:srgbClr val="40458c"/>
                </a:solidFill>
                <a:latin typeface="Times New Roman"/>
              </a:rPr>
              <a:t>B</a:t>
            </a:r>
            <a:r>
              <a:rPr b="0" i="1" lang="en-US" sz="2000" spc="-1" strike="noStrike" baseline="-25000">
                <a:solidFill>
                  <a:srgbClr val="40458c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40458c"/>
                </a:solidFill>
                <a:latin typeface="Times New Roman"/>
              </a:rPr>
              <a:t>,r</a:t>
            </a:r>
            <a:r>
              <a:rPr b="0" i="1" lang="en-US" sz="2000" spc="-1" strike="noStrike" baseline="-25000">
                <a:solidFill>
                  <a:srgbClr val="40458c"/>
                </a:solidFill>
                <a:latin typeface="Times New Roman"/>
              </a:rPr>
              <a:t>i,j</a:t>
            </a:r>
            <a:r>
              <a:rPr b="0" i="1" lang="en-US" sz="2000" spc="-1" strike="noStrike">
                <a:solidFill>
                  <a:srgbClr val="40458c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</a:t>
            </a:r>
            <a:r>
              <a:rPr b="0" i="1" lang="en-US" sz="2000" spc="-1" strike="noStrike" baseline="-25000">
                <a:solidFill>
                  <a:srgbClr val="40458c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Generates SLA request events and evaluate </a:t>
            </a:r>
            <a:r>
              <a:rPr b="0" i="1" lang="en-US" sz="2000" spc="-1" strike="noStrike">
                <a:solidFill>
                  <a:srgbClr val="40458c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40458c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xperienced by user </a:t>
            </a:r>
            <a:r>
              <a:rPr b="0" i="1" lang="en-US" sz="2000" spc="-1" strike="noStrike">
                <a:solidFill>
                  <a:srgbClr val="40458c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Generation of SLA reque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ersistent mode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oisson mode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1E63-8134-4029-9ADD-B5246C37EB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imulation scenari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ested on a random generated topolog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2 nod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38 links,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40458c"/>
                </a:solidFill>
                <a:latin typeface="Times New Roman"/>
              </a:rPr>
              <a:t>l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=C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for all link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96 SLA (3 users per node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ach SLA specifies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random destinations (out of 32),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40458c"/>
                </a:solidFill>
                <a:latin typeface="Times New Roman"/>
              </a:rPr>
              <a:t>i,j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=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1/ 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40458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= </a:t>
            </a:r>
            <a:r>
              <a:rPr b="0" i="1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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r all use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B</a:t>
            </a:r>
            <a:r>
              <a:rPr b="0" i="1" lang="en-US" sz="2400" spc="-1" strike="noStrike" baseline="-25000">
                <a:solidFill>
                  <a:srgbClr val="40458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so that no more bandwidth can be guaranteed (border SLA scenario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6FCC-1BD9-4261-A397-57A72D17F4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ersistent traffic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1359000" y="58784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104120" y="550548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39800" y="563076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04120" y="513252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02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7843680" y="485136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104120" y="475920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03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39800" y="44784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7843680" y="44784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104120" y="438624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04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639800" y="410544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7843680" y="410544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04120" y="401328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05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639800" y="373212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7843680" y="373212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04120" y="363996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06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639800" y="33591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7843680" y="33591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104120" y="326880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07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639800" y="29862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7843680" y="29862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04120" y="289548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08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639800" y="261468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7843680" y="261468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04120" y="252252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09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39800" y="22417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7843680" y="22417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205280" y="214956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639800" y="597996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7843680" y="597996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104120" y="177624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11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639800" y="5979960"/>
            <a:ext cx="180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547640" y="60721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98600" y="5979960"/>
            <a:ext cx="180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156040" y="60721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955960" y="5979960"/>
            <a:ext cx="1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813400" y="60721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613320" y="5979960"/>
            <a:ext cx="1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470400" y="60721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72120" y="5979960"/>
            <a:ext cx="1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129200" y="60721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29120" y="5979960"/>
            <a:ext cx="180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786560" y="60721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586480" y="5979960"/>
            <a:ext cx="1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43560" y="60721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245280" y="5979960"/>
            <a:ext cx="1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102720" y="60721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902280" y="5979960"/>
            <a:ext cx="180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59720" y="60721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561440" y="5979960"/>
            <a:ext cx="1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418520" y="60721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639800" y="1868400"/>
            <a:ext cx="6249960" cy="4102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387680" y="63644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865840" y="19144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265880" y="2006640"/>
            <a:ext cx="4302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639800" y="2241720"/>
            <a:ext cx="6249960" cy="2778120"/>
          </a:xfrm>
          <a:custGeom>
            <a:avLst/>
            <a:gdLst/>
            <a:ahLst/>
            <a:rect l="l" t="t" r="r" b="b"/>
            <a:pathLst>
              <a:path w="23620" h="10500">
                <a:moveTo>
                  <a:pt x="0" y="0"/>
                </a:moveTo>
                <a:lnTo>
                  <a:pt x="0" y="0"/>
                </a:lnTo>
                <a:lnTo>
                  <a:pt x="249" y="0"/>
                </a:lnTo>
                <a:lnTo>
                  <a:pt x="497" y="0"/>
                </a:lnTo>
                <a:lnTo>
                  <a:pt x="746" y="1071"/>
                </a:lnTo>
                <a:lnTo>
                  <a:pt x="994" y="1071"/>
                </a:lnTo>
                <a:lnTo>
                  <a:pt x="1244" y="1071"/>
                </a:lnTo>
                <a:lnTo>
                  <a:pt x="1492" y="1549"/>
                </a:lnTo>
                <a:lnTo>
                  <a:pt x="1741" y="1549"/>
                </a:lnTo>
                <a:lnTo>
                  <a:pt x="1990" y="1549"/>
                </a:lnTo>
                <a:lnTo>
                  <a:pt x="2238" y="1608"/>
                </a:lnTo>
                <a:lnTo>
                  <a:pt x="2487" y="1608"/>
                </a:lnTo>
                <a:lnTo>
                  <a:pt x="2735" y="1608"/>
                </a:lnTo>
                <a:lnTo>
                  <a:pt x="2984" y="2528"/>
                </a:lnTo>
                <a:lnTo>
                  <a:pt x="3232" y="2528"/>
                </a:lnTo>
                <a:lnTo>
                  <a:pt x="3481" y="2528"/>
                </a:lnTo>
                <a:lnTo>
                  <a:pt x="3730" y="2668"/>
                </a:lnTo>
                <a:lnTo>
                  <a:pt x="3979" y="2668"/>
                </a:lnTo>
                <a:lnTo>
                  <a:pt x="4227" y="2668"/>
                </a:lnTo>
                <a:lnTo>
                  <a:pt x="4476" y="3527"/>
                </a:lnTo>
                <a:lnTo>
                  <a:pt x="4724" y="3527"/>
                </a:lnTo>
                <a:lnTo>
                  <a:pt x="4973" y="3527"/>
                </a:lnTo>
                <a:lnTo>
                  <a:pt x="5221" y="3869"/>
                </a:lnTo>
                <a:lnTo>
                  <a:pt x="5470" y="3869"/>
                </a:lnTo>
                <a:lnTo>
                  <a:pt x="5718" y="3869"/>
                </a:lnTo>
                <a:lnTo>
                  <a:pt x="5968" y="4399"/>
                </a:lnTo>
                <a:lnTo>
                  <a:pt x="6217" y="4399"/>
                </a:lnTo>
                <a:lnTo>
                  <a:pt x="6465" y="4399"/>
                </a:lnTo>
                <a:lnTo>
                  <a:pt x="6714" y="4713"/>
                </a:lnTo>
                <a:lnTo>
                  <a:pt x="6962" y="4713"/>
                </a:lnTo>
                <a:lnTo>
                  <a:pt x="7211" y="4713"/>
                </a:lnTo>
                <a:lnTo>
                  <a:pt x="7459" y="4776"/>
                </a:lnTo>
                <a:lnTo>
                  <a:pt x="7708" y="4776"/>
                </a:lnTo>
                <a:lnTo>
                  <a:pt x="7956" y="4776"/>
                </a:lnTo>
                <a:lnTo>
                  <a:pt x="8205" y="4885"/>
                </a:lnTo>
                <a:lnTo>
                  <a:pt x="8454" y="4885"/>
                </a:lnTo>
                <a:lnTo>
                  <a:pt x="8703" y="4885"/>
                </a:lnTo>
                <a:lnTo>
                  <a:pt x="8951" y="5721"/>
                </a:lnTo>
                <a:lnTo>
                  <a:pt x="9200" y="5721"/>
                </a:lnTo>
                <a:lnTo>
                  <a:pt x="9449" y="5721"/>
                </a:lnTo>
                <a:lnTo>
                  <a:pt x="9697" y="5861"/>
                </a:lnTo>
                <a:lnTo>
                  <a:pt x="9946" y="5861"/>
                </a:lnTo>
                <a:lnTo>
                  <a:pt x="10194" y="5861"/>
                </a:lnTo>
                <a:lnTo>
                  <a:pt x="10443" y="6045"/>
                </a:lnTo>
                <a:lnTo>
                  <a:pt x="10692" y="6045"/>
                </a:lnTo>
                <a:lnTo>
                  <a:pt x="10941" y="6045"/>
                </a:lnTo>
                <a:lnTo>
                  <a:pt x="11188" y="6509"/>
                </a:lnTo>
                <a:lnTo>
                  <a:pt x="11437" y="6509"/>
                </a:lnTo>
                <a:lnTo>
                  <a:pt x="11685" y="6509"/>
                </a:lnTo>
                <a:lnTo>
                  <a:pt x="11934" y="6646"/>
                </a:lnTo>
                <a:lnTo>
                  <a:pt x="12182" y="6646"/>
                </a:lnTo>
                <a:lnTo>
                  <a:pt x="12431" y="6646"/>
                </a:lnTo>
                <a:lnTo>
                  <a:pt x="12679" y="7557"/>
                </a:lnTo>
                <a:lnTo>
                  <a:pt x="12928" y="7557"/>
                </a:lnTo>
                <a:lnTo>
                  <a:pt x="13177" y="7557"/>
                </a:lnTo>
                <a:lnTo>
                  <a:pt x="13426" y="7812"/>
                </a:lnTo>
                <a:lnTo>
                  <a:pt x="13675" y="7812"/>
                </a:lnTo>
                <a:lnTo>
                  <a:pt x="13923" y="7812"/>
                </a:lnTo>
                <a:lnTo>
                  <a:pt x="14172" y="7852"/>
                </a:lnTo>
                <a:lnTo>
                  <a:pt x="14420" y="7852"/>
                </a:lnTo>
                <a:lnTo>
                  <a:pt x="14669" y="7852"/>
                </a:lnTo>
                <a:lnTo>
                  <a:pt x="14917" y="7964"/>
                </a:lnTo>
                <a:lnTo>
                  <a:pt x="15166" y="7964"/>
                </a:lnTo>
                <a:lnTo>
                  <a:pt x="15415" y="7964"/>
                </a:lnTo>
                <a:lnTo>
                  <a:pt x="15664" y="7967"/>
                </a:lnTo>
                <a:lnTo>
                  <a:pt x="15912" y="7967"/>
                </a:lnTo>
                <a:lnTo>
                  <a:pt x="16161" y="7967"/>
                </a:lnTo>
                <a:lnTo>
                  <a:pt x="16409" y="7984"/>
                </a:lnTo>
                <a:lnTo>
                  <a:pt x="16658" y="7984"/>
                </a:lnTo>
                <a:lnTo>
                  <a:pt x="16906" y="7984"/>
                </a:lnTo>
                <a:lnTo>
                  <a:pt x="17155" y="8033"/>
                </a:lnTo>
                <a:lnTo>
                  <a:pt x="17403" y="8033"/>
                </a:lnTo>
                <a:lnTo>
                  <a:pt x="17652" y="8033"/>
                </a:lnTo>
                <a:lnTo>
                  <a:pt x="17902" y="8091"/>
                </a:lnTo>
                <a:lnTo>
                  <a:pt x="18150" y="8091"/>
                </a:lnTo>
                <a:lnTo>
                  <a:pt x="18399" y="8091"/>
                </a:lnTo>
                <a:lnTo>
                  <a:pt x="18647" y="8264"/>
                </a:lnTo>
                <a:lnTo>
                  <a:pt x="18896" y="8264"/>
                </a:lnTo>
                <a:lnTo>
                  <a:pt x="19144" y="8264"/>
                </a:lnTo>
                <a:lnTo>
                  <a:pt x="19393" y="8301"/>
                </a:lnTo>
                <a:lnTo>
                  <a:pt x="19641" y="8301"/>
                </a:lnTo>
                <a:lnTo>
                  <a:pt x="19890" y="8301"/>
                </a:lnTo>
                <a:lnTo>
                  <a:pt x="20139" y="9282"/>
                </a:lnTo>
                <a:lnTo>
                  <a:pt x="20388" y="9282"/>
                </a:lnTo>
                <a:lnTo>
                  <a:pt x="20636" y="9282"/>
                </a:lnTo>
                <a:lnTo>
                  <a:pt x="20885" y="9575"/>
                </a:lnTo>
                <a:lnTo>
                  <a:pt x="21134" y="9575"/>
                </a:lnTo>
                <a:lnTo>
                  <a:pt x="21382" y="9575"/>
                </a:lnTo>
                <a:lnTo>
                  <a:pt x="21631" y="10253"/>
                </a:lnTo>
                <a:lnTo>
                  <a:pt x="21879" y="10253"/>
                </a:lnTo>
                <a:lnTo>
                  <a:pt x="22128" y="10253"/>
                </a:lnTo>
                <a:lnTo>
                  <a:pt x="22376" y="10405"/>
                </a:lnTo>
                <a:lnTo>
                  <a:pt x="22626" y="10405"/>
                </a:lnTo>
                <a:lnTo>
                  <a:pt x="22874" y="10405"/>
                </a:lnTo>
                <a:lnTo>
                  <a:pt x="23123" y="10500"/>
                </a:lnTo>
                <a:lnTo>
                  <a:pt x="23371" y="10500"/>
                </a:lnTo>
                <a:lnTo>
                  <a:pt x="23620" y="1050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32280" y="21081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771560" y="3903840"/>
            <a:ext cx="180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32280" y="23018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832280" y="249696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832280" y="26906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953040" y="1905120"/>
            <a:ext cx="1317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3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13800" y="3336840"/>
            <a:ext cx="377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40458c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39800" y="52563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39800" y="485136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878600" y="56325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878600" y="52578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639800" y="186840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7843680" y="186840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639800" y="186840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98600" y="186840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55960" y="186840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613320" y="186840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272120" y="186840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29120" y="186840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586480" y="186840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45280" y="186840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902280" y="186840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561440" y="186840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076240" y="1828800"/>
            <a:ext cx="4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523880" y="2235240"/>
            <a:ext cx="67057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704720" y="60040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imes New Roman"/>
              </a:rPr>
              <a:t>Use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E63E-AF27-437B-8E33-8FCE1EB965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ersistent traffic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0" name=""/>
          <p:cNvSpPr/>
          <p:nvPr/>
        </p:nvSpPr>
        <p:spPr>
          <a:xfrm>
            <a:off x="1639800" y="59706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7843680" y="59706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359000" y="58784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39800" y="559764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7843680" y="559764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104120" y="550548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639800" y="522432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104120" y="513252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02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39800" y="485136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7843680" y="485136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104120" y="475920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03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639800" y="44784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7843680" y="44784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04120" y="438624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04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639800" y="410544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7843680" y="410544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104120" y="401328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05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639800" y="373212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7843680" y="373212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104120" y="363996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06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639800" y="33591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7843680" y="33591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104120" y="326880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07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639800" y="29862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7843680" y="29862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104120" y="289548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08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639800" y="261468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7843680" y="261468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04120" y="252252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09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39800" y="22417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7843680" y="22417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205280" y="214956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39800" y="186840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7843680" y="186840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104120" y="177624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11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1639800" y="592884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39800" y="186840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547640" y="60721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2298600" y="592884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98600" y="186840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56040" y="60721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2955960" y="59288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955960" y="186840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3400" y="60721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3613320" y="59288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613320" y="186840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470400" y="60721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4272120" y="59288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272120" y="186840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29200" y="60721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4929120" y="592884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929120" y="186840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786560" y="60721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5586480" y="59288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586480" y="186840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443560" y="60721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6245280" y="59288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245280" y="186840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102720" y="60721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6902280" y="592884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902280" y="186840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759720" y="60721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7561440" y="59288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561440" y="186840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418520" y="60721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639800" y="1868400"/>
            <a:ext cx="6249960" cy="4102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387680" y="63644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865840" y="19144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265880" y="2006640"/>
            <a:ext cx="4302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639800" y="2241720"/>
            <a:ext cx="6249960" cy="2778120"/>
          </a:xfrm>
          <a:custGeom>
            <a:avLst/>
            <a:gdLst/>
            <a:ahLst/>
            <a:rect l="l" t="t" r="r" b="b"/>
            <a:pathLst>
              <a:path w="23620" h="10500">
                <a:moveTo>
                  <a:pt x="0" y="0"/>
                </a:moveTo>
                <a:lnTo>
                  <a:pt x="0" y="0"/>
                </a:lnTo>
                <a:lnTo>
                  <a:pt x="249" y="0"/>
                </a:lnTo>
                <a:lnTo>
                  <a:pt x="497" y="0"/>
                </a:lnTo>
                <a:lnTo>
                  <a:pt x="746" y="1071"/>
                </a:lnTo>
                <a:lnTo>
                  <a:pt x="994" y="1071"/>
                </a:lnTo>
                <a:lnTo>
                  <a:pt x="1244" y="1071"/>
                </a:lnTo>
                <a:lnTo>
                  <a:pt x="1492" y="1549"/>
                </a:lnTo>
                <a:lnTo>
                  <a:pt x="1741" y="1549"/>
                </a:lnTo>
                <a:lnTo>
                  <a:pt x="1990" y="1549"/>
                </a:lnTo>
                <a:lnTo>
                  <a:pt x="2238" y="1608"/>
                </a:lnTo>
                <a:lnTo>
                  <a:pt x="2487" y="1608"/>
                </a:lnTo>
                <a:lnTo>
                  <a:pt x="2735" y="1608"/>
                </a:lnTo>
                <a:lnTo>
                  <a:pt x="2984" y="2528"/>
                </a:lnTo>
                <a:lnTo>
                  <a:pt x="3232" y="2528"/>
                </a:lnTo>
                <a:lnTo>
                  <a:pt x="3481" y="2528"/>
                </a:lnTo>
                <a:lnTo>
                  <a:pt x="3730" y="2668"/>
                </a:lnTo>
                <a:lnTo>
                  <a:pt x="3979" y="2668"/>
                </a:lnTo>
                <a:lnTo>
                  <a:pt x="4227" y="2668"/>
                </a:lnTo>
                <a:lnTo>
                  <a:pt x="4476" y="3527"/>
                </a:lnTo>
                <a:lnTo>
                  <a:pt x="4724" y="3527"/>
                </a:lnTo>
                <a:lnTo>
                  <a:pt x="4973" y="3527"/>
                </a:lnTo>
                <a:lnTo>
                  <a:pt x="5221" y="3869"/>
                </a:lnTo>
                <a:lnTo>
                  <a:pt x="5470" y="3869"/>
                </a:lnTo>
                <a:lnTo>
                  <a:pt x="5718" y="3869"/>
                </a:lnTo>
                <a:lnTo>
                  <a:pt x="5968" y="4399"/>
                </a:lnTo>
                <a:lnTo>
                  <a:pt x="6217" y="4399"/>
                </a:lnTo>
                <a:lnTo>
                  <a:pt x="6465" y="4399"/>
                </a:lnTo>
                <a:lnTo>
                  <a:pt x="6714" y="4713"/>
                </a:lnTo>
                <a:lnTo>
                  <a:pt x="6962" y="4713"/>
                </a:lnTo>
                <a:lnTo>
                  <a:pt x="7211" y="4713"/>
                </a:lnTo>
                <a:lnTo>
                  <a:pt x="7459" y="4776"/>
                </a:lnTo>
                <a:lnTo>
                  <a:pt x="7708" y="4776"/>
                </a:lnTo>
                <a:lnTo>
                  <a:pt x="7956" y="4776"/>
                </a:lnTo>
                <a:lnTo>
                  <a:pt x="8205" y="4885"/>
                </a:lnTo>
                <a:lnTo>
                  <a:pt x="8454" y="4885"/>
                </a:lnTo>
                <a:lnTo>
                  <a:pt x="8703" y="4885"/>
                </a:lnTo>
                <a:lnTo>
                  <a:pt x="8951" y="5721"/>
                </a:lnTo>
                <a:lnTo>
                  <a:pt x="9200" y="5721"/>
                </a:lnTo>
                <a:lnTo>
                  <a:pt x="9449" y="5721"/>
                </a:lnTo>
                <a:lnTo>
                  <a:pt x="9697" y="5861"/>
                </a:lnTo>
                <a:lnTo>
                  <a:pt x="9946" y="5861"/>
                </a:lnTo>
                <a:lnTo>
                  <a:pt x="10194" y="5861"/>
                </a:lnTo>
                <a:lnTo>
                  <a:pt x="10443" y="6045"/>
                </a:lnTo>
                <a:lnTo>
                  <a:pt x="10692" y="6045"/>
                </a:lnTo>
                <a:lnTo>
                  <a:pt x="10941" y="6045"/>
                </a:lnTo>
                <a:lnTo>
                  <a:pt x="11188" y="6509"/>
                </a:lnTo>
                <a:lnTo>
                  <a:pt x="11437" y="6509"/>
                </a:lnTo>
                <a:lnTo>
                  <a:pt x="11685" y="6509"/>
                </a:lnTo>
                <a:lnTo>
                  <a:pt x="11934" y="6646"/>
                </a:lnTo>
                <a:lnTo>
                  <a:pt x="12182" y="6646"/>
                </a:lnTo>
                <a:lnTo>
                  <a:pt x="12431" y="6646"/>
                </a:lnTo>
                <a:lnTo>
                  <a:pt x="12679" y="7557"/>
                </a:lnTo>
                <a:lnTo>
                  <a:pt x="12928" y="7557"/>
                </a:lnTo>
                <a:lnTo>
                  <a:pt x="13177" y="7557"/>
                </a:lnTo>
                <a:lnTo>
                  <a:pt x="13426" y="7812"/>
                </a:lnTo>
                <a:lnTo>
                  <a:pt x="13675" y="7812"/>
                </a:lnTo>
                <a:lnTo>
                  <a:pt x="13923" y="7812"/>
                </a:lnTo>
                <a:lnTo>
                  <a:pt x="14172" y="7852"/>
                </a:lnTo>
                <a:lnTo>
                  <a:pt x="14420" y="7852"/>
                </a:lnTo>
                <a:lnTo>
                  <a:pt x="14669" y="7852"/>
                </a:lnTo>
                <a:lnTo>
                  <a:pt x="14917" y="7964"/>
                </a:lnTo>
                <a:lnTo>
                  <a:pt x="15166" y="7964"/>
                </a:lnTo>
                <a:lnTo>
                  <a:pt x="15415" y="7964"/>
                </a:lnTo>
                <a:lnTo>
                  <a:pt x="15664" y="7967"/>
                </a:lnTo>
                <a:lnTo>
                  <a:pt x="15912" y="7967"/>
                </a:lnTo>
                <a:lnTo>
                  <a:pt x="16161" y="7967"/>
                </a:lnTo>
                <a:lnTo>
                  <a:pt x="16409" y="7984"/>
                </a:lnTo>
                <a:lnTo>
                  <a:pt x="16658" y="7984"/>
                </a:lnTo>
                <a:lnTo>
                  <a:pt x="16906" y="7984"/>
                </a:lnTo>
                <a:lnTo>
                  <a:pt x="17155" y="8033"/>
                </a:lnTo>
                <a:lnTo>
                  <a:pt x="17403" y="8033"/>
                </a:lnTo>
                <a:lnTo>
                  <a:pt x="17652" y="8033"/>
                </a:lnTo>
                <a:lnTo>
                  <a:pt x="17902" y="8091"/>
                </a:lnTo>
                <a:lnTo>
                  <a:pt x="18150" y="8091"/>
                </a:lnTo>
                <a:lnTo>
                  <a:pt x="18399" y="8091"/>
                </a:lnTo>
                <a:lnTo>
                  <a:pt x="18647" y="8264"/>
                </a:lnTo>
                <a:lnTo>
                  <a:pt x="18896" y="8264"/>
                </a:lnTo>
                <a:lnTo>
                  <a:pt x="19144" y="8264"/>
                </a:lnTo>
                <a:lnTo>
                  <a:pt x="19393" y="8301"/>
                </a:lnTo>
                <a:lnTo>
                  <a:pt x="19641" y="8301"/>
                </a:lnTo>
                <a:lnTo>
                  <a:pt x="19890" y="8301"/>
                </a:lnTo>
                <a:lnTo>
                  <a:pt x="20139" y="9282"/>
                </a:lnTo>
                <a:lnTo>
                  <a:pt x="20388" y="9282"/>
                </a:lnTo>
                <a:lnTo>
                  <a:pt x="20636" y="9282"/>
                </a:lnTo>
                <a:lnTo>
                  <a:pt x="20885" y="9575"/>
                </a:lnTo>
                <a:lnTo>
                  <a:pt x="21134" y="9575"/>
                </a:lnTo>
                <a:lnTo>
                  <a:pt x="21382" y="9575"/>
                </a:lnTo>
                <a:lnTo>
                  <a:pt x="21631" y="10253"/>
                </a:lnTo>
                <a:lnTo>
                  <a:pt x="21879" y="10253"/>
                </a:lnTo>
                <a:lnTo>
                  <a:pt x="22128" y="10253"/>
                </a:lnTo>
                <a:lnTo>
                  <a:pt x="22376" y="10405"/>
                </a:lnTo>
                <a:lnTo>
                  <a:pt x="22626" y="10405"/>
                </a:lnTo>
                <a:lnTo>
                  <a:pt x="22874" y="10405"/>
                </a:lnTo>
                <a:lnTo>
                  <a:pt x="23123" y="10500"/>
                </a:lnTo>
                <a:lnTo>
                  <a:pt x="23371" y="10500"/>
                </a:lnTo>
                <a:lnTo>
                  <a:pt x="23620" y="1050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832280" y="21081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771560" y="3903840"/>
            <a:ext cx="180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832280" y="23018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598760" y="5535720"/>
            <a:ext cx="82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639800" y="5499000"/>
            <a:ext cx="180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598760" y="5499000"/>
            <a:ext cx="8244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1598760" y="5499000"/>
            <a:ext cx="8244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665360" y="5565600"/>
            <a:ext cx="82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706400" y="5529240"/>
            <a:ext cx="180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665360" y="5529240"/>
            <a:ext cx="8244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1665360" y="5528880"/>
            <a:ext cx="8244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730520" y="5557680"/>
            <a:ext cx="82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771560" y="5521320"/>
            <a:ext cx="180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730520" y="5521320"/>
            <a:ext cx="82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1730520" y="5520960"/>
            <a:ext cx="82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795320" y="5565600"/>
            <a:ext cx="842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36720" y="5529240"/>
            <a:ext cx="144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795320" y="5529240"/>
            <a:ext cx="8424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1795320" y="5528880"/>
            <a:ext cx="8424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862280" y="5580000"/>
            <a:ext cx="82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903320" y="5543640"/>
            <a:ext cx="180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862280" y="5543640"/>
            <a:ext cx="82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1862280" y="5543280"/>
            <a:ext cx="8244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927080" y="5559480"/>
            <a:ext cx="842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968480" y="5522760"/>
            <a:ext cx="144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927080" y="5522760"/>
            <a:ext cx="8424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1927080" y="5522400"/>
            <a:ext cx="8424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994040" y="5586480"/>
            <a:ext cx="82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035080" y="5548320"/>
            <a:ext cx="180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994040" y="5548320"/>
            <a:ext cx="82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1994040" y="5547960"/>
            <a:ext cx="82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058840" y="5570640"/>
            <a:ext cx="842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100240" y="5533920"/>
            <a:ext cx="144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058840" y="5533920"/>
            <a:ext cx="8424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2058840" y="5533560"/>
            <a:ext cx="8424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125800" y="5572080"/>
            <a:ext cx="82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166840" y="5533920"/>
            <a:ext cx="180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125800" y="5533920"/>
            <a:ext cx="8244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2125800" y="5533920"/>
            <a:ext cx="8244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190600" y="5654520"/>
            <a:ext cx="8280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32000" y="5618160"/>
            <a:ext cx="1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190600" y="5618160"/>
            <a:ext cx="8280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2190600" y="5617800"/>
            <a:ext cx="8280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257560" y="5651640"/>
            <a:ext cx="82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298600" y="5614920"/>
            <a:ext cx="180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257560" y="5614920"/>
            <a:ext cx="8244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2257560" y="5614560"/>
            <a:ext cx="8244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322360" y="5637240"/>
            <a:ext cx="82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363760" y="5599080"/>
            <a:ext cx="1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22360" y="5599080"/>
            <a:ext cx="8280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2322360" y="5598720"/>
            <a:ext cx="8280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387520" y="5661000"/>
            <a:ext cx="842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428920" y="5624640"/>
            <a:ext cx="1440" cy="727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87520" y="5624640"/>
            <a:ext cx="84240" cy="727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387520" y="5624640"/>
            <a:ext cx="84240" cy="727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454120" y="5661000"/>
            <a:ext cx="82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495520" y="5624640"/>
            <a:ext cx="1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454120" y="5624640"/>
            <a:ext cx="8280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2454120" y="5624640"/>
            <a:ext cx="82800" cy="727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519280" y="5657760"/>
            <a:ext cx="8280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560680" y="5621400"/>
            <a:ext cx="1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519280" y="5621400"/>
            <a:ext cx="8280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2519280" y="5621040"/>
            <a:ext cx="8280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585880" y="5684760"/>
            <a:ext cx="8280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627280" y="5648400"/>
            <a:ext cx="180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585880" y="5648400"/>
            <a:ext cx="8280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2585880" y="5648040"/>
            <a:ext cx="8280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651040" y="5670720"/>
            <a:ext cx="842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692440" y="5632560"/>
            <a:ext cx="1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651040" y="5632560"/>
            <a:ext cx="842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2651040" y="5632200"/>
            <a:ext cx="842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717640" y="5681520"/>
            <a:ext cx="8280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759040" y="5645160"/>
            <a:ext cx="180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717640" y="5645160"/>
            <a:ext cx="8280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2717640" y="5643360"/>
            <a:ext cx="8280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782800" y="5811840"/>
            <a:ext cx="82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824200" y="5775480"/>
            <a:ext cx="1440" cy="727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782800" y="5775480"/>
            <a:ext cx="82800" cy="727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2782800" y="5773320"/>
            <a:ext cx="8280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849400" y="5815080"/>
            <a:ext cx="82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890800" y="5776920"/>
            <a:ext cx="180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849400" y="5776920"/>
            <a:ext cx="8280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2849400" y="5776560"/>
            <a:ext cx="8280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914560" y="5835600"/>
            <a:ext cx="8280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955960" y="5797440"/>
            <a:ext cx="144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914560" y="5797440"/>
            <a:ext cx="8280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914560" y="5797440"/>
            <a:ext cx="8280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979720" y="5716440"/>
            <a:ext cx="842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021120" y="5680080"/>
            <a:ext cx="1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79720" y="5680080"/>
            <a:ext cx="842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2979720" y="5679720"/>
            <a:ext cx="842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6320" y="5730840"/>
            <a:ext cx="8280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087720" y="5692680"/>
            <a:ext cx="144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046320" y="5692680"/>
            <a:ext cx="8280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046320" y="5692680"/>
            <a:ext cx="8280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111480" y="5746680"/>
            <a:ext cx="82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152880" y="5708520"/>
            <a:ext cx="144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111480" y="5708520"/>
            <a:ext cx="8244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3111480" y="5708520"/>
            <a:ext cx="8244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178080" y="5702400"/>
            <a:ext cx="82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219480" y="5665680"/>
            <a:ext cx="144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178080" y="5665680"/>
            <a:ext cx="8280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3178080" y="5665680"/>
            <a:ext cx="8280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243240" y="5689440"/>
            <a:ext cx="82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284640" y="5651640"/>
            <a:ext cx="1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243240" y="5651640"/>
            <a:ext cx="82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3243240" y="5651280"/>
            <a:ext cx="82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309840" y="5675400"/>
            <a:ext cx="82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351240" y="5638680"/>
            <a:ext cx="144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309840" y="5638680"/>
            <a:ext cx="8280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3309840" y="5638320"/>
            <a:ext cx="8280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375000" y="5678640"/>
            <a:ext cx="82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416400" y="5640480"/>
            <a:ext cx="1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375000" y="5640480"/>
            <a:ext cx="82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3375000" y="5640120"/>
            <a:ext cx="82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441600" y="5662440"/>
            <a:ext cx="8280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83000" y="5626080"/>
            <a:ext cx="1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441600" y="5626080"/>
            <a:ext cx="8280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3441600" y="5625720"/>
            <a:ext cx="8280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506760" y="5672160"/>
            <a:ext cx="82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548160" y="5635800"/>
            <a:ext cx="1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506760" y="5635800"/>
            <a:ext cx="82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3506760" y="5635800"/>
            <a:ext cx="82440" cy="727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571920" y="5664240"/>
            <a:ext cx="842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613320" y="5627520"/>
            <a:ext cx="144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571920" y="5627520"/>
            <a:ext cx="8424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3571920" y="5627160"/>
            <a:ext cx="8424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638520" y="5646600"/>
            <a:ext cx="82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679920" y="5610240"/>
            <a:ext cx="144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638520" y="5610240"/>
            <a:ext cx="8244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3638520" y="5609880"/>
            <a:ext cx="8244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703680" y="5654520"/>
            <a:ext cx="82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745080" y="5618160"/>
            <a:ext cx="144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703680" y="5618160"/>
            <a:ext cx="8244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3703680" y="5616360"/>
            <a:ext cx="82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770280" y="5732640"/>
            <a:ext cx="82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3770280" y="5625720"/>
            <a:ext cx="3371760" cy="235440"/>
            <a:chOff x="3770280" y="5625720"/>
            <a:chExt cx="3371760" cy="235440"/>
          </a:xfrm>
        </p:grpSpPr>
        <p:sp>
          <p:nvSpPr>
            <p:cNvPr id="607" name=""/>
            <p:cNvSpPr/>
            <p:nvPr/>
          </p:nvSpPr>
          <p:spPr>
            <a:xfrm>
              <a:off x="3811680" y="5695920"/>
              <a:ext cx="1440" cy="7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770280" y="5695920"/>
              <a:ext cx="82440" cy="7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3770280" y="5695560"/>
              <a:ext cx="82440" cy="7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835440" y="5753160"/>
              <a:ext cx="82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876840" y="5716440"/>
              <a:ext cx="14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35440" y="5716440"/>
              <a:ext cx="824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3835440" y="5716440"/>
              <a:ext cx="824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02040" y="5757840"/>
              <a:ext cx="82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943440" y="5721480"/>
              <a:ext cx="1440" cy="727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902040" y="5721480"/>
              <a:ext cx="82440" cy="727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3902040" y="5721480"/>
              <a:ext cx="82440" cy="727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967200" y="5664240"/>
              <a:ext cx="82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008600" y="5626080"/>
              <a:ext cx="1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967200" y="562608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3967200" y="562572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032360" y="5695920"/>
              <a:ext cx="8388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075200" y="5657760"/>
              <a:ext cx="14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032360" y="5657760"/>
              <a:ext cx="8388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4032360" y="5657760"/>
              <a:ext cx="8388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098960" y="5672160"/>
              <a:ext cx="82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140360" y="5635800"/>
              <a:ext cx="1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098960" y="563580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4098960" y="5635800"/>
              <a:ext cx="82440" cy="727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164120" y="5799240"/>
              <a:ext cx="8388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205160" y="5761080"/>
              <a:ext cx="180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164120" y="5761080"/>
              <a:ext cx="8388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4164120" y="5760720"/>
              <a:ext cx="8388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30720" y="5781600"/>
              <a:ext cx="82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272120" y="5745240"/>
              <a:ext cx="1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230720" y="574524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4230720" y="574488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295880" y="5788080"/>
              <a:ext cx="82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336920" y="5751360"/>
              <a:ext cx="180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295880" y="5751360"/>
              <a:ext cx="824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4295880" y="5751360"/>
              <a:ext cx="824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362480" y="5794200"/>
              <a:ext cx="82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403880" y="5757840"/>
              <a:ext cx="1440" cy="7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362480" y="5757840"/>
              <a:ext cx="82440" cy="7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4362480" y="575604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427640" y="5800680"/>
              <a:ext cx="82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468680" y="5762520"/>
              <a:ext cx="180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427640" y="5762520"/>
              <a:ext cx="824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4427640" y="5762520"/>
              <a:ext cx="824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494240" y="5789520"/>
              <a:ext cx="82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535640" y="5751360"/>
              <a:ext cx="14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494240" y="5751360"/>
              <a:ext cx="824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4494240" y="5751360"/>
              <a:ext cx="824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559400" y="5710320"/>
              <a:ext cx="82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600440" y="5673600"/>
              <a:ext cx="180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559400" y="5673600"/>
              <a:ext cx="824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4559400" y="5673600"/>
              <a:ext cx="824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624560" y="5681520"/>
              <a:ext cx="8388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665600" y="5645160"/>
              <a:ext cx="180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624560" y="5645160"/>
              <a:ext cx="8388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4624560" y="5644800"/>
              <a:ext cx="8388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691160" y="5716440"/>
              <a:ext cx="82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732200" y="5680080"/>
              <a:ext cx="180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691160" y="568008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4691160" y="567972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756320" y="5722920"/>
              <a:ext cx="82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797360" y="5686560"/>
              <a:ext cx="1800" cy="727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756320" y="5686560"/>
              <a:ext cx="82440" cy="727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4756320" y="568440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822920" y="5738760"/>
              <a:ext cx="82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863960" y="5700600"/>
              <a:ext cx="180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822920" y="5700600"/>
              <a:ext cx="824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4822920" y="5700600"/>
              <a:ext cx="824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888080" y="5748480"/>
              <a:ext cx="82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929120" y="5711760"/>
              <a:ext cx="180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888080" y="571176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4888080" y="5711400"/>
              <a:ext cx="82440" cy="7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952880" y="5683320"/>
              <a:ext cx="842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994280" y="5646600"/>
              <a:ext cx="14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952880" y="5646600"/>
              <a:ext cx="842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4952880" y="5646600"/>
              <a:ext cx="842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019840" y="5681520"/>
              <a:ext cx="82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060880" y="5645160"/>
              <a:ext cx="180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19840" y="564516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5019840" y="564480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084640" y="5688000"/>
              <a:ext cx="842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126040" y="5649840"/>
              <a:ext cx="1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084640" y="5649840"/>
              <a:ext cx="842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5084640" y="5649480"/>
              <a:ext cx="842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151600" y="5769000"/>
              <a:ext cx="82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192640" y="5730840"/>
              <a:ext cx="180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151600" y="573084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5151600" y="573048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216400" y="5772240"/>
              <a:ext cx="82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257800" y="5735520"/>
              <a:ext cx="14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216400" y="5735520"/>
              <a:ext cx="8280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5216400" y="5735520"/>
              <a:ext cx="8280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283360" y="5769000"/>
              <a:ext cx="82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324400" y="5732640"/>
              <a:ext cx="180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283360" y="573264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5283360" y="573228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348160" y="5796000"/>
              <a:ext cx="82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389560" y="5759280"/>
              <a:ext cx="14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348160" y="5759280"/>
              <a:ext cx="8280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5348160" y="5759280"/>
              <a:ext cx="8280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413320" y="5765760"/>
              <a:ext cx="842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456160" y="5729400"/>
              <a:ext cx="1800" cy="7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413320" y="5729400"/>
              <a:ext cx="84240" cy="7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5413320" y="5727600"/>
              <a:ext cx="842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479920" y="5784840"/>
              <a:ext cx="82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521320" y="5748480"/>
              <a:ext cx="1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479920" y="5748480"/>
              <a:ext cx="8280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5479920" y="5748120"/>
              <a:ext cx="8280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545080" y="5773680"/>
              <a:ext cx="842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586480" y="5737320"/>
              <a:ext cx="1440" cy="7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545080" y="5737320"/>
              <a:ext cx="84240" cy="7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5545080" y="5735520"/>
              <a:ext cx="842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611680" y="5764320"/>
              <a:ext cx="82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653080" y="5727600"/>
              <a:ext cx="14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611680" y="5727600"/>
              <a:ext cx="8280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5611680" y="5727240"/>
              <a:ext cx="82800" cy="7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676840" y="5786280"/>
              <a:ext cx="842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718240" y="5749920"/>
              <a:ext cx="1440" cy="7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676840" y="5749920"/>
              <a:ext cx="84240" cy="7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5676840" y="5749560"/>
              <a:ext cx="84240" cy="7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743440" y="5781600"/>
              <a:ext cx="8280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784840" y="5745240"/>
              <a:ext cx="1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743440" y="5745240"/>
              <a:ext cx="8280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5743440" y="5744880"/>
              <a:ext cx="82800" cy="7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808600" y="5781600"/>
              <a:ext cx="82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50000" y="5745240"/>
              <a:ext cx="1440" cy="7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808600" y="5745240"/>
              <a:ext cx="82440" cy="7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5808600" y="5743440"/>
              <a:ext cx="824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875200" y="5778360"/>
              <a:ext cx="8280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916600" y="5742000"/>
              <a:ext cx="1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875200" y="5742000"/>
              <a:ext cx="8280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5875200" y="5741640"/>
              <a:ext cx="8280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940360" y="5684760"/>
              <a:ext cx="82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981760" y="5648400"/>
              <a:ext cx="1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940360" y="564840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940360" y="564804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005520" y="5702400"/>
              <a:ext cx="842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46920" y="5665680"/>
              <a:ext cx="14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05520" y="5665680"/>
              <a:ext cx="842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6005520" y="5665680"/>
              <a:ext cx="842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072120" y="5722920"/>
              <a:ext cx="82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113520" y="5686560"/>
              <a:ext cx="1440" cy="727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72120" y="5686560"/>
              <a:ext cx="82440" cy="727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6072120" y="568440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137280" y="5776920"/>
              <a:ext cx="842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178680" y="5740560"/>
              <a:ext cx="1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137280" y="5740560"/>
              <a:ext cx="842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6137280" y="5740200"/>
              <a:ext cx="842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03880" y="5761080"/>
              <a:ext cx="82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245280" y="5724360"/>
              <a:ext cx="14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203880" y="5724360"/>
              <a:ext cx="8280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6203880" y="5724000"/>
              <a:ext cx="82800" cy="7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269040" y="5765760"/>
              <a:ext cx="82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310440" y="5729400"/>
              <a:ext cx="1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269040" y="572940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6269040" y="572904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335640" y="5756400"/>
              <a:ext cx="82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377040" y="5718240"/>
              <a:ext cx="1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335640" y="5718240"/>
              <a:ext cx="8280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6335640" y="5717880"/>
              <a:ext cx="8280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400800" y="5761080"/>
              <a:ext cx="82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442200" y="5724360"/>
              <a:ext cx="14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400800" y="5724360"/>
              <a:ext cx="824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6400800" y="5724360"/>
              <a:ext cx="824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67400" y="5778360"/>
              <a:ext cx="8280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508800" y="5742000"/>
              <a:ext cx="1440" cy="7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467400" y="5742000"/>
              <a:ext cx="82800" cy="7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6467400" y="5740200"/>
              <a:ext cx="8280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532560" y="5776920"/>
              <a:ext cx="82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573960" y="5740560"/>
              <a:ext cx="1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532560" y="574056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6532560" y="574020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597720" y="5802480"/>
              <a:ext cx="842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638760" y="5765760"/>
              <a:ext cx="180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597720" y="5765760"/>
              <a:ext cx="842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6597720" y="5765400"/>
              <a:ext cx="842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664320" y="5792760"/>
              <a:ext cx="82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705720" y="5754600"/>
              <a:ext cx="14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664320" y="5754600"/>
              <a:ext cx="824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6664320" y="5754600"/>
              <a:ext cx="824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729480" y="5770440"/>
              <a:ext cx="842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770520" y="5734080"/>
              <a:ext cx="1800" cy="7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729480" y="5734080"/>
              <a:ext cx="84240" cy="7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6729480" y="5733720"/>
              <a:ext cx="84240" cy="7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6080" y="5788080"/>
              <a:ext cx="82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837480" y="5749920"/>
              <a:ext cx="1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796080" y="574992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6796080" y="574956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861240" y="5792760"/>
              <a:ext cx="82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902280" y="5754600"/>
              <a:ext cx="180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861240" y="5754600"/>
              <a:ext cx="824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6861240" y="5754600"/>
              <a:ext cx="824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927840" y="5823000"/>
              <a:ext cx="82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969240" y="5786280"/>
              <a:ext cx="14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927840" y="5786280"/>
              <a:ext cx="824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6927840" y="5786280"/>
              <a:ext cx="824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993000" y="5781600"/>
              <a:ext cx="82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034040" y="5745240"/>
              <a:ext cx="1800" cy="7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993000" y="5745240"/>
              <a:ext cx="82440" cy="7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6993000" y="5743440"/>
              <a:ext cx="824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059600" y="5842080"/>
              <a:ext cx="82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1584360" y="2357280"/>
            <a:ext cx="6346800" cy="3635640"/>
            <a:chOff x="1584360" y="2357280"/>
            <a:chExt cx="6346800" cy="3635640"/>
          </a:xfrm>
        </p:grpSpPr>
        <p:sp>
          <p:nvSpPr>
            <p:cNvPr id="808" name=""/>
            <p:cNvSpPr/>
            <p:nvPr/>
          </p:nvSpPr>
          <p:spPr>
            <a:xfrm>
              <a:off x="7101000" y="5805360"/>
              <a:ext cx="1440" cy="7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059600" y="5805360"/>
              <a:ext cx="82440" cy="7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7059600" y="580356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124760" y="5748480"/>
              <a:ext cx="82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165800" y="5710320"/>
              <a:ext cx="180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124760" y="571032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7124760" y="570996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189920" y="5751360"/>
              <a:ext cx="8388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230960" y="5715000"/>
              <a:ext cx="180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189920" y="5715000"/>
              <a:ext cx="8388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7189920" y="5714640"/>
              <a:ext cx="8388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256520" y="5751360"/>
              <a:ext cx="82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297560" y="5713560"/>
              <a:ext cx="180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256520" y="571356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7256520" y="571320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321680" y="5824440"/>
              <a:ext cx="82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362720" y="5786280"/>
              <a:ext cx="180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21680" y="5786280"/>
              <a:ext cx="824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7321680" y="5786280"/>
              <a:ext cx="824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8280" y="5826240"/>
              <a:ext cx="82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429680" y="5789520"/>
              <a:ext cx="1440" cy="7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8280" y="5789520"/>
              <a:ext cx="82440" cy="7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7388280" y="5789160"/>
              <a:ext cx="82440" cy="7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453440" y="5840280"/>
              <a:ext cx="82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494480" y="5803920"/>
              <a:ext cx="180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453440" y="580392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7453440" y="5803560"/>
              <a:ext cx="82440" cy="7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518240" y="5837400"/>
              <a:ext cx="842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561440" y="5800680"/>
              <a:ext cx="1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518240" y="5800680"/>
              <a:ext cx="842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>
              <a:off x="7518240" y="5800320"/>
              <a:ext cx="84240" cy="7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585200" y="5832360"/>
              <a:ext cx="82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626240" y="5794200"/>
              <a:ext cx="180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585200" y="5794200"/>
              <a:ext cx="824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7585200" y="5794200"/>
              <a:ext cx="824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651800" y="5832360"/>
              <a:ext cx="82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693200" y="5796000"/>
              <a:ext cx="1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651800" y="579600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7651800" y="579564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716960" y="5830920"/>
              <a:ext cx="82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758000" y="5792760"/>
              <a:ext cx="180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716960" y="579276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7716960" y="579240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781760" y="5835600"/>
              <a:ext cx="842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823160" y="5797440"/>
              <a:ext cx="180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781760" y="5797440"/>
              <a:ext cx="842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7781760" y="5797440"/>
              <a:ext cx="842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848720" y="5826240"/>
              <a:ext cx="82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889760" y="5788080"/>
              <a:ext cx="180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848720" y="578808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7848720" y="578772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439040" y="2394000"/>
              <a:ext cx="842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480440" y="2357280"/>
              <a:ext cx="14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439040" y="2357280"/>
              <a:ext cx="842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7439040" y="2357280"/>
              <a:ext cx="842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32280" y="249696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584360" y="5784840"/>
              <a:ext cx="111240" cy="74520"/>
            </a:xfrm>
            <a:custGeom>
              <a:avLst/>
              <a:gdLst/>
              <a:ahLst/>
              <a:rect l="l" t="t" r="r" b="b"/>
              <a:pathLst>
                <a:path w="417" h="280">
                  <a:moveTo>
                    <a:pt x="208" y="280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8" y="28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639800" y="5808600"/>
              <a:ext cx="180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650960" y="5808600"/>
              <a:ext cx="109440" cy="73080"/>
            </a:xfrm>
            <a:custGeom>
              <a:avLst/>
              <a:gdLst/>
              <a:ahLst/>
              <a:rect l="l" t="t" r="r" b="b"/>
              <a:pathLst>
                <a:path w="417" h="279">
                  <a:moveTo>
                    <a:pt x="209" y="279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9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706400" y="5832360"/>
              <a:ext cx="180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716120" y="5775480"/>
              <a:ext cx="111240" cy="72720"/>
            </a:xfrm>
            <a:custGeom>
              <a:avLst/>
              <a:gdLst/>
              <a:ahLst/>
              <a:rect l="l" t="t" r="r" b="b"/>
              <a:pathLst>
                <a:path w="417" h="280">
                  <a:moveTo>
                    <a:pt x="208" y="280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8" y="28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771560" y="5799240"/>
              <a:ext cx="180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782720" y="5778360"/>
              <a:ext cx="109440" cy="73080"/>
            </a:xfrm>
            <a:custGeom>
              <a:avLst/>
              <a:gdLst/>
              <a:ahLst/>
              <a:rect l="l" t="t" r="r" b="b"/>
              <a:pathLst>
                <a:path w="417" h="279">
                  <a:moveTo>
                    <a:pt x="209" y="279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9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836720" y="5802480"/>
              <a:ext cx="144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847880" y="5788080"/>
              <a:ext cx="111240" cy="74520"/>
            </a:xfrm>
            <a:custGeom>
              <a:avLst/>
              <a:gdLst/>
              <a:ahLst/>
              <a:rect l="l" t="t" r="r" b="b"/>
              <a:pathLst>
                <a:path w="417" h="280">
                  <a:moveTo>
                    <a:pt x="208" y="280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8" y="28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903320" y="5813280"/>
              <a:ext cx="180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914480" y="5796000"/>
              <a:ext cx="109440" cy="74520"/>
            </a:xfrm>
            <a:custGeom>
              <a:avLst/>
              <a:gdLst/>
              <a:ahLst/>
              <a:rect l="l" t="t" r="r" b="b"/>
              <a:pathLst>
                <a:path w="418" h="279">
                  <a:moveTo>
                    <a:pt x="209" y="279"/>
                  </a:moveTo>
                  <a:lnTo>
                    <a:pt x="0" y="0"/>
                  </a:lnTo>
                  <a:lnTo>
                    <a:pt x="418" y="0"/>
                  </a:lnTo>
                  <a:lnTo>
                    <a:pt x="209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968480" y="5821200"/>
              <a:ext cx="144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979640" y="5786280"/>
              <a:ext cx="111240" cy="74880"/>
            </a:xfrm>
            <a:custGeom>
              <a:avLst/>
              <a:gdLst/>
              <a:ahLst/>
              <a:rect l="l" t="t" r="r" b="b"/>
              <a:pathLst>
                <a:path w="417" h="280">
                  <a:moveTo>
                    <a:pt x="208" y="280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8" y="28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035080" y="5811840"/>
              <a:ext cx="180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046240" y="5802480"/>
              <a:ext cx="109440" cy="72720"/>
            </a:xfrm>
            <a:custGeom>
              <a:avLst/>
              <a:gdLst/>
              <a:ahLst/>
              <a:rect l="l" t="t" r="r" b="b"/>
              <a:pathLst>
                <a:path w="418" h="280">
                  <a:moveTo>
                    <a:pt x="209" y="280"/>
                  </a:moveTo>
                  <a:lnTo>
                    <a:pt x="0" y="0"/>
                  </a:lnTo>
                  <a:lnTo>
                    <a:pt x="418" y="0"/>
                  </a:lnTo>
                  <a:lnTo>
                    <a:pt x="209" y="28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100240" y="5826240"/>
              <a:ext cx="144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111400" y="5803920"/>
              <a:ext cx="111240" cy="73080"/>
            </a:xfrm>
            <a:custGeom>
              <a:avLst/>
              <a:gdLst/>
              <a:ahLst/>
              <a:rect l="l" t="t" r="r" b="b"/>
              <a:pathLst>
                <a:path w="417" h="280">
                  <a:moveTo>
                    <a:pt x="209" y="280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9" y="28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166840" y="5827680"/>
              <a:ext cx="180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176560" y="5816520"/>
              <a:ext cx="110880" cy="74520"/>
            </a:xfrm>
            <a:custGeom>
              <a:avLst/>
              <a:gdLst/>
              <a:ahLst/>
              <a:rect l="l" t="t" r="r" b="b"/>
              <a:pathLst>
                <a:path w="418" h="280">
                  <a:moveTo>
                    <a:pt x="209" y="280"/>
                  </a:moveTo>
                  <a:lnTo>
                    <a:pt x="0" y="0"/>
                  </a:lnTo>
                  <a:lnTo>
                    <a:pt x="418" y="0"/>
                  </a:lnTo>
                  <a:lnTo>
                    <a:pt x="209" y="28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232000" y="5842080"/>
              <a:ext cx="144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243160" y="5802480"/>
              <a:ext cx="109440" cy="74520"/>
            </a:xfrm>
            <a:custGeom>
              <a:avLst/>
              <a:gdLst/>
              <a:ahLst/>
              <a:rect l="l" t="t" r="r" b="b"/>
              <a:pathLst>
                <a:path w="417" h="280">
                  <a:moveTo>
                    <a:pt x="209" y="280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9" y="28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298600" y="5827680"/>
              <a:ext cx="180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308320" y="5827680"/>
              <a:ext cx="110880" cy="73080"/>
            </a:xfrm>
            <a:custGeom>
              <a:avLst/>
              <a:gdLst/>
              <a:ahLst/>
              <a:rect l="l" t="t" r="r" b="b"/>
              <a:pathLst>
                <a:path w="418" h="280">
                  <a:moveTo>
                    <a:pt x="209" y="280"/>
                  </a:moveTo>
                  <a:lnTo>
                    <a:pt x="0" y="0"/>
                  </a:lnTo>
                  <a:lnTo>
                    <a:pt x="418" y="0"/>
                  </a:lnTo>
                  <a:lnTo>
                    <a:pt x="209" y="28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3760" y="5851440"/>
              <a:ext cx="144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374920" y="5829480"/>
              <a:ext cx="109440" cy="74520"/>
            </a:xfrm>
            <a:custGeom>
              <a:avLst/>
              <a:gdLst/>
              <a:ahLst/>
              <a:rect l="l" t="t" r="r" b="b"/>
              <a:pathLst>
                <a:path w="417" h="280">
                  <a:moveTo>
                    <a:pt x="209" y="280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9" y="28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428920" y="5854680"/>
              <a:ext cx="144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440080" y="5845320"/>
              <a:ext cx="110880" cy="74520"/>
            </a:xfrm>
            <a:custGeom>
              <a:avLst/>
              <a:gdLst/>
              <a:ahLst/>
              <a:rect l="l" t="t" r="r" b="b"/>
              <a:pathLst>
                <a:path w="418" h="279">
                  <a:moveTo>
                    <a:pt x="209" y="279"/>
                  </a:moveTo>
                  <a:lnTo>
                    <a:pt x="0" y="0"/>
                  </a:lnTo>
                  <a:lnTo>
                    <a:pt x="418" y="0"/>
                  </a:lnTo>
                  <a:lnTo>
                    <a:pt x="209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495520" y="5870520"/>
              <a:ext cx="144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506680" y="5835600"/>
              <a:ext cx="109440" cy="74520"/>
            </a:xfrm>
            <a:custGeom>
              <a:avLst/>
              <a:gdLst/>
              <a:ahLst/>
              <a:rect l="l" t="t" r="r" b="b"/>
              <a:pathLst>
                <a:path w="417" h="279">
                  <a:moveTo>
                    <a:pt x="209" y="279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9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560680" y="5861160"/>
              <a:ext cx="144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571840" y="5837400"/>
              <a:ext cx="110880" cy="72720"/>
            </a:xfrm>
            <a:custGeom>
              <a:avLst/>
              <a:gdLst/>
              <a:ahLst/>
              <a:rect l="l" t="t" r="r" b="b"/>
              <a:pathLst>
                <a:path w="417" h="279">
                  <a:moveTo>
                    <a:pt x="208" y="279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8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627280" y="5861160"/>
              <a:ext cx="180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638440" y="5838840"/>
              <a:ext cx="109440" cy="74520"/>
            </a:xfrm>
            <a:custGeom>
              <a:avLst/>
              <a:gdLst/>
              <a:ahLst/>
              <a:rect l="l" t="t" r="r" b="b"/>
              <a:pathLst>
                <a:path w="417" h="280">
                  <a:moveTo>
                    <a:pt x="209" y="280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9" y="28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692440" y="5864400"/>
              <a:ext cx="144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703600" y="5862600"/>
              <a:ext cx="109440" cy="73080"/>
            </a:xfrm>
            <a:custGeom>
              <a:avLst/>
              <a:gdLst/>
              <a:ahLst/>
              <a:rect l="l" t="t" r="r" b="b"/>
              <a:pathLst>
                <a:path w="417" h="279">
                  <a:moveTo>
                    <a:pt x="208" y="279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8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759040" y="5886360"/>
              <a:ext cx="180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768760" y="5904000"/>
              <a:ext cx="110880" cy="74520"/>
            </a:xfrm>
            <a:custGeom>
              <a:avLst/>
              <a:gdLst/>
              <a:ahLst/>
              <a:rect l="l" t="t" r="r" b="b"/>
              <a:pathLst>
                <a:path w="417" h="279">
                  <a:moveTo>
                    <a:pt x="209" y="279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9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824200" y="5929200"/>
              <a:ext cx="144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835360" y="5904000"/>
              <a:ext cx="109440" cy="74520"/>
            </a:xfrm>
            <a:custGeom>
              <a:avLst/>
              <a:gdLst/>
              <a:ahLst/>
              <a:rect l="l" t="t" r="r" b="b"/>
              <a:pathLst>
                <a:path w="417" h="279">
                  <a:moveTo>
                    <a:pt x="208" y="279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8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890800" y="5929200"/>
              <a:ext cx="180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900520" y="5918040"/>
              <a:ext cx="110880" cy="74880"/>
            </a:xfrm>
            <a:custGeom>
              <a:avLst/>
              <a:gdLst/>
              <a:ahLst/>
              <a:rect l="l" t="t" r="r" b="b"/>
              <a:pathLst>
                <a:path w="418" h="279">
                  <a:moveTo>
                    <a:pt x="209" y="279"/>
                  </a:moveTo>
                  <a:lnTo>
                    <a:pt x="0" y="0"/>
                  </a:lnTo>
                  <a:lnTo>
                    <a:pt x="418" y="0"/>
                  </a:lnTo>
                  <a:lnTo>
                    <a:pt x="209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955960" y="5942160"/>
              <a:ext cx="144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967120" y="5865840"/>
              <a:ext cx="109440" cy="73080"/>
            </a:xfrm>
            <a:custGeom>
              <a:avLst/>
              <a:gdLst/>
              <a:ahLst/>
              <a:rect l="l" t="t" r="r" b="b"/>
              <a:pathLst>
                <a:path w="417" h="279">
                  <a:moveTo>
                    <a:pt x="208" y="279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8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021120" y="5889600"/>
              <a:ext cx="144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032280" y="5867280"/>
              <a:ext cx="110880" cy="74880"/>
            </a:xfrm>
            <a:custGeom>
              <a:avLst/>
              <a:gdLst/>
              <a:ahLst/>
              <a:rect l="l" t="t" r="r" b="b"/>
              <a:pathLst>
                <a:path w="418" h="280">
                  <a:moveTo>
                    <a:pt x="209" y="280"/>
                  </a:moveTo>
                  <a:lnTo>
                    <a:pt x="0" y="0"/>
                  </a:lnTo>
                  <a:lnTo>
                    <a:pt x="418" y="0"/>
                  </a:lnTo>
                  <a:lnTo>
                    <a:pt x="209" y="28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087720" y="5892840"/>
              <a:ext cx="144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097080" y="5851440"/>
              <a:ext cx="111240" cy="73080"/>
            </a:xfrm>
            <a:custGeom>
              <a:avLst/>
              <a:gdLst/>
              <a:ahLst/>
              <a:rect l="l" t="t" r="r" b="b"/>
              <a:pathLst>
                <a:path w="417" h="279">
                  <a:moveTo>
                    <a:pt x="208" y="279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8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152880" y="5875200"/>
              <a:ext cx="144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164040" y="5859360"/>
              <a:ext cx="110880" cy="74880"/>
            </a:xfrm>
            <a:custGeom>
              <a:avLst/>
              <a:gdLst/>
              <a:ahLst/>
              <a:rect l="l" t="t" r="r" b="b"/>
              <a:pathLst>
                <a:path w="418" h="279">
                  <a:moveTo>
                    <a:pt x="209" y="279"/>
                  </a:moveTo>
                  <a:lnTo>
                    <a:pt x="0" y="0"/>
                  </a:lnTo>
                  <a:lnTo>
                    <a:pt x="418" y="0"/>
                  </a:lnTo>
                  <a:lnTo>
                    <a:pt x="209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219480" y="5884920"/>
              <a:ext cx="144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230640" y="5826240"/>
              <a:ext cx="109440" cy="74520"/>
            </a:xfrm>
            <a:custGeom>
              <a:avLst/>
              <a:gdLst/>
              <a:ahLst/>
              <a:rect l="l" t="t" r="r" b="b"/>
              <a:pathLst>
                <a:path w="417" h="280">
                  <a:moveTo>
                    <a:pt x="209" y="280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9" y="28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284640" y="5851440"/>
              <a:ext cx="144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295800" y="5848200"/>
              <a:ext cx="109440" cy="74880"/>
            </a:xfrm>
            <a:custGeom>
              <a:avLst/>
              <a:gdLst/>
              <a:ahLst/>
              <a:rect l="l" t="t" r="r" b="b"/>
              <a:pathLst>
                <a:path w="417" h="279">
                  <a:moveTo>
                    <a:pt x="208" y="279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8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351240" y="5873760"/>
              <a:ext cx="144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360600" y="5808600"/>
              <a:ext cx="111240" cy="74520"/>
            </a:xfrm>
            <a:custGeom>
              <a:avLst/>
              <a:gdLst/>
              <a:ahLst/>
              <a:rect l="l" t="t" r="r" b="b"/>
              <a:pathLst>
                <a:path w="417" h="279">
                  <a:moveTo>
                    <a:pt x="209" y="279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9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416400" y="5834160"/>
              <a:ext cx="144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427560" y="5840280"/>
              <a:ext cx="109440" cy="74880"/>
            </a:xfrm>
            <a:custGeom>
              <a:avLst/>
              <a:gdLst/>
              <a:ahLst/>
              <a:rect l="l" t="t" r="r" b="b"/>
              <a:pathLst>
                <a:path w="417" h="280">
                  <a:moveTo>
                    <a:pt x="208" y="280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8" y="28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83000" y="5865840"/>
              <a:ext cx="144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492360" y="5815080"/>
              <a:ext cx="111240" cy="73080"/>
            </a:xfrm>
            <a:custGeom>
              <a:avLst/>
              <a:gdLst/>
              <a:ahLst/>
              <a:rect l="l" t="t" r="r" b="b"/>
              <a:pathLst>
                <a:path w="417" h="280">
                  <a:moveTo>
                    <a:pt x="209" y="280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9" y="28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548160" y="5838840"/>
              <a:ext cx="144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559320" y="5794200"/>
              <a:ext cx="109440" cy="74880"/>
            </a:xfrm>
            <a:custGeom>
              <a:avLst/>
              <a:gdLst/>
              <a:ahLst/>
              <a:rect l="l" t="t" r="r" b="b"/>
              <a:pathLst>
                <a:path w="417" h="279">
                  <a:moveTo>
                    <a:pt x="208" y="279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8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13320" y="5819760"/>
              <a:ext cx="144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624120" y="5807160"/>
              <a:ext cx="111240" cy="74520"/>
            </a:xfrm>
            <a:custGeom>
              <a:avLst/>
              <a:gdLst/>
              <a:ahLst/>
              <a:rect l="l" t="t" r="r" b="b"/>
              <a:pathLst>
                <a:path w="417" h="279">
                  <a:moveTo>
                    <a:pt x="209" y="279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9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79920" y="5832360"/>
              <a:ext cx="144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89280" y="5803920"/>
              <a:ext cx="111240" cy="74520"/>
            </a:xfrm>
            <a:custGeom>
              <a:avLst/>
              <a:gdLst/>
              <a:ahLst/>
              <a:rect l="l" t="t" r="r" b="b"/>
              <a:pathLst>
                <a:path w="417" h="279">
                  <a:moveTo>
                    <a:pt x="208" y="279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8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745080" y="5829480"/>
              <a:ext cx="144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755880" y="5854680"/>
              <a:ext cx="109800" cy="73080"/>
            </a:xfrm>
            <a:custGeom>
              <a:avLst/>
              <a:gdLst/>
              <a:ahLst/>
              <a:rect l="l" t="t" r="r" b="b"/>
              <a:pathLst>
                <a:path w="417" h="280">
                  <a:moveTo>
                    <a:pt x="209" y="280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9" y="28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811680" y="5878440"/>
              <a:ext cx="144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821040" y="5856120"/>
              <a:ext cx="111240" cy="73080"/>
            </a:xfrm>
            <a:custGeom>
              <a:avLst/>
              <a:gdLst/>
              <a:ahLst/>
              <a:rect l="l" t="t" r="r" b="b"/>
              <a:pathLst>
                <a:path w="417" h="280">
                  <a:moveTo>
                    <a:pt x="208" y="280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8" y="28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876840" y="5880240"/>
              <a:ext cx="144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887640" y="5864400"/>
              <a:ext cx="109800" cy="74520"/>
            </a:xfrm>
            <a:custGeom>
              <a:avLst/>
              <a:gdLst/>
              <a:ahLst/>
              <a:rect l="l" t="t" r="r" b="b"/>
              <a:pathLst>
                <a:path w="418" h="279">
                  <a:moveTo>
                    <a:pt x="209" y="279"/>
                  </a:moveTo>
                  <a:lnTo>
                    <a:pt x="0" y="0"/>
                  </a:lnTo>
                  <a:lnTo>
                    <a:pt x="418" y="0"/>
                  </a:lnTo>
                  <a:lnTo>
                    <a:pt x="209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943440" y="5888160"/>
              <a:ext cx="144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952800" y="5816520"/>
              <a:ext cx="111240" cy="73080"/>
            </a:xfrm>
            <a:custGeom>
              <a:avLst/>
              <a:gdLst/>
              <a:ahLst/>
              <a:rect l="l" t="t" r="r" b="b"/>
              <a:pathLst>
                <a:path w="417" h="280">
                  <a:moveTo>
                    <a:pt x="208" y="280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8" y="28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008600" y="5840280"/>
              <a:ext cx="144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019400" y="5813280"/>
              <a:ext cx="109800" cy="73080"/>
            </a:xfrm>
            <a:custGeom>
              <a:avLst/>
              <a:gdLst/>
              <a:ahLst/>
              <a:rect l="l" t="t" r="r" b="b"/>
              <a:pathLst>
                <a:path w="418" h="280">
                  <a:moveTo>
                    <a:pt x="209" y="280"/>
                  </a:moveTo>
                  <a:lnTo>
                    <a:pt x="0" y="0"/>
                  </a:lnTo>
                  <a:lnTo>
                    <a:pt x="418" y="0"/>
                  </a:lnTo>
                  <a:lnTo>
                    <a:pt x="209" y="28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075200" y="5837400"/>
              <a:ext cx="144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084560" y="5834160"/>
              <a:ext cx="111240" cy="74520"/>
            </a:xfrm>
            <a:custGeom>
              <a:avLst/>
              <a:gdLst/>
              <a:ahLst/>
              <a:rect l="l" t="t" r="r" b="b"/>
              <a:pathLst>
                <a:path w="417" h="279">
                  <a:moveTo>
                    <a:pt x="209" y="279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9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140360" y="5859360"/>
              <a:ext cx="144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151160" y="5900760"/>
              <a:ext cx="109800" cy="74520"/>
            </a:xfrm>
            <a:custGeom>
              <a:avLst/>
              <a:gdLst/>
              <a:ahLst/>
              <a:rect l="l" t="t" r="r" b="b"/>
              <a:pathLst>
                <a:path w="418" h="279">
                  <a:moveTo>
                    <a:pt x="209" y="279"/>
                  </a:moveTo>
                  <a:lnTo>
                    <a:pt x="0" y="0"/>
                  </a:lnTo>
                  <a:lnTo>
                    <a:pt x="418" y="0"/>
                  </a:lnTo>
                  <a:lnTo>
                    <a:pt x="209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205160" y="5925960"/>
              <a:ext cx="180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216320" y="5896080"/>
              <a:ext cx="111240" cy="74520"/>
            </a:xfrm>
            <a:custGeom>
              <a:avLst/>
              <a:gdLst/>
              <a:ahLst/>
              <a:rect l="l" t="t" r="r" b="b"/>
              <a:pathLst>
                <a:path w="417" h="280">
                  <a:moveTo>
                    <a:pt x="209" y="280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9" y="28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272120" y="5921280"/>
              <a:ext cx="144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281480" y="5889600"/>
              <a:ext cx="111240" cy="74520"/>
            </a:xfrm>
            <a:custGeom>
              <a:avLst/>
              <a:gdLst/>
              <a:ahLst/>
              <a:rect l="l" t="t" r="r" b="b"/>
              <a:pathLst>
                <a:path w="418" h="279">
                  <a:moveTo>
                    <a:pt x="209" y="279"/>
                  </a:moveTo>
                  <a:lnTo>
                    <a:pt x="0" y="0"/>
                  </a:lnTo>
                  <a:lnTo>
                    <a:pt x="418" y="0"/>
                  </a:lnTo>
                  <a:lnTo>
                    <a:pt x="209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336920" y="5915160"/>
              <a:ext cx="180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348080" y="5911920"/>
              <a:ext cx="109800" cy="74520"/>
            </a:xfrm>
            <a:custGeom>
              <a:avLst/>
              <a:gdLst/>
              <a:ahLst/>
              <a:rect l="l" t="t" r="r" b="b"/>
              <a:pathLst>
                <a:path w="417" h="280">
                  <a:moveTo>
                    <a:pt x="209" y="280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9" y="28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403880" y="5937120"/>
              <a:ext cx="144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413240" y="5907240"/>
              <a:ext cx="111240" cy="72720"/>
            </a:xfrm>
            <a:custGeom>
              <a:avLst/>
              <a:gdLst/>
              <a:ahLst/>
              <a:rect l="l" t="t" r="r" b="b"/>
              <a:pathLst>
                <a:path w="417" h="280">
                  <a:moveTo>
                    <a:pt x="208" y="280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8" y="28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468680" y="5931000"/>
              <a:ext cx="180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479840" y="5907240"/>
              <a:ext cx="109800" cy="72720"/>
            </a:xfrm>
            <a:custGeom>
              <a:avLst/>
              <a:gdLst/>
              <a:ahLst/>
              <a:rect l="l" t="t" r="r" b="b"/>
              <a:pathLst>
                <a:path w="417" h="280">
                  <a:moveTo>
                    <a:pt x="209" y="280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9" y="28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535640" y="5931000"/>
              <a:ext cx="144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545000" y="5846760"/>
              <a:ext cx="111240" cy="73080"/>
            </a:xfrm>
            <a:custGeom>
              <a:avLst/>
              <a:gdLst/>
              <a:ahLst/>
              <a:rect l="l" t="t" r="r" b="b"/>
              <a:pathLst>
                <a:path w="417" h="279">
                  <a:moveTo>
                    <a:pt x="208" y="279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8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600440" y="5870520"/>
              <a:ext cx="180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611600" y="5857920"/>
              <a:ext cx="109800" cy="73080"/>
            </a:xfrm>
            <a:custGeom>
              <a:avLst/>
              <a:gdLst/>
              <a:ahLst/>
              <a:rect l="l" t="t" r="r" b="b"/>
              <a:pathLst>
                <a:path w="417" h="280">
                  <a:moveTo>
                    <a:pt x="209" y="280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9" y="28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665600" y="5881680"/>
              <a:ext cx="180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676760" y="5853240"/>
              <a:ext cx="109440" cy="74520"/>
            </a:xfrm>
            <a:custGeom>
              <a:avLst/>
              <a:gdLst/>
              <a:ahLst/>
              <a:rect l="l" t="t" r="r" b="b"/>
              <a:pathLst>
                <a:path w="417" h="280">
                  <a:moveTo>
                    <a:pt x="208" y="280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8" y="28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732200" y="5878440"/>
              <a:ext cx="180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741920" y="5845320"/>
              <a:ext cx="111240" cy="74520"/>
            </a:xfrm>
            <a:custGeom>
              <a:avLst/>
              <a:gdLst/>
              <a:ahLst/>
              <a:rect l="l" t="t" r="r" b="b"/>
              <a:pathLst>
                <a:path w="417" h="279">
                  <a:moveTo>
                    <a:pt x="209" y="279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9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797360" y="5870520"/>
              <a:ext cx="180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808520" y="5856120"/>
              <a:ext cx="109440" cy="74880"/>
            </a:xfrm>
            <a:custGeom>
              <a:avLst/>
              <a:gdLst/>
              <a:ahLst/>
              <a:rect l="l" t="t" r="r" b="b"/>
              <a:pathLst>
                <a:path w="417" h="280">
                  <a:moveTo>
                    <a:pt x="208" y="280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8" y="28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863960" y="5881680"/>
              <a:ext cx="180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873680" y="5857920"/>
              <a:ext cx="111240" cy="74520"/>
            </a:xfrm>
            <a:custGeom>
              <a:avLst/>
              <a:gdLst/>
              <a:ahLst/>
              <a:rect l="l" t="t" r="r" b="b"/>
              <a:pathLst>
                <a:path w="417" h="279">
                  <a:moveTo>
                    <a:pt x="209" y="279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9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929120" y="5883120"/>
              <a:ext cx="180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940280" y="5838840"/>
              <a:ext cx="109440" cy="73080"/>
            </a:xfrm>
            <a:custGeom>
              <a:avLst/>
              <a:gdLst/>
              <a:ahLst/>
              <a:rect l="l" t="t" r="r" b="b"/>
              <a:pathLst>
                <a:path w="417" h="280">
                  <a:moveTo>
                    <a:pt x="208" y="280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8" y="28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994280" y="5862600"/>
              <a:ext cx="144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005440" y="5811840"/>
              <a:ext cx="111240" cy="74520"/>
            </a:xfrm>
            <a:custGeom>
              <a:avLst/>
              <a:gdLst/>
              <a:ahLst/>
              <a:rect l="l" t="t" r="r" b="b"/>
              <a:pathLst>
                <a:path w="417" h="280">
                  <a:moveTo>
                    <a:pt x="209" y="280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9" y="28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060880" y="5837400"/>
              <a:ext cx="180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072040" y="5848200"/>
              <a:ext cx="109440" cy="74880"/>
            </a:xfrm>
            <a:custGeom>
              <a:avLst/>
              <a:gdLst/>
              <a:ahLst/>
              <a:rect l="l" t="t" r="r" b="b"/>
              <a:pathLst>
                <a:path w="417" h="279">
                  <a:moveTo>
                    <a:pt x="208" y="279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8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126040" y="5872320"/>
              <a:ext cx="144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137200" y="5864400"/>
              <a:ext cx="111240" cy="74520"/>
            </a:xfrm>
            <a:custGeom>
              <a:avLst/>
              <a:gdLst/>
              <a:ahLst/>
              <a:rect l="l" t="t" r="r" b="b"/>
              <a:pathLst>
                <a:path w="418" h="279">
                  <a:moveTo>
                    <a:pt x="209" y="279"/>
                  </a:moveTo>
                  <a:lnTo>
                    <a:pt x="0" y="0"/>
                  </a:lnTo>
                  <a:lnTo>
                    <a:pt x="418" y="0"/>
                  </a:lnTo>
                  <a:lnTo>
                    <a:pt x="209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192640" y="5888160"/>
              <a:ext cx="180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202360" y="5873760"/>
              <a:ext cx="110880" cy="74520"/>
            </a:xfrm>
            <a:custGeom>
              <a:avLst/>
              <a:gdLst/>
              <a:ahLst/>
              <a:rect l="l" t="t" r="r" b="b"/>
              <a:pathLst>
                <a:path w="417" h="279">
                  <a:moveTo>
                    <a:pt x="209" y="279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9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257800" y="5897520"/>
              <a:ext cx="144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268960" y="5889600"/>
              <a:ext cx="109440" cy="74520"/>
            </a:xfrm>
            <a:custGeom>
              <a:avLst/>
              <a:gdLst/>
              <a:ahLst/>
              <a:rect l="l" t="t" r="r" b="b"/>
              <a:pathLst>
                <a:path w="418" h="279">
                  <a:moveTo>
                    <a:pt x="209" y="279"/>
                  </a:moveTo>
                  <a:lnTo>
                    <a:pt x="0" y="0"/>
                  </a:lnTo>
                  <a:lnTo>
                    <a:pt x="418" y="0"/>
                  </a:lnTo>
                  <a:lnTo>
                    <a:pt x="209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324400" y="5915160"/>
              <a:ext cx="180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334120" y="5861160"/>
              <a:ext cx="110880" cy="74520"/>
            </a:xfrm>
            <a:custGeom>
              <a:avLst/>
              <a:gdLst/>
              <a:ahLst/>
              <a:rect l="l" t="t" r="r" b="b"/>
              <a:pathLst>
                <a:path w="417" h="279">
                  <a:moveTo>
                    <a:pt x="209" y="279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9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389560" y="5886360"/>
              <a:ext cx="144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400720" y="5873760"/>
              <a:ext cx="109440" cy="74520"/>
            </a:xfrm>
            <a:custGeom>
              <a:avLst/>
              <a:gdLst/>
              <a:ahLst/>
              <a:rect l="l" t="t" r="r" b="b"/>
              <a:pathLst>
                <a:path w="418" h="279">
                  <a:moveTo>
                    <a:pt x="209" y="279"/>
                  </a:moveTo>
                  <a:lnTo>
                    <a:pt x="0" y="0"/>
                  </a:lnTo>
                  <a:lnTo>
                    <a:pt x="418" y="0"/>
                  </a:lnTo>
                  <a:lnTo>
                    <a:pt x="209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456160" y="5899320"/>
              <a:ext cx="180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465880" y="5865840"/>
              <a:ext cx="110880" cy="74520"/>
            </a:xfrm>
            <a:custGeom>
              <a:avLst/>
              <a:gdLst/>
              <a:ahLst/>
              <a:rect l="l" t="t" r="r" b="b"/>
              <a:pathLst>
                <a:path w="417" h="280">
                  <a:moveTo>
                    <a:pt x="209" y="280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9" y="28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521320" y="5891040"/>
              <a:ext cx="144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532480" y="5864400"/>
              <a:ext cx="109440" cy="72720"/>
            </a:xfrm>
            <a:custGeom>
              <a:avLst/>
              <a:gdLst/>
              <a:ahLst/>
              <a:rect l="l" t="t" r="r" b="b"/>
              <a:pathLst>
                <a:path w="418" h="279">
                  <a:moveTo>
                    <a:pt x="209" y="279"/>
                  </a:moveTo>
                  <a:lnTo>
                    <a:pt x="0" y="0"/>
                  </a:lnTo>
                  <a:lnTo>
                    <a:pt x="418" y="0"/>
                  </a:lnTo>
                  <a:lnTo>
                    <a:pt x="209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586480" y="5888160"/>
              <a:ext cx="144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597640" y="5862600"/>
              <a:ext cx="110880" cy="74520"/>
            </a:xfrm>
            <a:custGeom>
              <a:avLst/>
              <a:gdLst/>
              <a:ahLst/>
              <a:rect l="l" t="t" r="r" b="b"/>
              <a:pathLst>
                <a:path w="417" h="279">
                  <a:moveTo>
                    <a:pt x="209" y="279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9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653080" y="5888160"/>
              <a:ext cx="144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664240" y="5873760"/>
              <a:ext cx="109440" cy="74520"/>
            </a:xfrm>
            <a:custGeom>
              <a:avLst/>
              <a:gdLst/>
              <a:ahLst/>
              <a:rect l="l" t="t" r="r" b="b"/>
              <a:pathLst>
                <a:path w="417" h="279">
                  <a:moveTo>
                    <a:pt x="208" y="279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8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718240" y="5899320"/>
              <a:ext cx="144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729400" y="5872320"/>
              <a:ext cx="110880" cy="74520"/>
            </a:xfrm>
            <a:custGeom>
              <a:avLst/>
              <a:gdLst/>
              <a:ahLst/>
              <a:rect l="l" t="t" r="r" b="b"/>
              <a:pathLst>
                <a:path w="417" h="279">
                  <a:moveTo>
                    <a:pt x="209" y="279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9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784840" y="5897520"/>
              <a:ext cx="144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794200" y="5872320"/>
              <a:ext cx="111240" cy="72720"/>
            </a:xfrm>
            <a:custGeom>
              <a:avLst/>
              <a:gdLst/>
              <a:ahLst/>
              <a:rect l="l" t="t" r="r" b="b"/>
              <a:pathLst>
                <a:path w="417" h="279">
                  <a:moveTo>
                    <a:pt x="208" y="279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8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850000" y="5896080"/>
              <a:ext cx="144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861160" y="5865840"/>
              <a:ext cx="109440" cy="74520"/>
            </a:xfrm>
            <a:custGeom>
              <a:avLst/>
              <a:gdLst/>
              <a:ahLst/>
              <a:rect l="l" t="t" r="r" b="b"/>
              <a:pathLst>
                <a:path w="417" h="280">
                  <a:moveTo>
                    <a:pt x="209" y="280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9" y="28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916600" y="5891040"/>
              <a:ext cx="144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925960" y="5837400"/>
              <a:ext cx="111240" cy="74520"/>
            </a:xfrm>
            <a:custGeom>
              <a:avLst/>
              <a:gdLst/>
              <a:ahLst/>
              <a:rect l="l" t="t" r="r" b="b"/>
              <a:pathLst>
                <a:path w="417" h="279">
                  <a:moveTo>
                    <a:pt x="208" y="279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8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981760" y="5862600"/>
              <a:ext cx="144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992920" y="5846760"/>
              <a:ext cx="109440" cy="73080"/>
            </a:xfrm>
            <a:custGeom>
              <a:avLst/>
              <a:gdLst/>
              <a:ahLst/>
              <a:rect l="l" t="t" r="r" b="b"/>
              <a:pathLst>
                <a:path w="418" h="279">
                  <a:moveTo>
                    <a:pt x="209" y="279"/>
                  </a:moveTo>
                  <a:lnTo>
                    <a:pt x="0" y="0"/>
                  </a:lnTo>
                  <a:lnTo>
                    <a:pt x="418" y="0"/>
                  </a:lnTo>
                  <a:lnTo>
                    <a:pt x="209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046920" y="5870520"/>
              <a:ext cx="144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058080" y="5854680"/>
              <a:ext cx="110880" cy="73080"/>
            </a:xfrm>
            <a:custGeom>
              <a:avLst/>
              <a:gdLst/>
              <a:ahLst/>
              <a:rect l="l" t="t" r="r" b="b"/>
              <a:pathLst>
                <a:path w="417" h="280">
                  <a:moveTo>
                    <a:pt x="208" y="280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8" y="28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113520" y="5878440"/>
              <a:ext cx="144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124680" y="5880240"/>
              <a:ext cx="109440" cy="72720"/>
            </a:xfrm>
            <a:custGeom>
              <a:avLst/>
              <a:gdLst/>
              <a:ahLst/>
              <a:rect l="l" t="t" r="r" b="b"/>
              <a:pathLst>
                <a:path w="418" h="280">
                  <a:moveTo>
                    <a:pt x="209" y="280"/>
                  </a:moveTo>
                  <a:lnTo>
                    <a:pt x="0" y="0"/>
                  </a:lnTo>
                  <a:lnTo>
                    <a:pt x="418" y="0"/>
                  </a:lnTo>
                  <a:lnTo>
                    <a:pt x="209" y="28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178680" y="5904000"/>
              <a:ext cx="144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189840" y="5875200"/>
              <a:ext cx="110880" cy="74880"/>
            </a:xfrm>
            <a:custGeom>
              <a:avLst/>
              <a:gdLst/>
              <a:ahLst/>
              <a:rect l="l" t="t" r="r" b="b"/>
              <a:pathLst>
                <a:path w="417" h="279">
                  <a:moveTo>
                    <a:pt x="208" y="279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8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245280" y="5900760"/>
              <a:ext cx="144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254640" y="5878440"/>
              <a:ext cx="111240" cy="73080"/>
            </a:xfrm>
            <a:custGeom>
              <a:avLst/>
              <a:gdLst/>
              <a:ahLst/>
              <a:rect l="l" t="t" r="r" b="b"/>
              <a:pathLst>
                <a:path w="418" h="279">
                  <a:moveTo>
                    <a:pt x="209" y="279"/>
                  </a:moveTo>
                  <a:lnTo>
                    <a:pt x="0" y="0"/>
                  </a:lnTo>
                  <a:lnTo>
                    <a:pt x="418" y="0"/>
                  </a:lnTo>
                  <a:lnTo>
                    <a:pt x="209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310440" y="5902200"/>
              <a:ext cx="144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1598760" y="2563920"/>
            <a:ext cx="6346800" cy="3443040"/>
            <a:chOff x="1598760" y="2563920"/>
            <a:chExt cx="6346800" cy="3443040"/>
          </a:xfrm>
        </p:grpSpPr>
        <p:sp>
          <p:nvSpPr>
            <p:cNvPr id="1009" name=""/>
            <p:cNvSpPr/>
            <p:nvPr/>
          </p:nvSpPr>
          <p:spPr>
            <a:xfrm>
              <a:off x="6321600" y="5862600"/>
              <a:ext cx="110880" cy="74520"/>
            </a:xfrm>
            <a:custGeom>
              <a:avLst/>
              <a:gdLst/>
              <a:ahLst/>
              <a:rect l="l" t="t" r="r" b="b"/>
              <a:pathLst>
                <a:path w="417" h="279">
                  <a:moveTo>
                    <a:pt x="209" y="279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9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377040" y="5888160"/>
              <a:ext cx="144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386400" y="5861160"/>
              <a:ext cx="111240" cy="74520"/>
            </a:xfrm>
            <a:custGeom>
              <a:avLst/>
              <a:gdLst/>
              <a:ahLst/>
              <a:rect l="l" t="t" r="r" b="b"/>
              <a:pathLst>
                <a:path w="417" h="279">
                  <a:moveTo>
                    <a:pt x="208" y="279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8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442200" y="5884920"/>
              <a:ext cx="144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453360" y="5850000"/>
              <a:ext cx="109440" cy="74520"/>
            </a:xfrm>
            <a:custGeom>
              <a:avLst/>
              <a:gdLst/>
              <a:ahLst/>
              <a:rect l="l" t="t" r="r" b="b"/>
              <a:pathLst>
                <a:path w="417" h="279">
                  <a:moveTo>
                    <a:pt x="209" y="279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9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508800" y="5875200"/>
              <a:ext cx="144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518160" y="5864400"/>
              <a:ext cx="111240" cy="74520"/>
            </a:xfrm>
            <a:custGeom>
              <a:avLst/>
              <a:gdLst/>
              <a:ahLst/>
              <a:rect l="l" t="t" r="r" b="b"/>
              <a:pathLst>
                <a:path w="417" h="279">
                  <a:moveTo>
                    <a:pt x="208" y="279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8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573960" y="5888160"/>
              <a:ext cx="144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585120" y="5842080"/>
              <a:ext cx="109440" cy="73080"/>
            </a:xfrm>
            <a:custGeom>
              <a:avLst/>
              <a:gdLst/>
              <a:ahLst/>
              <a:rect l="l" t="t" r="r" b="b"/>
              <a:pathLst>
                <a:path w="417" h="280">
                  <a:moveTo>
                    <a:pt x="209" y="280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9" y="28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638760" y="5865840"/>
              <a:ext cx="180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649920" y="5865840"/>
              <a:ext cx="111240" cy="73080"/>
            </a:xfrm>
            <a:custGeom>
              <a:avLst/>
              <a:gdLst/>
              <a:ahLst/>
              <a:rect l="l" t="t" r="r" b="b"/>
              <a:pathLst>
                <a:path w="417" h="280">
                  <a:moveTo>
                    <a:pt x="208" y="280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8" y="28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705720" y="5889600"/>
              <a:ext cx="144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716880" y="5870520"/>
              <a:ext cx="109440" cy="74520"/>
            </a:xfrm>
            <a:custGeom>
              <a:avLst/>
              <a:gdLst/>
              <a:ahLst/>
              <a:rect l="l" t="t" r="r" b="b"/>
              <a:pathLst>
                <a:path w="417" h="280">
                  <a:moveTo>
                    <a:pt x="209" y="280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9" y="28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770520" y="5896080"/>
              <a:ext cx="180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781680" y="5881680"/>
              <a:ext cx="109800" cy="73080"/>
            </a:xfrm>
            <a:custGeom>
              <a:avLst/>
              <a:gdLst/>
              <a:ahLst/>
              <a:rect l="l" t="t" r="r" b="b"/>
              <a:pathLst>
                <a:path w="417" h="280">
                  <a:moveTo>
                    <a:pt x="208" y="280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8" y="28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837480" y="5905440"/>
              <a:ext cx="144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846840" y="5881680"/>
              <a:ext cx="111240" cy="73080"/>
            </a:xfrm>
            <a:custGeom>
              <a:avLst/>
              <a:gdLst/>
              <a:ahLst/>
              <a:rect l="l" t="t" r="r" b="b"/>
              <a:pathLst>
                <a:path w="417" h="280">
                  <a:moveTo>
                    <a:pt x="209" y="280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9" y="28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902280" y="5905440"/>
              <a:ext cx="180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913440" y="5891040"/>
              <a:ext cx="111240" cy="73080"/>
            </a:xfrm>
            <a:custGeom>
              <a:avLst/>
              <a:gdLst/>
              <a:ahLst/>
              <a:rect l="l" t="t" r="r" b="b"/>
              <a:pathLst>
                <a:path w="417" h="279">
                  <a:moveTo>
                    <a:pt x="208" y="279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8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969240" y="5915160"/>
              <a:ext cx="144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978600" y="5851440"/>
              <a:ext cx="111240" cy="74520"/>
            </a:xfrm>
            <a:custGeom>
              <a:avLst/>
              <a:gdLst/>
              <a:ahLst/>
              <a:rect l="l" t="t" r="r" b="b"/>
              <a:pathLst>
                <a:path w="418" h="279">
                  <a:moveTo>
                    <a:pt x="209" y="279"/>
                  </a:moveTo>
                  <a:lnTo>
                    <a:pt x="0" y="0"/>
                  </a:lnTo>
                  <a:lnTo>
                    <a:pt x="418" y="0"/>
                  </a:lnTo>
                  <a:lnTo>
                    <a:pt x="209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034040" y="5875200"/>
              <a:ext cx="180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045200" y="5850000"/>
              <a:ext cx="109800" cy="74520"/>
            </a:xfrm>
            <a:custGeom>
              <a:avLst/>
              <a:gdLst/>
              <a:ahLst/>
              <a:rect l="l" t="t" r="r" b="b"/>
              <a:pathLst>
                <a:path w="417" h="279">
                  <a:moveTo>
                    <a:pt x="208" y="279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8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101000" y="5875200"/>
              <a:ext cx="144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110360" y="5824440"/>
              <a:ext cx="111240" cy="74880"/>
            </a:xfrm>
            <a:custGeom>
              <a:avLst/>
              <a:gdLst/>
              <a:ahLst/>
              <a:rect l="l" t="t" r="r" b="b"/>
              <a:pathLst>
                <a:path w="418" h="280">
                  <a:moveTo>
                    <a:pt x="209" y="280"/>
                  </a:moveTo>
                  <a:lnTo>
                    <a:pt x="0" y="0"/>
                  </a:lnTo>
                  <a:lnTo>
                    <a:pt x="418" y="0"/>
                  </a:lnTo>
                  <a:lnTo>
                    <a:pt x="209" y="28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165800" y="5850000"/>
              <a:ext cx="180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176960" y="5856120"/>
              <a:ext cx="109800" cy="73080"/>
            </a:xfrm>
            <a:custGeom>
              <a:avLst/>
              <a:gdLst/>
              <a:ahLst/>
              <a:rect l="l" t="t" r="r" b="b"/>
              <a:pathLst>
                <a:path w="417" h="280">
                  <a:moveTo>
                    <a:pt x="209" y="280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9" y="28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230960" y="5880240"/>
              <a:ext cx="180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242120" y="5834160"/>
              <a:ext cx="111240" cy="74520"/>
            </a:xfrm>
            <a:custGeom>
              <a:avLst/>
              <a:gdLst/>
              <a:ahLst/>
              <a:rect l="l" t="t" r="r" b="b"/>
              <a:pathLst>
                <a:path w="418" h="279">
                  <a:moveTo>
                    <a:pt x="209" y="279"/>
                  </a:moveTo>
                  <a:lnTo>
                    <a:pt x="0" y="0"/>
                  </a:lnTo>
                  <a:lnTo>
                    <a:pt x="418" y="0"/>
                  </a:lnTo>
                  <a:lnTo>
                    <a:pt x="209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297560" y="5857920"/>
              <a:ext cx="180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307280" y="5878440"/>
              <a:ext cx="111240" cy="74520"/>
            </a:xfrm>
            <a:custGeom>
              <a:avLst/>
              <a:gdLst/>
              <a:ahLst/>
              <a:rect l="l" t="t" r="r" b="b"/>
              <a:pathLst>
                <a:path w="417" h="279">
                  <a:moveTo>
                    <a:pt x="209" y="279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9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362720" y="5902200"/>
              <a:ext cx="180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373880" y="5869080"/>
              <a:ext cx="109440" cy="74520"/>
            </a:xfrm>
            <a:custGeom>
              <a:avLst/>
              <a:gdLst/>
              <a:ahLst/>
              <a:rect l="l" t="t" r="r" b="b"/>
              <a:pathLst>
                <a:path w="418" h="280">
                  <a:moveTo>
                    <a:pt x="209" y="280"/>
                  </a:moveTo>
                  <a:lnTo>
                    <a:pt x="0" y="0"/>
                  </a:lnTo>
                  <a:lnTo>
                    <a:pt x="418" y="0"/>
                  </a:lnTo>
                  <a:lnTo>
                    <a:pt x="209" y="28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429680" y="5894280"/>
              <a:ext cx="144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439040" y="5883120"/>
              <a:ext cx="111240" cy="73080"/>
            </a:xfrm>
            <a:custGeom>
              <a:avLst/>
              <a:gdLst/>
              <a:ahLst/>
              <a:rect l="l" t="t" r="r" b="b"/>
              <a:pathLst>
                <a:path w="417" h="280">
                  <a:moveTo>
                    <a:pt x="209" y="280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9" y="28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494480" y="5907240"/>
              <a:ext cx="180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505640" y="5886360"/>
              <a:ext cx="109440" cy="74880"/>
            </a:xfrm>
            <a:custGeom>
              <a:avLst/>
              <a:gdLst/>
              <a:ahLst/>
              <a:rect l="l" t="t" r="r" b="b"/>
              <a:pathLst>
                <a:path w="417" h="279">
                  <a:moveTo>
                    <a:pt x="208" y="279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8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561440" y="5911920"/>
              <a:ext cx="144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570800" y="5875200"/>
              <a:ext cx="111240" cy="74880"/>
            </a:xfrm>
            <a:custGeom>
              <a:avLst/>
              <a:gdLst/>
              <a:ahLst/>
              <a:rect l="l" t="t" r="r" b="b"/>
              <a:pathLst>
                <a:path w="417" h="279">
                  <a:moveTo>
                    <a:pt x="209" y="279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9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626240" y="5900760"/>
              <a:ext cx="180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637400" y="5883120"/>
              <a:ext cx="109440" cy="74880"/>
            </a:xfrm>
            <a:custGeom>
              <a:avLst/>
              <a:gdLst/>
              <a:ahLst/>
              <a:rect l="l" t="t" r="r" b="b"/>
              <a:pathLst>
                <a:path w="417" h="280">
                  <a:moveTo>
                    <a:pt x="208" y="280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8" y="28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693200" y="5908680"/>
              <a:ext cx="144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702560" y="5888160"/>
              <a:ext cx="111240" cy="73080"/>
            </a:xfrm>
            <a:custGeom>
              <a:avLst/>
              <a:gdLst/>
              <a:ahLst/>
              <a:rect l="l" t="t" r="r" b="b"/>
              <a:pathLst>
                <a:path w="417" h="279">
                  <a:moveTo>
                    <a:pt x="209" y="279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9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758000" y="5911920"/>
              <a:ext cx="180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769160" y="5877000"/>
              <a:ext cx="109440" cy="74520"/>
            </a:xfrm>
            <a:custGeom>
              <a:avLst/>
              <a:gdLst/>
              <a:ahLst/>
              <a:rect l="l" t="t" r="r" b="b"/>
              <a:pathLst>
                <a:path w="417" h="279">
                  <a:moveTo>
                    <a:pt x="208" y="279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8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823160" y="5902200"/>
              <a:ext cx="180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834320" y="5877000"/>
              <a:ext cx="111240" cy="74520"/>
            </a:xfrm>
            <a:custGeom>
              <a:avLst/>
              <a:gdLst/>
              <a:ahLst/>
              <a:rect l="l" t="t" r="r" b="b"/>
              <a:pathLst>
                <a:path w="417" h="279">
                  <a:moveTo>
                    <a:pt x="209" y="279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9" y="2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889760" y="5900760"/>
              <a:ext cx="180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426440" y="2563920"/>
              <a:ext cx="109440" cy="74520"/>
            </a:xfrm>
            <a:custGeom>
              <a:avLst/>
              <a:gdLst/>
              <a:ahLst/>
              <a:rect l="l" t="t" r="r" b="b"/>
              <a:pathLst>
                <a:path w="417" h="280">
                  <a:moveTo>
                    <a:pt x="208" y="280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208" y="28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480440" y="2589120"/>
              <a:ext cx="144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832280" y="269064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598760" y="5918040"/>
              <a:ext cx="82440" cy="748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V="1">
              <a:off x="1598760" y="5918040"/>
              <a:ext cx="82440" cy="748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665360" y="5916600"/>
              <a:ext cx="8244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1665360" y="5916240"/>
              <a:ext cx="8244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730520" y="5908680"/>
              <a:ext cx="8244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1730520" y="5908320"/>
              <a:ext cx="8244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795320" y="5907240"/>
              <a:ext cx="84240" cy="727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1795320" y="5907240"/>
              <a:ext cx="84240" cy="727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862280" y="5916600"/>
              <a:ext cx="82440" cy="730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1862280" y="5914800"/>
              <a:ext cx="8244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927080" y="5919840"/>
              <a:ext cx="84240" cy="730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1927080" y="5918040"/>
              <a:ext cx="84240" cy="748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994040" y="5905440"/>
              <a:ext cx="8244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V="1">
              <a:off x="1994040" y="5905080"/>
              <a:ext cx="8244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058840" y="5923080"/>
              <a:ext cx="84240" cy="730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2058840" y="5922720"/>
              <a:ext cx="84240" cy="730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125800" y="5913360"/>
              <a:ext cx="8244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2125800" y="5913000"/>
              <a:ext cx="82440" cy="730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190600" y="5919840"/>
              <a:ext cx="8280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V="1">
              <a:off x="2190600" y="5919480"/>
              <a:ext cx="8280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257560" y="5908680"/>
              <a:ext cx="82440" cy="730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V="1">
              <a:off x="2257560" y="5906880"/>
              <a:ext cx="8244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322360" y="5921280"/>
              <a:ext cx="82800" cy="748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2322360" y="5921280"/>
              <a:ext cx="82800" cy="748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387520" y="5916600"/>
              <a:ext cx="8424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V="1">
              <a:off x="2387520" y="5916240"/>
              <a:ext cx="8424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454120" y="5919840"/>
              <a:ext cx="82800" cy="730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2454120" y="5918040"/>
              <a:ext cx="82800" cy="748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519280" y="5923080"/>
              <a:ext cx="82800" cy="730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V="1">
              <a:off x="2519280" y="5921280"/>
              <a:ext cx="82800" cy="748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585880" y="5915160"/>
              <a:ext cx="8280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2585880" y="5914800"/>
              <a:ext cx="8280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651040" y="5913360"/>
              <a:ext cx="8424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2651040" y="5913000"/>
              <a:ext cx="8424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717640" y="5913360"/>
              <a:ext cx="8280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2717640" y="5913000"/>
              <a:ext cx="8280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782800" y="5932440"/>
              <a:ext cx="8280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2782800" y="5932080"/>
              <a:ext cx="8280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849400" y="5932440"/>
              <a:ext cx="8280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2849400" y="5932080"/>
              <a:ext cx="82800" cy="730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914560" y="5932440"/>
              <a:ext cx="8280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V="1">
              <a:off x="2914560" y="5932080"/>
              <a:ext cx="8280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979720" y="5921280"/>
              <a:ext cx="84240" cy="748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>
              <a:off x="2979720" y="5921280"/>
              <a:ext cx="84240" cy="748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046320" y="5925960"/>
              <a:ext cx="82800" cy="730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3046320" y="5924160"/>
              <a:ext cx="8280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111480" y="5923080"/>
              <a:ext cx="8244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V="1">
              <a:off x="3111480" y="5922720"/>
              <a:ext cx="82440" cy="730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178080" y="5925960"/>
              <a:ext cx="82800" cy="730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3178080" y="5924160"/>
              <a:ext cx="8280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243240" y="5921280"/>
              <a:ext cx="82440" cy="748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3243240" y="5920920"/>
              <a:ext cx="82440" cy="730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309840" y="5916600"/>
              <a:ext cx="8280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V="1">
              <a:off x="3309840" y="5916240"/>
              <a:ext cx="8280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375000" y="5913360"/>
              <a:ext cx="8244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3375000" y="5913000"/>
              <a:ext cx="82440" cy="730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441600" y="5913360"/>
              <a:ext cx="8280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3441600" y="5913000"/>
              <a:ext cx="8280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506760" y="5908680"/>
              <a:ext cx="82440" cy="730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V="1">
              <a:off x="3506760" y="5906880"/>
              <a:ext cx="8244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571920" y="5910120"/>
              <a:ext cx="84240" cy="730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3571920" y="5909760"/>
              <a:ext cx="84240" cy="730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638520" y="5911920"/>
              <a:ext cx="8244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V="1">
              <a:off x="3638520" y="5911560"/>
              <a:ext cx="8244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703680" y="5921280"/>
              <a:ext cx="82440" cy="730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V="1">
              <a:off x="3703680" y="5920920"/>
              <a:ext cx="82440" cy="730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770280" y="5918040"/>
              <a:ext cx="82440" cy="748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V="1">
              <a:off x="3770280" y="5918040"/>
              <a:ext cx="82440" cy="748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835440" y="5923080"/>
              <a:ext cx="82440" cy="730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3835440" y="5921280"/>
              <a:ext cx="82440" cy="748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902040" y="5924520"/>
              <a:ext cx="8244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3902040" y="5924160"/>
              <a:ext cx="8244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967200" y="5913360"/>
              <a:ext cx="8244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V="1">
              <a:off x="3967200" y="5913000"/>
              <a:ext cx="8244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032360" y="5915160"/>
              <a:ext cx="8388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V="1">
              <a:off x="4032360" y="5914800"/>
              <a:ext cx="8388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98960" y="5924520"/>
              <a:ext cx="82440" cy="730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>
              <a:off x="4098960" y="5922720"/>
              <a:ext cx="8244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164120" y="5925960"/>
              <a:ext cx="83880" cy="748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V="1">
              <a:off x="4164120" y="5925960"/>
              <a:ext cx="83880" cy="748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230720" y="5924520"/>
              <a:ext cx="8244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V="1">
              <a:off x="4230720" y="5924160"/>
              <a:ext cx="8244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295880" y="5925960"/>
              <a:ext cx="82440" cy="748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>
              <a:off x="4295880" y="5925960"/>
              <a:ext cx="82440" cy="748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362480" y="5929200"/>
              <a:ext cx="82440" cy="748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4362480" y="5928840"/>
              <a:ext cx="82440" cy="730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427640" y="5929200"/>
              <a:ext cx="82440" cy="748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V="1">
              <a:off x="4427640" y="5929200"/>
              <a:ext cx="82440" cy="748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494240" y="5927760"/>
              <a:ext cx="8244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4494240" y="5927400"/>
              <a:ext cx="8244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559400" y="5918040"/>
              <a:ext cx="82440" cy="748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4559400" y="5918040"/>
              <a:ext cx="82440" cy="748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624560" y="5925960"/>
              <a:ext cx="83880" cy="748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V="1">
              <a:off x="4624560" y="5925960"/>
              <a:ext cx="83880" cy="748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691160" y="5916600"/>
              <a:ext cx="8244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V="1">
              <a:off x="4691160" y="5916240"/>
              <a:ext cx="8244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756320" y="5921280"/>
              <a:ext cx="82440" cy="748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4756320" y="5921280"/>
              <a:ext cx="82440" cy="748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822920" y="5919840"/>
              <a:ext cx="8244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V="1">
              <a:off x="4822920" y="5919480"/>
              <a:ext cx="8244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888080" y="5927760"/>
              <a:ext cx="8244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4888080" y="5927400"/>
              <a:ext cx="8244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952880" y="5913360"/>
              <a:ext cx="8424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V="1">
              <a:off x="4952880" y="5913000"/>
              <a:ext cx="84240" cy="730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019840" y="5900760"/>
              <a:ext cx="8244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V="1">
              <a:off x="5019840" y="5900400"/>
              <a:ext cx="8244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084640" y="5915160"/>
              <a:ext cx="8424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V="1">
              <a:off x="5084640" y="5914800"/>
              <a:ext cx="8424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151600" y="5924520"/>
              <a:ext cx="8244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V="1">
              <a:off x="5151600" y="5924160"/>
              <a:ext cx="8244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216400" y="5916600"/>
              <a:ext cx="8280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5216400" y="5916240"/>
              <a:ext cx="8280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283360" y="5918040"/>
              <a:ext cx="82440" cy="748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5283360" y="5918040"/>
              <a:ext cx="82440" cy="748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348160" y="5919840"/>
              <a:ext cx="82800" cy="730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5348160" y="5919480"/>
              <a:ext cx="82800" cy="730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413320" y="5924520"/>
              <a:ext cx="84240" cy="730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5413320" y="5924160"/>
              <a:ext cx="84240" cy="730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479920" y="5916600"/>
              <a:ext cx="8280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V="1">
              <a:off x="5479920" y="5916240"/>
              <a:ext cx="8280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545080" y="5916600"/>
              <a:ext cx="8424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V="1">
              <a:off x="5545080" y="5916240"/>
              <a:ext cx="8424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611680" y="5919840"/>
              <a:ext cx="82800" cy="730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V="1">
              <a:off x="5611680" y="5918040"/>
              <a:ext cx="82800" cy="748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676840" y="5923080"/>
              <a:ext cx="8424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V="1">
              <a:off x="5676840" y="5922720"/>
              <a:ext cx="8424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743440" y="5910120"/>
              <a:ext cx="82800" cy="748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>
              <a:off x="5743440" y="5910120"/>
              <a:ext cx="82800" cy="748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808600" y="5916600"/>
              <a:ext cx="8244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5808600" y="5916240"/>
              <a:ext cx="82440" cy="730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875200" y="5916600"/>
              <a:ext cx="8280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5875200" y="5916240"/>
              <a:ext cx="8280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940360" y="5919840"/>
              <a:ext cx="82440" cy="730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>
              <a:off x="5940360" y="5919480"/>
              <a:ext cx="82440" cy="730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005520" y="5921280"/>
              <a:ext cx="84240" cy="748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6005520" y="5921280"/>
              <a:ext cx="84240" cy="748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072120" y="5921280"/>
              <a:ext cx="82440" cy="730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V="1">
              <a:off x="6072120" y="5919480"/>
              <a:ext cx="8244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137280" y="5923080"/>
              <a:ext cx="8424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V="1">
              <a:off x="6137280" y="5922720"/>
              <a:ext cx="8424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203880" y="5921280"/>
              <a:ext cx="82800" cy="748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V="1">
              <a:off x="6203880" y="5921280"/>
              <a:ext cx="82800" cy="748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269040" y="5918040"/>
              <a:ext cx="82440" cy="748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V="1">
              <a:off x="6269040" y="5917680"/>
              <a:ext cx="82440" cy="730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335640" y="5918040"/>
              <a:ext cx="82800" cy="730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6335640" y="5916240"/>
              <a:ext cx="8280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400800" y="5923080"/>
              <a:ext cx="8244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V="1">
              <a:off x="6400800" y="5922720"/>
              <a:ext cx="82440" cy="730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467400" y="5924520"/>
              <a:ext cx="82800" cy="745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209" name=""/>
          <p:cNvSpPr/>
          <p:nvPr/>
        </p:nvSpPr>
        <p:spPr>
          <a:xfrm flipV="1">
            <a:off x="6467400" y="5924160"/>
            <a:ext cx="8280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532560" y="5921280"/>
            <a:ext cx="824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6532560" y="5921280"/>
            <a:ext cx="824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597720" y="5910120"/>
            <a:ext cx="842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6597720" y="5910120"/>
            <a:ext cx="842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664320" y="591192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6664320" y="5911560"/>
            <a:ext cx="8244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729480" y="5924520"/>
            <a:ext cx="8424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V="1">
            <a:off x="6729480" y="5922720"/>
            <a:ext cx="842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796080" y="5925960"/>
            <a:ext cx="8244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6796080" y="592416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861240" y="5919840"/>
            <a:ext cx="8244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6861240" y="5918040"/>
            <a:ext cx="824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927840" y="5927760"/>
            <a:ext cx="8244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6927840" y="5925960"/>
            <a:ext cx="824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993000" y="591336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6993000" y="5913000"/>
            <a:ext cx="8244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059600" y="592308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7059600" y="592272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124760" y="591660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7124760" y="591624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189920" y="5919840"/>
            <a:ext cx="8388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V="1">
            <a:off x="7189920" y="5919480"/>
            <a:ext cx="8388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256520" y="5921280"/>
            <a:ext cx="824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7256520" y="5921280"/>
            <a:ext cx="824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321680" y="592308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V="1">
            <a:off x="7321680" y="5922720"/>
            <a:ext cx="8244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388280" y="5918040"/>
            <a:ext cx="824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flipV="1">
            <a:off x="7388280" y="5917680"/>
            <a:ext cx="8244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7453440" y="5923080"/>
            <a:ext cx="8244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V="1">
            <a:off x="7453440" y="5922720"/>
            <a:ext cx="8244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7518240" y="5923080"/>
            <a:ext cx="842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>
            <a:off x="7518240" y="5922720"/>
            <a:ext cx="842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7585200" y="5925960"/>
            <a:ext cx="824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V="1">
            <a:off x="7585200" y="5925960"/>
            <a:ext cx="824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651800" y="592308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7651800" y="592272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7716960" y="5921280"/>
            <a:ext cx="824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7716960" y="5920920"/>
            <a:ext cx="8244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7781760" y="5923080"/>
            <a:ext cx="8424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V="1">
            <a:off x="7781760" y="5922720"/>
            <a:ext cx="8424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7848720" y="592776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V="1">
            <a:off x="7848720" y="592740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7439040" y="2746440"/>
            <a:ext cx="842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V="1">
            <a:off x="7439040" y="2746080"/>
            <a:ext cx="8424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953040" y="1905120"/>
            <a:ext cx="1317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3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255" name=""/>
          <p:cNvGrpSpPr/>
          <p:nvPr/>
        </p:nvGrpSpPr>
        <p:grpSpPr>
          <a:xfrm>
            <a:off x="1598760" y="2108160"/>
            <a:ext cx="6332400" cy="3220920"/>
            <a:chOff x="1598760" y="2108160"/>
            <a:chExt cx="6332400" cy="3220920"/>
          </a:xfrm>
        </p:grpSpPr>
        <p:sp>
          <p:nvSpPr>
            <p:cNvPr id="1256" name=""/>
            <p:cNvSpPr/>
            <p:nvPr/>
          </p:nvSpPr>
          <p:spPr>
            <a:xfrm>
              <a:off x="4164120" y="4703760"/>
              <a:ext cx="82440" cy="74520"/>
            </a:xfrm>
            <a:prstGeom prst="rect">
              <a:avLst/>
            </a:pr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230720" y="4716360"/>
              <a:ext cx="82440" cy="74880"/>
            </a:xfrm>
            <a:prstGeom prst="rect">
              <a:avLst/>
            </a:pr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427640" y="4781520"/>
              <a:ext cx="82440" cy="73080"/>
            </a:xfrm>
            <a:prstGeom prst="rect">
              <a:avLst/>
            </a:pr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468680" y="4818240"/>
              <a:ext cx="1800" cy="144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535640" y="4815000"/>
              <a:ext cx="1440" cy="144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151600" y="4894200"/>
              <a:ext cx="82440" cy="73080"/>
            </a:xfrm>
            <a:prstGeom prst="rect">
              <a:avLst/>
            </a:pr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216400" y="4878360"/>
              <a:ext cx="82800" cy="74520"/>
            </a:xfrm>
            <a:prstGeom prst="rect">
              <a:avLst/>
            </a:pr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283360" y="4903920"/>
              <a:ext cx="82440" cy="74520"/>
            </a:xfrm>
            <a:prstGeom prst="rect">
              <a:avLst/>
            </a:pr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264" name=""/>
            <p:cNvGrpSpPr/>
            <p:nvPr/>
          </p:nvGrpSpPr>
          <p:grpSpPr>
            <a:xfrm>
              <a:off x="1598760" y="2108160"/>
              <a:ext cx="6332400" cy="3220920"/>
              <a:chOff x="1598760" y="2108160"/>
              <a:chExt cx="6332400" cy="3220920"/>
            </a:xfrm>
          </p:grpSpPr>
          <p:grpSp>
            <p:nvGrpSpPr>
              <p:cNvPr id="1265" name=""/>
              <p:cNvGrpSpPr/>
              <p:nvPr/>
            </p:nvGrpSpPr>
            <p:grpSpPr>
              <a:xfrm>
                <a:off x="1598760" y="3865680"/>
                <a:ext cx="6332400" cy="1463400"/>
                <a:chOff x="1598760" y="3865680"/>
                <a:chExt cx="6332400" cy="1463400"/>
              </a:xfrm>
            </p:grpSpPr>
            <p:sp>
              <p:nvSpPr>
                <p:cNvPr id="1266" name=""/>
                <p:cNvSpPr/>
                <p:nvPr/>
              </p:nvSpPr>
              <p:spPr>
                <a:xfrm flipH="1">
                  <a:off x="7843680" y="5224320"/>
                  <a:ext cx="4608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1598760" y="3879720"/>
                  <a:ext cx="82440" cy="7308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1639800" y="3916440"/>
                  <a:ext cx="180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1665360" y="3919680"/>
                  <a:ext cx="82440" cy="7452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1706400" y="3957480"/>
                  <a:ext cx="1800" cy="180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1730520" y="3865680"/>
                  <a:ext cx="82440" cy="7452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1795320" y="4014720"/>
                  <a:ext cx="82800" cy="7452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1836720" y="4051440"/>
                  <a:ext cx="144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1862280" y="4035600"/>
                  <a:ext cx="82440" cy="7272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1903320" y="4071960"/>
                  <a:ext cx="180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1927080" y="4022640"/>
                  <a:ext cx="84240" cy="7308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1968480" y="4059360"/>
                  <a:ext cx="144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1994040" y="4118040"/>
                  <a:ext cx="82440" cy="7308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2035080" y="4154400"/>
                  <a:ext cx="1800" cy="180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2058840" y="4143240"/>
                  <a:ext cx="82800" cy="7308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2100240" y="4179960"/>
                  <a:ext cx="144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2125800" y="4116240"/>
                  <a:ext cx="82440" cy="7308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2166840" y="4152960"/>
                  <a:ext cx="180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2190600" y="4368960"/>
                  <a:ext cx="82800" cy="7452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2232000" y="4405320"/>
                  <a:ext cx="144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2257560" y="4346640"/>
                  <a:ext cx="82440" cy="7452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2298600" y="4384800"/>
                  <a:ext cx="180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2322360" y="4348080"/>
                  <a:ext cx="82800" cy="7452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2363760" y="4386240"/>
                  <a:ext cx="144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2387520" y="4292640"/>
                  <a:ext cx="82800" cy="7308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2428920" y="4329000"/>
                  <a:ext cx="1440" cy="180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2454120" y="4267080"/>
                  <a:ext cx="82800" cy="7488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2495520" y="4305240"/>
                  <a:ext cx="1440" cy="180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2519280" y="4307040"/>
                  <a:ext cx="82800" cy="7272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2560680" y="4343400"/>
                  <a:ext cx="144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2585880" y="4541760"/>
                  <a:ext cx="82800" cy="7452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2627280" y="4578480"/>
                  <a:ext cx="180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2651040" y="4532400"/>
                  <a:ext cx="82800" cy="7452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2692440" y="4568760"/>
                  <a:ext cx="1440" cy="180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2717640" y="4514760"/>
                  <a:ext cx="82800" cy="7308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2759040" y="4551480"/>
                  <a:ext cx="180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2782800" y="4898880"/>
                  <a:ext cx="82800" cy="7308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2824200" y="4935600"/>
                  <a:ext cx="144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2849400" y="4898880"/>
                  <a:ext cx="82800" cy="7308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2890800" y="4935600"/>
                  <a:ext cx="180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2914560" y="4989600"/>
                  <a:ext cx="82800" cy="7308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2955960" y="5025960"/>
                  <a:ext cx="1440" cy="180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2979720" y="4570560"/>
                  <a:ext cx="82440" cy="7452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3021120" y="4606920"/>
                  <a:ext cx="144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3046320" y="4567320"/>
                  <a:ext cx="82800" cy="7452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3087720" y="4605480"/>
                  <a:ext cx="144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3111480" y="4576680"/>
                  <a:ext cx="82440" cy="7452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3152880" y="4613400"/>
                  <a:ext cx="144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3178080" y="4484520"/>
                  <a:ext cx="82800" cy="7488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3219480" y="4521240"/>
                  <a:ext cx="144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3243240" y="4502160"/>
                  <a:ext cx="82440" cy="7452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3284640" y="4540320"/>
                  <a:ext cx="144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3309840" y="4487760"/>
                  <a:ext cx="82800" cy="7488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3351240" y="4524480"/>
                  <a:ext cx="144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3375000" y="4548240"/>
                  <a:ext cx="82440" cy="7308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3416400" y="4584600"/>
                  <a:ext cx="1440" cy="180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3441600" y="4537080"/>
                  <a:ext cx="82800" cy="7452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3483000" y="4575240"/>
                  <a:ext cx="144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3506760" y="4471920"/>
                  <a:ext cx="82440" cy="7452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3548160" y="4508640"/>
                  <a:ext cx="144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3571920" y="4486320"/>
                  <a:ext cx="82440" cy="7452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3613320" y="4522680"/>
                  <a:ext cx="1440" cy="180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3638520" y="4506840"/>
                  <a:ext cx="82440" cy="7308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3679920" y="4543560"/>
                  <a:ext cx="144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3703680" y="4506840"/>
                  <a:ext cx="82440" cy="7452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3745080" y="4543560"/>
                  <a:ext cx="144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3770280" y="4659480"/>
                  <a:ext cx="82440" cy="7452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3811680" y="4697280"/>
                  <a:ext cx="1440" cy="180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3835440" y="4649760"/>
                  <a:ext cx="82440" cy="7308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3876840" y="4686480"/>
                  <a:ext cx="144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3902040" y="4707000"/>
                  <a:ext cx="82440" cy="7308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3943440" y="4743360"/>
                  <a:ext cx="1440" cy="180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3967200" y="4599000"/>
                  <a:ext cx="82440" cy="7452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4008600" y="4635360"/>
                  <a:ext cx="1440" cy="180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4032360" y="4624560"/>
                  <a:ext cx="83880" cy="7272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4075200" y="4660920"/>
                  <a:ext cx="144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4098960" y="4576680"/>
                  <a:ext cx="82440" cy="7452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4140360" y="4613400"/>
                  <a:ext cx="144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4205160" y="4740120"/>
                  <a:ext cx="1800" cy="180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4272120" y="4754520"/>
                  <a:ext cx="1440" cy="180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4295880" y="4724280"/>
                  <a:ext cx="82440" cy="7308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4336920" y="4761000"/>
                  <a:ext cx="180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4362480" y="4767120"/>
                  <a:ext cx="82440" cy="7488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4403880" y="4805280"/>
                  <a:ext cx="1440" cy="180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4494240" y="4778280"/>
                  <a:ext cx="82440" cy="7488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4559400" y="4678200"/>
                  <a:ext cx="82440" cy="7488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4600440" y="4716360"/>
                  <a:ext cx="1800" cy="180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4624560" y="4656240"/>
                  <a:ext cx="82440" cy="7452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4665600" y="4692600"/>
                  <a:ext cx="1800" cy="180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4691160" y="4633920"/>
                  <a:ext cx="82440" cy="7452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4732200" y="4672080"/>
                  <a:ext cx="180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4756320" y="4756320"/>
                  <a:ext cx="82440" cy="7452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4797360" y="4794120"/>
                  <a:ext cx="1800" cy="180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4822920" y="4748040"/>
                  <a:ext cx="82440" cy="7488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4863960" y="4784760"/>
                  <a:ext cx="180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4888080" y="4759200"/>
                  <a:ext cx="82440" cy="7308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4929120" y="4795920"/>
                  <a:ext cx="180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4952880" y="4660920"/>
                  <a:ext cx="82800" cy="7452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4994280" y="4699080"/>
                  <a:ext cx="144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5019840" y="4660920"/>
                  <a:ext cx="82440" cy="7452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5060880" y="4697280"/>
                  <a:ext cx="1800" cy="180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5084640" y="4657680"/>
                  <a:ext cx="82800" cy="7452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5126040" y="4694400"/>
                  <a:ext cx="144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5192640" y="4930920"/>
                  <a:ext cx="180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5257800" y="4915080"/>
                  <a:ext cx="144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5324400" y="4941720"/>
                  <a:ext cx="1800" cy="180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5348160" y="4842000"/>
                  <a:ext cx="82800" cy="7452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5389560" y="4879800"/>
                  <a:ext cx="1440" cy="180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5413320" y="4997520"/>
                  <a:ext cx="84240" cy="7452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5456160" y="5033880"/>
                  <a:ext cx="1800" cy="180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5479920" y="4819680"/>
                  <a:ext cx="82800" cy="7452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5521320" y="4856040"/>
                  <a:ext cx="1440" cy="180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5545080" y="4884840"/>
                  <a:ext cx="82440" cy="7452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5586480" y="4923000"/>
                  <a:ext cx="144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5611680" y="4906800"/>
                  <a:ext cx="82800" cy="7488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5653080" y="4943520"/>
                  <a:ext cx="144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5676840" y="4906800"/>
                  <a:ext cx="82440" cy="7488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5718240" y="4944960"/>
                  <a:ext cx="1440" cy="180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5743440" y="4975200"/>
                  <a:ext cx="82800" cy="7308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5784840" y="5011560"/>
                  <a:ext cx="1440" cy="180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5808600" y="4987800"/>
                  <a:ext cx="82440" cy="7488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5850000" y="5024520"/>
                  <a:ext cx="144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5875200" y="4951440"/>
                  <a:ext cx="82800" cy="7308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5916600" y="4987800"/>
                  <a:ext cx="1440" cy="180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5940360" y="4546440"/>
                  <a:ext cx="82440" cy="7308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5981760" y="4583160"/>
                  <a:ext cx="144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6005520" y="4643280"/>
                  <a:ext cx="84240" cy="7488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6046920" y="4680000"/>
                  <a:ext cx="144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6072120" y="4549680"/>
                  <a:ext cx="82440" cy="7488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6113520" y="4586400"/>
                  <a:ext cx="144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6137280" y="4832280"/>
                  <a:ext cx="82440" cy="7452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6178680" y="4869000"/>
                  <a:ext cx="144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6203880" y="4832280"/>
                  <a:ext cx="82800" cy="7452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6245280" y="4870440"/>
                  <a:ext cx="144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6269040" y="4846680"/>
                  <a:ext cx="82440" cy="7452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6310440" y="4884840"/>
                  <a:ext cx="144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6335640" y="4894200"/>
                  <a:ext cx="82800" cy="7308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6377040" y="4930920"/>
                  <a:ext cx="144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6400800" y="4890960"/>
                  <a:ext cx="82440" cy="7488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6442200" y="4929120"/>
                  <a:ext cx="1440" cy="180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6467400" y="4911840"/>
                  <a:ext cx="82800" cy="7308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6508800" y="4948200"/>
                  <a:ext cx="1440" cy="180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6532560" y="4932360"/>
                  <a:ext cx="82440" cy="7452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6573960" y="4968720"/>
                  <a:ext cx="1440" cy="180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6597720" y="4923000"/>
                  <a:ext cx="82440" cy="7272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6638760" y="4959360"/>
                  <a:ext cx="180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6664320" y="4929120"/>
                  <a:ext cx="82440" cy="7308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6705720" y="4965840"/>
                  <a:ext cx="144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6729480" y="4865760"/>
                  <a:ext cx="82440" cy="7308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6770520" y="4902120"/>
                  <a:ext cx="1800" cy="180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6796080" y="4888080"/>
                  <a:ext cx="82440" cy="7452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6837480" y="4925880"/>
                  <a:ext cx="1440" cy="180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6861240" y="4881600"/>
                  <a:ext cx="82440" cy="7308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6902280" y="4917960"/>
                  <a:ext cx="1800" cy="180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6927840" y="5100480"/>
                  <a:ext cx="82440" cy="7308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6969240" y="5137200"/>
                  <a:ext cx="144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6993000" y="4913280"/>
                  <a:ext cx="82440" cy="7452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7034040" y="4950000"/>
                  <a:ext cx="180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7059600" y="4832280"/>
                  <a:ext cx="82440" cy="7308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7101000" y="4869000"/>
                  <a:ext cx="144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7124760" y="4900680"/>
                  <a:ext cx="82440" cy="7452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7165800" y="4937040"/>
                  <a:ext cx="1800" cy="180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7189920" y="4989600"/>
                  <a:ext cx="82440" cy="7308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7230960" y="5025960"/>
                  <a:ext cx="1800" cy="180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7256520" y="4998960"/>
                  <a:ext cx="82440" cy="7308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7297560" y="5035680"/>
                  <a:ext cx="180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7321680" y="5240160"/>
                  <a:ext cx="82440" cy="7308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7362720" y="5276880"/>
                  <a:ext cx="180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7388280" y="5240160"/>
                  <a:ext cx="82440" cy="7488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7429680" y="5278320"/>
                  <a:ext cx="1440" cy="180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7453440" y="5254560"/>
                  <a:ext cx="82440" cy="7452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7494480" y="5292720"/>
                  <a:ext cx="180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7518240" y="5160960"/>
                  <a:ext cx="84240" cy="7452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7561440" y="5197320"/>
                  <a:ext cx="1440" cy="180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7585200" y="5189400"/>
                  <a:ext cx="82440" cy="7488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7626240" y="5227560"/>
                  <a:ext cx="1800" cy="180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7651800" y="5173560"/>
                  <a:ext cx="82440" cy="7488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7693200" y="5211720"/>
                  <a:ext cx="1440" cy="180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7716960" y="5227560"/>
                  <a:ext cx="82440" cy="7452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7758000" y="5265720"/>
                  <a:ext cx="180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7781760" y="5230800"/>
                  <a:ext cx="82800" cy="7452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7823160" y="5267160"/>
                  <a:ext cx="1800" cy="180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7848720" y="5227560"/>
                  <a:ext cx="82440" cy="74520"/>
                </a:xfrm>
                <a:prstGeom prst="rect">
                  <a:avLst/>
                </a:prstGeom>
                <a:noFill/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7889760" y="5264280"/>
                  <a:ext cx="1800" cy="1440"/>
                </a:xfrm>
                <a:prstGeom prst="line">
                  <a:avLst/>
                </a:prstGeom>
                <a:ln w="0">
                  <a:solidFill>
                    <a:srgbClr val="00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0" name=""/>
              <p:cNvSpPr/>
              <p:nvPr/>
            </p:nvSpPr>
            <p:spPr>
              <a:xfrm>
                <a:off x="7439040" y="2163600"/>
                <a:ext cx="82440" cy="73080"/>
              </a:xfrm>
              <a:prstGeom prst="rect">
                <a:avLst/>
              </a:pr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7480440" y="2200320"/>
                <a:ext cx="1440" cy="1440"/>
              </a:xfrm>
              <a:prstGeom prst="line">
                <a:avLst/>
              </a:prstGeom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6555960" y="2108160"/>
                <a:ext cx="57528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3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, N=1</a:t>
                </a:r>
                <a:endParaRPr b="0" lang="en-US" sz="13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53" name=""/>
          <p:cNvSpPr/>
          <p:nvPr/>
        </p:nvSpPr>
        <p:spPr>
          <a:xfrm>
            <a:off x="6555960" y="2301840"/>
            <a:ext cx="575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3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, N=2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6555960" y="2496960"/>
            <a:ext cx="575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3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, N=3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555960" y="2690640"/>
            <a:ext cx="575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3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, N=5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13800" y="3306600"/>
            <a:ext cx="377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40458c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8076240" y="1828800"/>
            <a:ext cx="4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1523880" y="2235240"/>
            <a:ext cx="67057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7704720" y="60040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imes New Roman"/>
              </a:rPr>
              <a:t>Use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66AF-F720-47F7-B508-ECD559CF89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atistical gai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 statistical gain, SLA traffic accepted with respect to the total network capac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mpare the results of the proposed approach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ak allocation of SLA bandwidth, i.e., </a:t>
            </a:r>
            <a:r>
              <a:rPr b="0" i="1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40458c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an allocation of SLA bandwidth, i.e., </a:t>
            </a:r>
            <a:r>
              <a:rPr b="0" i="1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40458c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pact of user reque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r different values of </a:t>
            </a:r>
            <a:r>
              <a:rPr b="0" i="1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40458c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quired by use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ith different number of destination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425F-3AF2-49FD-B929-20B8FD32C5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blem statem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ethodology ide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blems and solutio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formance evalu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ersus simul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tatistical gai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9725-2CC0-48F4-A3DA-3B5E744393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atistical gain versus </a:t>
            </a:r>
            <a:r>
              <a:rPr b="0" lang="en-US" sz="4400" spc="-1" strike="noStrike">
                <a:solidFill>
                  <a:srgbClr val="660066"/>
                </a:solidFill>
                <a:latin typeface="Symbol"/>
                <a:ea typeface="Symbol"/>
              </a:rPr>
              <a:t>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63" name=""/>
          <p:cNvSpPr/>
          <p:nvPr/>
        </p:nvSpPr>
        <p:spPr>
          <a:xfrm>
            <a:off x="1663560" y="60469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 flipH="1">
            <a:off x="7843680" y="60469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384200" y="59547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663560" y="52261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 flipH="1">
            <a:off x="7843680" y="52261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384200" y="51339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1663560" y="44053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 flipH="1">
            <a:off x="7843680" y="44053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281240" y="431316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663560" y="358452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 flipH="1">
            <a:off x="7843680" y="358452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1281240" y="349416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663560" y="27655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 flipH="1">
            <a:off x="7843680" y="27655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281240" y="267336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663560" y="19447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 flipH="1">
            <a:off x="7843680" y="19447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281240" y="185256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flipV="1">
            <a:off x="1663560" y="600516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1663560" y="194472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1495800" y="614844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V="1">
            <a:off x="2554200" y="600516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2554200" y="194472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283840" y="614844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825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flipV="1">
            <a:off x="3443400" y="600516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3443400" y="194472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3224880" y="614844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85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V="1">
            <a:off x="4332240" y="600516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4332240" y="194472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4061880" y="614844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875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V="1">
            <a:off x="5221440" y="600516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5221440" y="194472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5053320" y="614844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 flipV="1">
            <a:off x="6110280" y="600516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6110280" y="194472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5839920" y="614844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925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V="1">
            <a:off x="7000920" y="600516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7000920" y="194472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6782400" y="614844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V="1">
            <a:off x="7889760" y="600516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7889760" y="194472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7619400" y="614844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975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663560" y="1944720"/>
            <a:ext cx="6226200" cy="4102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675320" y="64404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2139120" y="3903840"/>
            <a:ext cx="37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=31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2890800" y="3944880"/>
            <a:ext cx="112680" cy="10152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2946240" y="399564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2139120" y="4097160"/>
            <a:ext cx="37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=16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871720" y="4156200"/>
            <a:ext cx="150840" cy="101520"/>
          </a:xfrm>
          <a:custGeom>
            <a:avLst/>
            <a:gdLst/>
            <a:ahLst/>
            <a:rect l="l" t="t" r="r" b="b"/>
            <a:pathLst>
              <a:path w="572" h="383">
                <a:moveTo>
                  <a:pt x="286" y="383"/>
                </a:moveTo>
                <a:lnTo>
                  <a:pt x="0" y="0"/>
                </a:lnTo>
                <a:lnTo>
                  <a:pt x="572" y="0"/>
                </a:lnTo>
                <a:lnTo>
                  <a:pt x="286" y="383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2946240" y="4189320"/>
            <a:ext cx="180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2139120" y="4292640"/>
            <a:ext cx="37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=8  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2890800" y="4332240"/>
            <a:ext cx="112680" cy="1033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V="1">
            <a:off x="2890800" y="4332240"/>
            <a:ext cx="112680" cy="101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1797120" y="4680000"/>
            <a:ext cx="677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dicted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2732040" y="4772160"/>
            <a:ext cx="43020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1663560" y="3722760"/>
            <a:ext cx="6226200" cy="611280"/>
          </a:xfrm>
          <a:custGeom>
            <a:avLst/>
            <a:gdLst/>
            <a:ahLst/>
            <a:rect l="l" t="t" r="r" b="b"/>
            <a:pathLst>
              <a:path w="23529" h="2314">
                <a:moveTo>
                  <a:pt x="23529" y="2314"/>
                </a:moveTo>
                <a:lnTo>
                  <a:pt x="23529" y="2314"/>
                </a:lnTo>
                <a:lnTo>
                  <a:pt x="20167" y="1817"/>
                </a:lnTo>
                <a:lnTo>
                  <a:pt x="16806" y="1281"/>
                </a:lnTo>
                <a:lnTo>
                  <a:pt x="13444" y="950"/>
                </a:lnTo>
                <a:lnTo>
                  <a:pt x="10085" y="620"/>
                </a:lnTo>
                <a:lnTo>
                  <a:pt x="6723" y="454"/>
                </a:lnTo>
                <a:lnTo>
                  <a:pt x="3362" y="24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663560" y="3722760"/>
            <a:ext cx="6226200" cy="611280"/>
          </a:xfrm>
          <a:custGeom>
            <a:avLst/>
            <a:gdLst/>
            <a:ahLst/>
            <a:rect l="l" t="t" r="r" b="b"/>
            <a:pathLst>
              <a:path w="23529" h="2314">
                <a:moveTo>
                  <a:pt x="23529" y="2314"/>
                </a:moveTo>
                <a:lnTo>
                  <a:pt x="23529" y="2314"/>
                </a:lnTo>
                <a:lnTo>
                  <a:pt x="20167" y="1817"/>
                </a:lnTo>
                <a:lnTo>
                  <a:pt x="16806" y="1281"/>
                </a:lnTo>
                <a:lnTo>
                  <a:pt x="13444" y="950"/>
                </a:lnTo>
                <a:lnTo>
                  <a:pt x="10085" y="620"/>
                </a:lnTo>
                <a:lnTo>
                  <a:pt x="6723" y="454"/>
                </a:lnTo>
                <a:lnTo>
                  <a:pt x="3362" y="24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813800" y="4300560"/>
            <a:ext cx="152280" cy="101520"/>
          </a:xfrm>
          <a:custGeom>
            <a:avLst/>
            <a:gdLst/>
            <a:ahLst/>
            <a:rect l="l" t="t" r="r" b="b"/>
            <a:pathLst>
              <a:path w="572" h="384">
                <a:moveTo>
                  <a:pt x="286" y="384"/>
                </a:moveTo>
                <a:lnTo>
                  <a:pt x="0" y="0"/>
                </a:lnTo>
                <a:lnTo>
                  <a:pt x="572" y="0"/>
                </a:lnTo>
                <a:lnTo>
                  <a:pt x="286" y="384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7889760" y="4334040"/>
            <a:ext cx="180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924600" y="4168800"/>
            <a:ext cx="150840" cy="101520"/>
          </a:xfrm>
          <a:custGeom>
            <a:avLst/>
            <a:gdLst/>
            <a:ahLst/>
            <a:rect l="l" t="t" r="r" b="b"/>
            <a:pathLst>
              <a:path w="572" h="383">
                <a:moveTo>
                  <a:pt x="286" y="383"/>
                </a:moveTo>
                <a:lnTo>
                  <a:pt x="0" y="0"/>
                </a:lnTo>
                <a:lnTo>
                  <a:pt x="572" y="0"/>
                </a:lnTo>
                <a:lnTo>
                  <a:pt x="286" y="383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7000920" y="4203720"/>
            <a:ext cx="144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6035760" y="4027320"/>
            <a:ext cx="150840" cy="101880"/>
          </a:xfrm>
          <a:custGeom>
            <a:avLst/>
            <a:gdLst/>
            <a:ahLst/>
            <a:rect l="l" t="t" r="r" b="b"/>
            <a:pathLst>
              <a:path w="572" h="384">
                <a:moveTo>
                  <a:pt x="286" y="384"/>
                </a:moveTo>
                <a:lnTo>
                  <a:pt x="0" y="0"/>
                </a:lnTo>
                <a:lnTo>
                  <a:pt x="572" y="0"/>
                </a:lnTo>
                <a:lnTo>
                  <a:pt x="286" y="384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6110280" y="4060800"/>
            <a:ext cx="144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5145120" y="3940200"/>
            <a:ext cx="152280" cy="101520"/>
          </a:xfrm>
          <a:custGeom>
            <a:avLst/>
            <a:gdLst/>
            <a:ahLst/>
            <a:rect l="l" t="t" r="r" b="b"/>
            <a:pathLst>
              <a:path w="573" h="383">
                <a:moveTo>
                  <a:pt x="286" y="383"/>
                </a:moveTo>
                <a:lnTo>
                  <a:pt x="0" y="0"/>
                </a:lnTo>
                <a:lnTo>
                  <a:pt x="573" y="0"/>
                </a:lnTo>
                <a:lnTo>
                  <a:pt x="286" y="383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5221440" y="3973680"/>
            <a:ext cx="144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4255920" y="3852720"/>
            <a:ext cx="152640" cy="101880"/>
          </a:xfrm>
          <a:custGeom>
            <a:avLst/>
            <a:gdLst/>
            <a:ahLst/>
            <a:rect l="l" t="t" r="r" b="b"/>
            <a:pathLst>
              <a:path w="572" h="384">
                <a:moveTo>
                  <a:pt x="286" y="384"/>
                </a:moveTo>
                <a:lnTo>
                  <a:pt x="0" y="0"/>
                </a:lnTo>
                <a:lnTo>
                  <a:pt x="572" y="0"/>
                </a:lnTo>
                <a:lnTo>
                  <a:pt x="286" y="384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4332240" y="3886200"/>
            <a:ext cx="180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3367080" y="3808440"/>
            <a:ext cx="152280" cy="101520"/>
          </a:xfrm>
          <a:custGeom>
            <a:avLst/>
            <a:gdLst/>
            <a:ahLst/>
            <a:rect l="l" t="t" r="r" b="b"/>
            <a:pathLst>
              <a:path w="572" h="383">
                <a:moveTo>
                  <a:pt x="286" y="383"/>
                </a:moveTo>
                <a:lnTo>
                  <a:pt x="0" y="0"/>
                </a:lnTo>
                <a:lnTo>
                  <a:pt x="572" y="0"/>
                </a:lnTo>
                <a:lnTo>
                  <a:pt x="286" y="383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3443400" y="3841920"/>
            <a:ext cx="144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2478240" y="3754440"/>
            <a:ext cx="150840" cy="101520"/>
          </a:xfrm>
          <a:custGeom>
            <a:avLst/>
            <a:gdLst/>
            <a:ahLst/>
            <a:rect l="l" t="t" r="r" b="b"/>
            <a:pathLst>
              <a:path w="572" h="383">
                <a:moveTo>
                  <a:pt x="286" y="383"/>
                </a:moveTo>
                <a:lnTo>
                  <a:pt x="0" y="0"/>
                </a:lnTo>
                <a:lnTo>
                  <a:pt x="572" y="0"/>
                </a:lnTo>
                <a:lnTo>
                  <a:pt x="286" y="383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2554200" y="3787920"/>
            <a:ext cx="180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589040" y="3687840"/>
            <a:ext cx="150840" cy="101520"/>
          </a:xfrm>
          <a:custGeom>
            <a:avLst/>
            <a:gdLst/>
            <a:ahLst/>
            <a:rect l="l" t="t" r="r" b="b"/>
            <a:pathLst>
              <a:path w="573" h="384">
                <a:moveTo>
                  <a:pt x="286" y="384"/>
                </a:moveTo>
                <a:lnTo>
                  <a:pt x="0" y="0"/>
                </a:lnTo>
                <a:lnTo>
                  <a:pt x="573" y="0"/>
                </a:lnTo>
                <a:lnTo>
                  <a:pt x="286" y="384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1663560" y="3722760"/>
            <a:ext cx="180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1663560" y="3727440"/>
            <a:ext cx="6226200" cy="584280"/>
          </a:xfrm>
          <a:custGeom>
            <a:avLst/>
            <a:gdLst/>
            <a:ahLst/>
            <a:rect l="l" t="t" r="r" b="b"/>
            <a:pathLst>
              <a:path w="23529" h="2210">
                <a:moveTo>
                  <a:pt x="23529" y="2210"/>
                </a:moveTo>
                <a:lnTo>
                  <a:pt x="23529" y="2210"/>
                </a:lnTo>
                <a:lnTo>
                  <a:pt x="20167" y="1653"/>
                </a:lnTo>
                <a:lnTo>
                  <a:pt x="16806" y="1095"/>
                </a:lnTo>
                <a:lnTo>
                  <a:pt x="13444" y="765"/>
                </a:lnTo>
                <a:lnTo>
                  <a:pt x="10085" y="537"/>
                </a:lnTo>
                <a:lnTo>
                  <a:pt x="6723" y="372"/>
                </a:lnTo>
                <a:lnTo>
                  <a:pt x="3362" y="14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7832880" y="4260960"/>
            <a:ext cx="114120" cy="1015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7889760" y="4311720"/>
            <a:ext cx="180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6943680" y="4114800"/>
            <a:ext cx="112680" cy="1015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7000920" y="4165560"/>
            <a:ext cx="144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054840" y="3967200"/>
            <a:ext cx="112680" cy="1015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110280" y="4017960"/>
            <a:ext cx="144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5164200" y="3879720"/>
            <a:ext cx="114120" cy="10008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5221440" y="3929040"/>
            <a:ext cx="144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275000" y="3819600"/>
            <a:ext cx="114480" cy="1015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4332240" y="3870360"/>
            <a:ext cx="180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386160" y="3774960"/>
            <a:ext cx="114120" cy="10188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3443400" y="3825720"/>
            <a:ext cx="144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496960" y="3714840"/>
            <a:ext cx="113040" cy="1015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554200" y="3765600"/>
            <a:ext cx="180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1608120" y="3676680"/>
            <a:ext cx="112680" cy="1015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1663560" y="3727440"/>
            <a:ext cx="180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553" name=""/>
          <p:cNvGrpSpPr/>
          <p:nvPr/>
        </p:nvGrpSpPr>
        <p:grpSpPr>
          <a:xfrm>
            <a:off x="1589040" y="2151000"/>
            <a:ext cx="6377040" cy="2533680"/>
            <a:chOff x="1589040" y="2151000"/>
            <a:chExt cx="6377040" cy="2533680"/>
          </a:xfrm>
        </p:grpSpPr>
        <p:sp>
          <p:nvSpPr>
            <p:cNvPr id="1554" name=""/>
            <p:cNvSpPr/>
            <p:nvPr/>
          </p:nvSpPr>
          <p:spPr>
            <a:xfrm>
              <a:off x="7832880" y="2927520"/>
              <a:ext cx="114120" cy="101520"/>
            </a:xfrm>
            <a:prstGeom prst="rect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7889760" y="2978280"/>
              <a:ext cx="18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943680" y="2943360"/>
              <a:ext cx="112680" cy="101520"/>
            </a:xfrm>
            <a:prstGeom prst="rect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7000920" y="2994120"/>
              <a:ext cx="14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054840" y="2359080"/>
              <a:ext cx="112680" cy="101520"/>
            </a:xfrm>
            <a:prstGeom prst="rect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110280" y="2409840"/>
              <a:ext cx="14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164200" y="2216160"/>
              <a:ext cx="114120" cy="101520"/>
            </a:xfrm>
            <a:prstGeom prst="rect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221440" y="2266920"/>
              <a:ext cx="14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275000" y="2216160"/>
              <a:ext cx="114480" cy="101520"/>
            </a:xfrm>
            <a:prstGeom prst="rect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332240" y="2266920"/>
              <a:ext cx="18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3386160" y="2216160"/>
              <a:ext cx="114120" cy="101520"/>
            </a:xfrm>
            <a:prstGeom prst="rect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443400" y="2266920"/>
              <a:ext cx="14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496960" y="2216160"/>
              <a:ext cx="113040" cy="101520"/>
            </a:xfrm>
            <a:prstGeom prst="rect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554200" y="2266920"/>
              <a:ext cx="18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608120" y="2216160"/>
              <a:ext cx="112680" cy="101520"/>
            </a:xfrm>
            <a:prstGeom prst="rect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663560" y="2266920"/>
              <a:ext cx="18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813800" y="2457360"/>
              <a:ext cx="152280" cy="101520"/>
            </a:xfrm>
            <a:custGeom>
              <a:avLst/>
              <a:gdLst/>
              <a:ahLst/>
              <a:rect l="l" t="t" r="r" b="b"/>
              <a:pathLst>
                <a:path w="572" h="383">
                  <a:moveTo>
                    <a:pt x="286" y="383"/>
                  </a:moveTo>
                  <a:lnTo>
                    <a:pt x="0" y="0"/>
                  </a:lnTo>
                  <a:lnTo>
                    <a:pt x="572" y="0"/>
                  </a:lnTo>
                  <a:lnTo>
                    <a:pt x="286" y="38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889760" y="2490840"/>
              <a:ext cx="1800" cy="144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924600" y="2457360"/>
              <a:ext cx="150840" cy="101520"/>
            </a:xfrm>
            <a:custGeom>
              <a:avLst/>
              <a:gdLst/>
              <a:ahLst/>
              <a:rect l="l" t="t" r="r" b="b"/>
              <a:pathLst>
                <a:path w="572" h="383">
                  <a:moveTo>
                    <a:pt x="286" y="383"/>
                  </a:moveTo>
                  <a:lnTo>
                    <a:pt x="0" y="0"/>
                  </a:lnTo>
                  <a:lnTo>
                    <a:pt x="572" y="0"/>
                  </a:lnTo>
                  <a:lnTo>
                    <a:pt x="286" y="38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000920" y="2490840"/>
              <a:ext cx="1440" cy="144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035760" y="2260440"/>
              <a:ext cx="150840" cy="101880"/>
            </a:xfrm>
            <a:custGeom>
              <a:avLst/>
              <a:gdLst/>
              <a:ahLst/>
              <a:rect l="l" t="t" r="r" b="b"/>
              <a:pathLst>
                <a:path w="572" h="384">
                  <a:moveTo>
                    <a:pt x="286" y="384"/>
                  </a:moveTo>
                  <a:lnTo>
                    <a:pt x="0" y="0"/>
                  </a:lnTo>
                  <a:lnTo>
                    <a:pt x="572" y="0"/>
                  </a:lnTo>
                  <a:lnTo>
                    <a:pt x="286" y="38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110280" y="2293920"/>
              <a:ext cx="1440" cy="144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5145120" y="2260440"/>
              <a:ext cx="152280" cy="101880"/>
            </a:xfrm>
            <a:custGeom>
              <a:avLst/>
              <a:gdLst/>
              <a:ahLst/>
              <a:rect l="l" t="t" r="r" b="b"/>
              <a:pathLst>
                <a:path w="573" h="384">
                  <a:moveTo>
                    <a:pt x="286" y="384"/>
                  </a:moveTo>
                  <a:lnTo>
                    <a:pt x="0" y="0"/>
                  </a:lnTo>
                  <a:lnTo>
                    <a:pt x="573" y="0"/>
                  </a:lnTo>
                  <a:lnTo>
                    <a:pt x="286" y="38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221440" y="2293920"/>
              <a:ext cx="1440" cy="144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255920" y="2260440"/>
              <a:ext cx="152640" cy="101880"/>
            </a:xfrm>
            <a:custGeom>
              <a:avLst/>
              <a:gdLst/>
              <a:ahLst/>
              <a:rect l="l" t="t" r="r" b="b"/>
              <a:pathLst>
                <a:path w="572" h="384">
                  <a:moveTo>
                    <a:pt x="286" y="384"/>
                  </a:moveTo>
                  <a:lnTo>
                    <a:pt x="0" y="0"/>
                  </a:lnTo>
                  <a:lnTo>
                    <a:pt x="572" y="0"/>
                  </a:lnTo>
                  <a:lnTo>
                    <a:pt x="286" y="38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332240" y="2293920"/>
              <a:ext cx="1800" cy="144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367080" y="2260440"/>
              <a:ext cx="152280" cy="101880"/>
            </a:xfrm>
            <a:custGeom>
              <a:avLst/>
              <a:gdLst/>
              <a:ahLst/>
              <a:rect l="l" t="t" r="r" b="b"/>
              <a:pathLst>
                <a:path w="572" h="384">
                  <a:moveTo>
                    <a:pt x="286" y="384"/>
                  </a:moveTo>
                  <a:lnTo>
                    <a:pt x="0" y="0"/>
                  </a:lnTo>
                  <a:lnTo>
                    <a:pt x="572" y="0"/>
                  </a:lnTo>
                  <a:lnTo>
                    <a:pt x="286" y="38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443400" y="2293920"/>
              <a:ext cx="1440" cy="144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2478240" y="2260440"/>
              <a:ext cx="150840" cy="101880"/>
            </a:xfrm>
            <a:custGeom>
              <a:avLst/>
              <a:gdLst/>
              <a:ahLst/>
              <a:rect l="l" t="t" r="r" b="b"/>
              <a:pathLst>
                <a:path w="572" h="384">
                  <a:moveTo>
                    <a:pt x="286" y="384"/>
                  </a:moveTo>
                  <a:lnTo>
                    <a:pt x="0" y="0"/>
                  </a:lnTo>
                  <a:lnTo>
                    <a:pt x="572" y="0"/>
                  </a:lnTo>
                  <a:lnTo>
                    <a:pt x="286" y="38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554200" y="2293920"/>
              <a:ext cx="1800" cy="144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1589040" y="2255760"/>
              <a:ext cx="150840" cy="101520"/>
            </a:xfrm>
            <a:custGeom>
              <a:avLst/>
              <a:gdLst/>
              <a:ahLst/>
              <a:rect l="l" t="t" r="r" b="b"/>
              <a:pathLst>
                <a:path w="573" h="383">
                  <a:moveTo>
                    <a:pt x="286" y="383"/>
                  </a:moveTo>
                  <a:lnTo>
                    <a:pt x="0" y="0"/>
                  </a:lnTo>
                  <a:lnTo>
                    <a:pt x="573" y="0"/>
                  </a:lnTo>
                  <a:lnTo>
                    <a:pt x="286" y="38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1663560" y="2289240"/>
              <a:ext cx="1800" cy="1440"/>
            </a:xfrm>
            <a:prstGeom prst="line">
              <a:avLst/>
            </a:prstGeom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832880" y="2205000"/>
              <a:ext cx="114120" cy="101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V="1">
              <a:off x="7832880" y="2205000"/>
              <a:ext cx="114120" cy="101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943680" y="2205000"/>
              <a:ext cx="112680" cy="101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V="1">
              <a:off x="6943680" y="2205000"/>
              <a:ext cx="112680" cy="101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054840" y="2205000"/>
              <a:ext cx="112680" cy="101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V="1">
              <a:off x="6054840" y="2205000"/>
              <a:ext cx="112680" cy="101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5164200" y="2205000"/>
              <a:ext cx="114120" cy="101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V="1">
              <a:off x="5164200" y="2205000"/>
              <a:ext cx="114120" cy="101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275000" y="2151000"/>
              <a:ext cx="114480" cy="101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V="1">
              <a:off x="4275000" y="2151000"/>
              <a:ext cx="114480" cy="101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386160" y="2151000"/>
              <a:ext cx="114120" cy="101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V="1">
              <a:off x="3386160" y="2151000"/>
              <a:ext cx="114120" cy="101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496960" y="2151000"/>
              <a:ext cx="114480" cy="101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V="1">
              <a:off x="2496960" y="2151000"/>
              <a:ext cx="114480" cy="101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1608120" y="2151000"/>
              <a:ext cx="112680" cy="101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1608120" y="2151000"/>
              <a:ext cx="112680" cy="101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154240" y="4486320"/>
              <a:ext cx="357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BA</a:t>
              </a:r>
              <a:endParaRPr b="0" lang="en-US" sz="13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2732040" y="4578480"/>
              <a:ext cx="4302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663560" y="2289240"/>
              <a:ext cx="6226200" cy="201600"/>
            </a:xfrm>
            <a:custGeom>
              <a:avLst/>
              <a:gdLst/>
              <a:ahLst/>
              <a:rect l="l" t="t" r="r" b="b"/>
              <a:pathLst>
                <a:path w="23529" h="765">
                  <a:moveTo>
                    <a:pt x="23529" y="765"/>
                  </a:moveTo>
                  <a:lnTo>
                    <a:pt x="23529" y="765"/>
                  </a:lnTo>
                  <a:lnTo>
                    <a:pt x="20167" y="765"/>
                  </a:lnTo>
                  <a:lnTo>
                    <a:pt x="16806" y="21"/>
                  </a:lnTo>
                  <a:lnTo>
                    <a:pt x="13444" y="21"/>
                  </a:lnTo>
                  <a:lnTo>
                    <a:pt x="10085" y="21"/>
                  </a:lnTo>
                  <a:lnTo>
                    <a:pt x="6723" y="21"/>
                  </a:lnTo>
                  <a:lnTo>
                    <a:pt x="3362" y="2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1663560" y="2289240"/>
              <a:ext cx="6226200" cy="201600"/>
            </a:xfrm>
            <a:custGeom>
              <a:avLst/>
              <a:gdLst/>
              <a:ahLst/>
              <a:rect l="l" t="t" r="r" b="b"/>
              <a:pathLst>
                <a:path w="23529" h="765">
                  <a:moveTo>
                    <a:pt x="23529" y="765"/>
                  </a:moveTo>
                  <a:lnTo>
                    <a:pt x="23529" y="765"/>
                  </a:lnTo>
                  <a:lnTo>
                    <a:pt x="20167" y="765"/>
                  </a:lnTo>
                  <a:lnTo>
                    <a:pt x="16806" y="21"/>
                  </a:lnTo>
                  <a:lnTo>
                    <a:pt x="13444" y="21"/>
                  </a:lnTo>
                  <a:lnTo>
                    <a:pt x="10085" y="21"/>
                  </a:lnTo>
                  <a:lnTo>
                    <a:pt x="6723" y="21"/>
                  </a:lnTo>
                  <a:lnTo>
                    <a:pt x="3362" y="2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813800" y="2457360"/>
              <a:ext cx="152280" cy="101520"/>
            </a:xfrm>
            <a:custGeom>
              <a:avLst/>
              <a:gdLst/>
              <a:ahLst/>
              <a:rect l="l" t="t" r="r" b="b"/>
              <a:pathLst>
                <a:path w="572" h="383">
                  <a:moveTo>
                    <a:pt x="286" y="383"/>
                  </a:moveTo>
                  <a:lnTo>
                    <a:pt x="0" y="0"/>
                  </a:lnTo>
                  <a:lnTo>
                    <a:pt x="572" y="0"/>
                  </a:lnTo>
                  <a:lnTo>
                    <a:pt x="286" y="38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889760" y="2490840"/>
              <a:ext cx="18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6924600" y="2457360"/>
              <a:ext cx="150840" cy="101520"/>
            </a:xfrm>
            <a:custGeom>
              <a:avLst/>
              <a:gdLst/>
              <a:ahLst/>
              <a:rect l="l" t="t" r="r" b="b"/>
              <a:pathLst>
                <a:path w="572" h="383">
                  <a:moveTo>
                    <a:pt x="286" y="383"/>
                  </a:moveTo>
                  <a:lnTo>
                    <a:pt x="0" y="0"/>
                  </a:lnTo>
                  <a:lnTo>
                    <a:pt x="572" y="0"/>
                  </a:lnTo>
                  <a:lnTo>
                    <a:pt x="286" y="38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000920" y="2490840"/>
              <a:ext cx="14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035760" y="2260440"/>
              <a:ext cx="150840" cy="101880"/>
            </a:xfrm>
            <a:custGeom>
              <a:avLst/>
              <a:gdLst/>
              <a:ahLst/>
              <a:rect l="l" t="t" r="r" b="b"/>
              <a:pathLst>
                <a:path w="572" h="384">
                  <a:moveTo>
                    <a:pt x="286" y="384"/>
                  </a:moveTo>
                  <a:lnTo>
                    <a:pt x="0" y="0"/>
                  </a:lnTo>
                  <a:lnTo>
                    <a:pt x="572" y="0"/>
                  </a:lnTo>
                  <a:lnTo>
                    <a:pt x="286" y="38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110280" y="2293920"/>
              <a:ext cx="14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145120" y="2260440"/>
              <a:ext cx="152280" cy="101880"/>
            </a:xfrm>
            <a:custGeom>
              <a:avLst/>
              <a:gdLst/>
              <a:ahLst/>
              <a:rect l="l" t="t" r="r" b="b"/>
              <a:pathLst>
                <a:path w="573" h="384">
                  <a:moveTo>
                    <a:pt x="286" y="384"/>
                  </a:moveTo>
                  <a:lnTo>
                    <a:pt x="0" y="0"/>
                  </a:lnTo>
                  <a:lnTo>
                    <a:pt x="573" y="0"/>
                  </a:lnTo>
                  <a:lnTo>
                    <a:pt x="286" y="38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5221440" y="2293920"/>
              <a:ext cx="14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255920" y="2260440"/>
              <a:ext cx="152640" cy="101880"/>
            </a:xfrm>
            <a:custGeom>
              <a:avLst/>
              <a:gdLst/>
              <a:ahLst/>
              <a:rect l="l" t="t" r="r" b="b"/>
              <a:pathLst>
                <a:path w="572" h="384">
                  <a:moveTo>
                    <a:pt x="286" y="384"/>
                  </a:moveTo>
                  <a:lnTo>
                    <a:pt x="0" y="0"/>
                  </a:lnTo>
                  <a:lnTo>
                    <a:pt x="572" y="0"/>
                  </a:lnTo>
                  <a:lnTo>
                    <a:pt x="286" y="38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332240" y="2293920"/>
              <a:ext cx="18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367080" y="2260440"/>
              <a:ext cx="152280" cy="101880"/>
            </a:xfrm>
            <a:custGeom>
              <a:avLst/>
              <a:gdLst/>
              <a:ahLst/>
              <a:rect l="l" t="t" r="r" b="b"/>
              <a:pathLst>
                <a:path w="572" h="384">
                  <a:moveTo>
                    <a:pt x="286" y="384"/>
                  </a:moveTo>
                  <a:lnTo>
                    <a:pt x="0" y="0"/>
                  </a:lnTo>
                  <a:lnTo>
                    <a:pt x="572" y="0"/>
                  </a:lnTo>
                  <a:lnTo>
                    <a:pt x="286" y="38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443400" y="2293920"/>
              <a:ext cx="14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478240" y="2260440"/>
              <a:ext cx="150840" cy="101880"/>
            </a:xfrm>
            <a:custGeom>
              <a:avLst/>
              <a:gdLst/>
              <a:ahLst/>
              <a:rect l="l" t="t" r="r" b="b"/>
              <a:pathLst>
                <a:path w="572" h="384">
                  <a:moveTo>
                    <a:pt x="286" y="384"/>
                  </a:moveTo>
                  <a:lnTo>
                    <a:pt x="0" y="0"/>
                  </a:lnTo>
                  <a:lnTo>
                    <a:pt x="572" y="0"/>
                  </a:lnTo>
                  <a:lnTo>
                    <a:pt x="286" y="38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554200" y="2293920"/>
              <a:ext cx="18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1589040" y="2255760"/>
              <a:ext cx="150840" cy="101520"/>
            </a:xfrm>
            <a:custGeom>
              <a:avLst/>
              <a:gdLst/>
              <a:ahLst/>
              <a:rect l="l" t="t" r="r" b="b"/>
              <a:pathLst>
                <a:path w="573" h="383">
                  <a:moveTo>
                    <a:pt x="286" y="383"/>
                  </a:moveTo>
                  <a:lnTo>
                    <a:pt x="0" y="0"/>
                  </a:lnTo>
                  <a:lnTo>
                    <a:pt x="573" y="0"/>
                  </a:lnTo>
                  <a:lnTo>
                    <a:pt x="286" y="38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1663560" y="2289240"/>
              <a:ext cx="18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1663560" y="2266920"/>
              <a:ext cx="6226200" cy="727200"/>
            </a:xfrm>
            <a:custGeom>
              <a:avLst/>
              <a:gdLst/>
              <a:ahLst/>
              <a:rect l="l" t="t" r="r" b="b"/>
              <a:pathLst>
                <a:path w="23529" h="2749">
                  <a:moveTo>
                    <a:pt x="23529" y="2686"/>
                  </a:moveTo>
                  <a:lnTo>
                    <a:pt x="23529" y="2686"/>
                  </a:lnTo>
                  <a:lnTo>
                    <a:pt x="20167" y="2749"/>
                  </a:lnTo>
                  <a:lnTo>
                    <a:pt x="16806" y="537"/>
                  </a:lnTo>
                  <a:lnTo>
                    <a:pt x="13444" y="0"/>
                  </a:lnTo>
                  <a:lnTo>
                    <a:pt x="10085" y="0"/>
                  </a:lnTo>
                  <a:lnTo>
                    <a:pt x="6723" y="0"/>
                  </a:lnTo>
                  <a:lnTo>
                    <a:pt x="3362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832880" y="2927520"/>
              <a:ext cx="114120" cy="101520"/>
            </a:xfrm>
            <a:prstGeom prst="rect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889760" y="2978280"/>
              <a:ext cx="18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943680" y="2943360"/>
              <a:ext cx="112680" cy="101520"/>
            </a:xfrm>
            <a:prstGeom prst="rect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000920" y="2994120"/>
              <a:ext cx="14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054840" y="2359080"/>
              <a:ext cx="112680" cy="101520"/>
            </a:xfrm>
            <a:prstGeom prst="rect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110280" y="2409840"/>
              <a:ext cx="14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164200" y="2216160"/>
              <a:ext cx="114120" cy="101520"/>
            </a:xfrm>
            <a:prstGeom prst="rect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221440" y="2266920"/>
              <a:ext cx="14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4275000" y="2216160"/>
              <a:ext cx="114480" cy="101520"/>
            </a:xfrm>
            <a:prstGeom prst="rect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332240" y="2266920"/>
              <a:ext cx="18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386160" y="2216160"/>
              <a:ext cx="114120" cy="101520"/>
            </a:xfrm>
            <a:prstGeom prst="rect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443400" y="2266920"/>
              <a:ext cx="14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496960" y="2216160"/>
              <a:ext cx="113040" cy="101520"/>
            </a:xfrm>
            <a:prstGeom prst="rect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554200" y="2266920"/>
              <a:ext cx="18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608120" y="2216160"/>
              <a:ext cx="112680" cy="101520"/>
            </a:xfrm>
            <a:prstGeom prst="rect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663560" y="2266920"/>
              <a:ext cx="18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663560" y="2201760"/>
              <a:ext cx="6226200" cy="54000"/>
            </a:xfrm>
            <a:custGeom>
              <a:avLst/>
              <a:gdLst/>
              <a:ahLst/>
              <a:rect l="l" t="t" r="r" b="b"/>
              <a:pathLst>
                <a:path w="23529" h="206">
                  <a:moveTo>
                    <a:pt x="23529" y="206"/>
                  </a:moveTo>
                  <a:lnTo>
                    <a:pt x="23529" y="206"/>
                  </a:lnTo>
                  <a:lnTo>
                    <a:pt x="20167" y="206"/>
                  </a:lnTo>
                  <a:lnTo>
                    <a:pt x="16806" y="206"/>
                  </a:lnTo>
                  <a:lnTo>
                    <a:pt x="13444" y="206"/>
                  </a:lnTo>
                  <a:lnTo>
                    <a:pt x="10085" y="0"/>
                  </a:lnTo>
                  <a:lnTo>
                    <a:pt x="6723" y="0"/>
                  </a:lnTo>
                  <a:lnTo>
                    <a:pt x="3362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832880" y="2205000"/>
              <a:ext cx="114120" cy="101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V="1">
              <a:off x="7832880" y="2205000"/>
              <a:ext cx="114120" cy="101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943680" y="2205000"/>
              <a:ext cx="112680" cy="101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V="1">
              <a:off x="6943680" y="2205000"/>
              <a:ext cx="112680" cy="101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054840" y="2205000"/>
              <a:ext cx="112680" cy="101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V="1">
              <a:off x="6054840" y="2205000"/>
              <a:ext cx="112680" cy="101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164200" y="2205000"/>
              <a:ext cx="114120" cy="101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V="1">
              <a:off x="5164200" y="2205000"/>
              <a:ext cx="114120" cy="101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275000" y="2151000"/>
              <a:ext cx="114480" cy="101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V="1">
              <a:off x="4275000" y="2151000"/>
              <a:ext cx="114480" cy="101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386160" y="2151000"/>
              <a:ext cx="114120" cy="101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V="1">
              <a:off x="3386160" y="2151000"/>
              <a:ext cx="114120" cy="101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496960" y="2151000"/>
              <a:ext cx="114480" cy="101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V="1">
              <a:off x="2496960" y="2151000"/>
              <a:ext cx="114480" cy="101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608120" y="2151000"/>
              <a:ext cx="112680" cy="101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V="1">
              <a:off x="1608120" y="2151000"/>
              <a:ext cx="112680" cy="101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656" name=""/>
          <p:cNvSpPr/>
          <p:nvPr/>
        </p:nvSpPr>
        <p:spPr>
          <a:xfrm>
            <a:off x="1663560" y="3651120"/>
            <a:ext cx="6226200" cy="617760"/>
          </a:xfrm>
          <a:custGeom>
            <a:avLst/>
            <a:gdLst/>
            <a:ahLst/>
            <a:rect l="l" t="t" r="r" b="b"/>
            <a:pathLst>
              <a:path w="23529" h="2335">
                <a:moveTo>
                  <a:pt x="23529" y="2335"/>
                </a:moveTo>
                <a:lnTo>
                  <a:pt x="23529" y="2335"/>
                </a:lnTo>
                <a:lnTo>
                  <a:pt x="20167" y="1716"/>
                </a:lnTo>
                <a:lnTo>
                  <a:pt x="16806" y="1345"/>
                </a:lnTo>
                <a:lnTo>
                  <a:pt x="13444" y="1035"/>
                </a:lnTo>
                <a:lnTo>
                  <a:pt x="10085" y="724"/>
                </a:lnTo>
                <a:lnTo>
                  <a:pt x="6723" y="435"/>
                </a:lnTo>
                <a:lnTo>
                  <a:pt x="3362" y="24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7832880" y="4218120"/>
            <a:ext cx="114120" cy="10152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 flipV="1">
            <a:off x="7832880" y="4218120"/>
            <a:ext cx="114120" cy="10152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943680" y="4054320"/>
            <a:ext cx="112680" cy="10188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 flipV="1">
            <a:off x="6943680" y="4053960"/>
            <a:ext cx="112680" cy="10188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6054840" y="3956040"/>
            <a:ext cx="112680" cy="10152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flipV="1">
            <a:off x="6054840" y="3956040"/>
            <a:ext cx="112680" cy="10152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5164200" y="3873600"/>
            <a:ext cx="114120" cy="10152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 flipV="1">
            <a:off x="5164200" y="3873600"/>
            <a:ext cx="114120" cy="10152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4275000" y="3790800"/>
            <a:ext cx="114480" cy="10332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 flipV="1">
            <a:off x="4275000" y="3790440"/>
            <a:ext cx="114480" cy="10188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3386160" y="3714840"/>
            <a:ext cx="114120" cy="10152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3386160" y="3714840"/>
            <a:ext cx="114120" cy="10152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496960" y="3665520"/>
            <a:ext cx="114480" cy="10152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 flipV="1">
            <a:off x="2496960" y="3665520"/>
            <a:ext cx="114480" cy="10152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608120" y="3600360"/>
            <a:ext cx="112680" cy="10152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 flipV="1">
            <a:off x="1608120" y="3600360"/>
            <a:ext cx="112680" cy="10152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673" name=""/>
          <p:cNvGrpSpPr/>
          <p:nvPr/>
        </p:nvGrpSpPr>
        <p:grpSpPr>
          <a:xfrm>
            <a:off x="1589040" y="4875120"/>
            <a:ext cx="6377040" cy="1128960"/>
            <a:chOff x="1589040" y="4875120"/>
            <a:chExt cx="6377040" cy="1128960"/>
          </a:xfrm>
        </p:grpSpPr>
        <p:sp>
          <p:nvSpPr>
            <p:cNvPr id="1674" name=""/>
            <p:cNvSpPr/>
            <p:nvPr/>
          </p:nvSpPr>
          <p:spPr>
            <a:xfrm>
              <a:off x="2131920" y="4876920"/>
              <a:ext cx="13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endParaRPr b="0" lang="en-US" sz="13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675" name=""/>
            <p:cNvGrpSpPr/>
            <p:nvPr/>
          </p:nvGrpSpPr>
          <p:grpSpPr>
            <a:xfrm>
              <a:off x="1589040" y="4875120"/>
              <a:ext cx="6377040" cy="1128960"/>
              <a:chOff x="1589040" y="4875120"/>
              <a:chExt cx="6377040" cy="1128960"/>
            </a:xfrm>
          </p:grpSpPr>
          <p:sp>
            <p:nvSpPr>
              <p:cNvPr id="1676" name=""/>
              <p:cNvSpPr/>
              <p:nvPr/>
            </p:nvSpPr>
            <p:spPr>
              <a:xfrm>
                <a:off x="2127960" y="4875120"/>
                <a:ext cx="435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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=1</a:t>
                </a:r>
                <a:endParaRPr b="0" lang="en-US" sz="13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2732040" y="4967280"/>
                <a:ext cx="430200" cy="144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1663560" y="5827680"/>
                <a:ext cx="6226200" cy="1800"/>
              </a:xfrm>
              <a:custGeom>
                <a:avLst/>
                <a:gdLst/>
                <a:ahLst/>
                <a:rect l="l" t="t" r="r" b="b"/>
                <a:pathLst>
                  <a:path w="23529" h="0">
                    <a:moveTo>
                      <a:pt x="23529" y="0"/>
                    </a:moveTo>
                    <a:lnTo>
                      <a:pt x="23529" y="0"/>
                    </a:lnTo>
                    <a:lnTo>
                      <a:pt x="20167" y="0"/>
                    </a:lnTo>
                    <a:lnTo>
                      <a:pt x="16806" y="0"/>
                    </a:lnTo>
                    <a:lnTo>
                      <a:pt x="13444" y="0"/>
                    </a:lnTo>
                    <a:lnTo>
                      <a:pt x="10085" y="0"/>
                    </a:lnTo>
                    <a:lnTo>
                      <a:pt x="6723" y="0"/>
                    </a:lnTo>
                    <a:lnTo>
                      <a:pt x="336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663560" y="5827680"/>
                <a:ext cx="6226200" cy="1800"/>
              </a:xfrm>
              <a:custGeom>
                <a:avLst/>
                <a:gdLst/>
                <a:ahLst/>
                <a:rect l="l" t="t" r="r" b="b"/>
                <a:pathLst>
                  <a:path w="23529" h="0">
                    <a:moveTo>
                      <a:pt x="23529" y="0"/>
                    </a:moveTo>
                    <a:lnTo>
                      <a:pt x="23529" y="0"/>
                    </a:lnTo>
                    <a:lnTo>
                      <a:pt x="20167" y="0"/>
                    </a:lnTo>
                    <a:lnTo>
                      <a:pt x="16806" y="0"/>
                    </a:lnTo>
                    <a:lnTo>
                      <a:pt x="13444" y="0"/>
                    </a:lnTo>
                    <a:lnTo>
                      <a:pt x="10085" y="0"/>
                    </a:lnTo>
                    <a:lnTo>
                      <a:pt x="6723" y="0"/>
                    </a:lnTo>
                    <a:lnTo>
                      <a:pt x="336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7813800" y="5794200"/>
                <a:ext cx="152280" cy="100080"/>
              </a:xfrm>
              <a:custGeom>
                <a:avLst/>
                <a:gdLst/>
                <a:ahLst/>
                <a:rect l="l" t="t" r="r" b="b"/>
                <a:pathLst>
                  <a:path w="572" h="384">
                    <a:moveTo>
                      <a:pt x="286" y="384"/>
                    </a:moveTo>
                    <a:lnTo>
                      <a:pt x="0" y="0"/>
                    </a:lnTo>
                    <a:lnTo>
                      <a:pt x="572" y="0"/>
                    </a:lnTo>
                    <a:lnTo>
                      <a:pt x="286" y="384"/>
                    </a:lnTo>
                  </a:path>
                </a:pathLst>
              </a:custGeom>
              <a:noFill/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7889760" y="5827680"/>
                <a:ext cx="1800" cy="180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6924600" y="5794200"/>
                <a:ext cx="150840" cy="100080"/>
              </a:xfrm>
              <a:custGeom>
                <a:avLst/>
                <a:gdLst/>
                <a:ahLst/>
                <a:rect l="l" t="t" r="r" b="b"/>
                <a:pathLst>
                  <a:path w="572" h="384">
                    <a:moveTo>
                      <a:pt x="286" y="384"/>
                    </a:moveTo>
                    <a:lnTo>
                      <a:pt x="0" y="0"/>
                    </a:lnTo>
                    <a:lnTo>
                      <a:pt x="572" y="0"/>
                    </a:lnTo>
                    <a:lnTo>
                      <a:pt x="286" y="384"/>
                    </a:lnTo>
                  </a:path>
                </a:pathLst>
              </a:custGeom>
              <a:noFill/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7000920" y="5827680"/>
                <a:ext cx="1440" cy="180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6035760" y="5794200"/>
                <a:ext cx="150840" cy="100080"/>
              </a:xfrm>
              <a:custGeom>
                <a:avLst/>
                <a:gdLst/>
                <a:ahLst/>
                <a:rect l="l" t="t" r="r" b="b"/>
                <a:pathLst>
                  <a:path w="572" h="384">
                    <a:moveTo>
                      <a:pt x="286" y="384"/>
                    </a:moveTo>
                    <a:lnTo>
                      <a:pt x="0" y="0"/>
                    </a:lnTo>
                    <a:lnTo>
                      <a:pt x="572" y="0"/>
                    </a:lnTo>
                    <a:lnTo>
                      <a:pt x="286" y="384"/>
                    </a:lnTo>
                  </a:path>
                </a:pathLst>
              </a:custGeom>
              <a:noFill/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6110280" y="5827680"/>
                <a:ext cx="1440" cy="180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145120" y="5794200"/>
                <a:ext cx="152280" cy="100080"/>
              </a:xfrm>
              <a:custGeom>
                <a:avLst/>
                <a:gdLst/>
                <a:ahLst/>
                <a:rect l="l" t="t" r="r" b="b"/>
                <a:pathLst>
                  <a:path w="573" h="384">
                    <a:moveTo>
                      <a:pt x="286" y="384"/>
                    </a:moveTo>
                    <a:lnTo>
                      <a:pt x="0" y="0"/>
                    </a:lnTo>
                    <a:lnTo>
                      <a:pt x="573" y="0"/>
                    </a:lnTo>
                    <a:lnTo>
                      <a:pt x="286" y="384"/>
                    </a:lnTo>
                  </a:path>
                </a:pathLst>
              </a:custGeom>
              <a:noFill/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5221440" y="5827680"/>
                <a:ext cx="1440" cy="180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4255920" y="5794200"/>
                <a:ext cx="152640" cy="100080"/>
              </a:xfrm>
              <a:custGeom>
                <a:avLst/>
                <a:gdLst/>
                <a:ahLst/>
                <a:rect l="l" t="t" r="r" b="b"/>
                <a:pathLst>
                  <a:path w="572" h="384">
                    <a:moveTo>
                      <a:pt x="286" y="384"/>
                    </a:moveTo>
                    <a:lnTo>
                      <a:pt x="0" y="0"/>
                    </a:lnTo>
                    <a:lnTo>
                      <a:pt x="572" y="0"/>
                    </a:lnTo>
                    <a:lnTo>
                      <a:pt x="286" y="384"/>
                    </a:lnTo>
                  </a:path>
                </a:pathLst>
              </a:custGeom>
              <a:noFill/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4332240" y="5827680"/>
                <a:ext cx="1800" cy="180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367080" y="5794200"/>
                <a:ext cx="152280" cy="100080"/>
              </a:xfrm>
              <a:custGeom>
                <a:avLst/>
                <a:gdLst/>
                <a:ahLst/>
                <a:rect l="l" t="t" r="r" b="b"/>
                <a:pathLst>
                  <a:path w="572" h="384">
                    <a:moveTo>
                      <a:pt x="286" y="384"/>
                    </a:moveTo>
                    <a:lnTo>
                      <a:pt x="0" y="0"/>
                    </a:lnTo>
                    <a:lnTo>
                      <a:pt x="572" y="0"/>
                    </a:lnTo>
                    <a:lnTo>
                      <a:pt x="286" y="384"/>
                    </a:lnTo>
                  </a:path>
                </a:pathLst>
              </a:custGeom>
              <a:noFill/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3443400" y="5827680"/>
                <a:ext cx="1440" cy="180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2478240" y="5794200"/>
                <a:ext cx="150840" cy="100080"/>
              </a:xfrm>
              <a:custGeom>
                <a:avLst/>
                <a:gdLst/>
                <a:ahLst/>
                <a:rect l="l" t="t" r="r" b="b"/>
                <a:pathLst>
                  <a:path w="572" h="384">
                    <a:moveTo>
                      <a:pt x="286" y="384"/>
                    </a:moveTo>
                    <a:lnTo>
                      <a:pt x="0" y="0"/>
                    </a:lnTo>
                    <a:lnTo>
                      <a:pt x="572" y="0"/>
                    </a:lnTo>
                    <a:lnTo>
                      <a:pt x="286" y="384"/>
                    </a:lnTo>
                  </a:path>
                </a:pathLst>
              </a:custGeom>
              <a:noFill/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2554200" y="5827680"/>
                <a:ext cx="1800" cy="180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1589040" y="5794200"/>
                <a:ext cx="150840" cy="100080"/>
              </a:xfrm>
              <a:custGeom>
                <a:avLst/>
                <a:gdLst/>
                <a:ahLst/>
                <a:rect l="l" t="t" r="r" b="b"/>
                <a:pathLst>
                  <a:path w="573" h="384">
                    <a:moveTo>
                      <a:pt x="286" y="384"/>
                    </a:moveTo>
                    <a:lnTo>
                      <a:pt x="0" y="0"/>
                    </a:lnTo>
                    <a:lnTo>
                      <a:pt x="573" y="0"/>
                    </a:lnTo>
                    <a:lnTo>
                      <a:pt x="286" y="384"/>
                    </a:lnTo>
                  </a:path>
                </a:pathLst>
              </a:custGeom>
              <a:noFill/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1663560" y="5827680"/>
                <a:ext cx="1800" cy="180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1663560" y="5952960"/>
                <a:ext cx="6226200" cy="1800"/>
              </a:xfrm>
              <a:custGeom>
                <a:avLst/>
                <a:gdLst/>
                <a:ahLst/>
                <a:rect l="l" t="t" r="r" b="b"/>
                <a:pathLst>
                  <a:path w="23529" h="0">
                    <a:moveTo>
                      <a:pt x="23529" y="0"/>
                    </a:moveTo>
                    <a:lnTo>
                      <a:pt x="23529" y="0"/>
                    </a:lnTo>
                    <a:lnTo>
                      <a:pt x="20167" y="0"/>
                    </a:lnTo>
                    <a:lnTo>
                      <a:pt x="16806" y="0"/>
                    </a:lnTo>
                    <a:lnTo>
                      <a:pt x="13444" y="0"/>
                    </a:lnTo>
                    <a:lnTo>
                      <a:pt x="10085" y="0"/>
                    </a:lnTo>
                    <a:lnTo>
                      <a:pt x="6723" y="0"/>
                    </a:lnTo>
                    <a:lnTo>
                      <a:pt x="336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7832880" y="5902200"/>
                <a:ext cx="114120" cy="101880"/>
              </a:xfrm>
              <a:prstGeom prst="rect">
                <a:avLst/>
              </a:prstGeom>
              <a:noFill/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7889760" y="5952960"/>
                <a:ext cx="1800" cy="180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6943680" y="5902200"/>
                <a:ext cx="112680" cy="101880"/>
              </a:xfrm>
              <a:prstGeom prst="rect">
                <a:avLst/>
              </a:prstGeom>
              <a:noFill/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7000920" y="5952960"/>
                <a:ext cx="1440" cy="180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6054840" y="5902200"/>
                <a:ext cx="112680" cy="101880"/>
              </a:xfrm>
              <a:prstGeom prst="rect">
                <a:avLst/>
              </a:prstGeom>
              <a:noFill/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6110280" y="5952960"/>
                <a:ext cx="1440" cy="180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5164200" y="5902200"/>
                <a:ext cx="114120" cy="101880"/>
              </a:xfrm>
              <a:prstGeom prst="rect">
                <a:avLst/>
              </a:prstGeom>
              <a:noFill/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5221440" y="5952960"/>
                <a:ext cx="1440" cy="180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4275000" y="5902200"/>
                <a:ext cx="114480" cy="101880"/>
              </a:xfrm>
              <a:prstGeom prst="rect">
                <a:avLst/>
              </a:prstGeom>
              <a:noFill/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4332240" y="5952960"/>
                <a:ext cx="1800" cy="180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3386160" y="5902200"/>
                <a:ext cx="114120" cy="101880"/>
              </a:xfrm>
              <a:prstGeom prst="rect">
                <a:avLst/>
              </a:prstGeom>
              <a:noFill/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443400" y="5952960"/>
                <a:ext cx="1440" cy="180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2496960" y="5902200"/>
                <a:ext cx="113040" cy="101880"/>
              </a:xfrm>
              <a:prstGeom prst="rect">
                <a:avLst/>
              </a:prstGeom>
              <a:noFill/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554200" y="5952960"/>
                <a:ext cx="1800" cy="180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1608120" y="5902200"/>
                <a:ext cx="112680" cy="101880"/>
              </a:xfrm>
              <a:prstGeom prst="rect">
                <a:avLst/>
              </a:prstGeom>
              <a:noFill/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1663560" y="5952960"/>
                <a:ext cx="1800" cy="180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1663560" y="5548320"/>
                <a:ext cx="6226200" cy="1440"/>
              </a:xfrm>
              <a:custGeom>
                <a:avLst/>
                <a:gdLst/>
                <a:ahLst/>
                <a:rect l="l" t="t" r="r" b="b"/>
                <a:pathLst>
                  <a:path w="23529" h="0">
                    <a:moveTo>
                      <a:pt x="23529" y="0"/>
                    </a:moveTo>
                    <a:lnTo>
                      <a:pt x="23529" y="0"/>
                    </a:lnTo>
                    <a:lnTo>
                      <a:pt x="20167" y="0"/>
                    </a:lnTo>
                    <a:lnTo>
                      <a:pt x="16806" y="0"/>
                    </a:lnTo>
                    <a:lnTo>
                      <a:pt x="13444" y="0"/>
                    </a:lnTo>
                    <a:lnTo>
                      <a:pt x="10085" y="0"/>
                    </a:lnTo>
                    <a:lnTo>
                      <a:pt x="6723" y="0"/>
                    </a:lnTo>
                    <a:lnTo>
                      <a:pt x="336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7832880" y="5497560"/>
                <a:ext cx="114120" cy="10152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flipV="1">
                <a:off x="7832880" y="5497560"/>
                <a:ext cx="114120" cy="10152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943680" y="5497560"/>
                <a:ext cx="112680" cy="10152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flipV="1">
                <a:off x="6943680" y="5497560"/>
                <a:ext cx="112680" cy="10152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6054840" y="5497560"/>
                <a:ext cx="112680" cy="10152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 flipV="1">
                <a:off x="6054840" y="5497560"/>
                <a:ext cx="112680" cy="10152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5164200" y="5497560"/>
                <a:ext cx="114120" cy="10152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V="1">
                <a:off x="5164200" y="5497560"/>
                <a:ext cx="114120" cy="10152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4275000" y="5497560"/>
                <a:ext cx="114480" cy="10152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flipV="1">
                <a:off x="4275000" y="5497560"/>
                <a:ext cx="114480" cy="10152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3386160" y="5497560"/>
                <a:ext cx="114120" cy="10152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V="1">
                <a:off x="3386160" y="5497560"/>
                <a:ext cx="114120" cy="10152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2496960" y="5497560"/>
                <a:ext cx="114480" cy="10152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 flipV="1">
                <a:off x="2496960" y="5497560"/>
                <a:ext cx="114480" cy="10152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1608120" y="5497560"/>
                <a:ext cx="112680" cy="10152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 flipV="1">
                <a:off x="1608120" y="5497560"/>
                <a:ext cx="112680" cy="10152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30" name=""/>
          <p:cNvSpPr/>
          <p:nvPr/>
        </p:nvSpPr>
        <p:spPr>
          <a:xfrm>
            <a:off x="8152200" y="5943600"/>
            <a:ext cx="4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Symbol"/>
                <a:ea typeface="Symbol"/>
              </a:rPr>
              <a:t>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744120" y="3300480"/>
            <a:ext cx="53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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32F8-5AAA-4B69-BEB9-ED527202EEE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e defined a probabilistic methodology to determine if a SLA scenario is admissib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mple, efficien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o not require the user to specify its possible traffic profi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orst case guarante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an be used in real time as SLA-A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plementable in a centralized fash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quires knowledge of the current status of SLAs and path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D164-335F-40A2-8E03-4BFA890E1D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oisson traffic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5" name=""/>
          <p:cNvSpPr/>
          <p:nvPr/>
        </p:nvSpPr>
        <p:spPr>
          <a:xfrm>
            <a:off x="1639800" y="59706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H="1">
            <a:off x="7843680" y="59706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1359000" y="58784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1639800" y="559764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 flipH="1">
            <a:off x="7843680" y="559764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1104120" y="550548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1639800" y="522432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 flipH="1">
            <a:off x="7843680" y="522432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1104120" y="513252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02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1639800" y="485136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 flipH="1">
            <a:off x="7843680" y="485136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1104120" y="475920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03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1639800" y="44784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 flipH="1">
            <a:off x="7843680" y="44784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1104120" y="438624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04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1639800" y="410544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flipH="1">
            <a:off x="7843680" y="410544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1104120" y="401328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05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1639800" y="373212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flipH="1">
            <a:off x="7843680" y="373212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1104120" y="363996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06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1639800" y="33591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 flipH="1">
            <a:off x="7843680" y="335916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1104120" y="326880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07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1639800" y="29862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 flipH="1">
            <a:off x="7843680" y="29862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104120" y="289548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08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1639800" y="261468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 flipH="1">
            <a:off x="7843680" y="261468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1104120" y="252252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09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1639800" y="22417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 flipH="1">
            <a:off x="7843680" y="22417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1205280" y="214956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1639800" y="186840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H="1">
            <a:off x="7843680" y="186840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1104120" y="177624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11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 flipV="1">
            <a:off x="1639800" y="592884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1639800" y="186840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1547640" y="60721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 flipV="1">
            <a:off x="2298600" y="592884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2298600" y="186840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2156040" y="60721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 flipV="1">
            <a:off x="2955960" y="59288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2955960" y="186840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2813400" y="60721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 flipV="1">
            <a:off x="3613320" y="59288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3613320" y="186840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3470400" y="60721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 flipV="1">
            <a:off x="4272120" y="59288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4272120" y="186840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4129200" y="60721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 flipV="1">
            <a:off x="4929120" y="592884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4929120" y="186840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4786560" y="60721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 flipV="1">
            <a:off x="5586480" y="59288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5586480" y="186840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5443560" y="60721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 flipV="1">
            <a:off x="6245280" y="59288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245280" y="186840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6102720" y="60721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 flipV="1">
            <a:off x="6902280" y="592884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6902280" y="186840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759720" y="60721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 flipV="1">
            <a:off x="7561440" y="59288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7561440" y="186840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418520" y="60721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1639800" y="1868400"/>
            <a:ext cx="6249960" cy="4102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4387680" y="63644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6953040" y="1905120"/>
            <a:ext cx="1317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3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7265880" y="2006640"/>
            <a:ext cx="4302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1639800" y="2241720"/>
            <a:ext cx="6249960" cy="2778120"/>
          </a:xfrm>
          <a:custGeom>
            <a:avLst/>
            <a:gdLst/>
            <a:ahLst/>
            <a:rect l="l" t="t" r="r" b="b"/>
            <a:pathLst>
              <a:path w="23620" h="10500">
                <a:moveTo>
                  <a:pt x="0" y="0"/>
                </a:moveTo>
                <a:lnTo>
                  <a:pt x="0" y="0"/>
                </a:lnTo>
                <a:lnTo>
                  <a:pt x="249" y="0"/>
                </a:lnTo>
                <a:lnTo>
                  <a:pt x="497" y="0"/>
                </a:lnTo>
                <a:lnTo>
                  <a:pt x="746" y="1071"/>
                </a:lnTo>
                <a:lnTo>
                  <a:pt x="994" y="1071"/>
                </a:lnTo>
                <a:lnTo>
                  <a:pt x="1244" y="1071"/>
                </a:lnTo>
                <a:lnTo>
                  <a:pt x="1492" y="1549"/>
                </a:lnTo>
                <a:lnTo>
                  <a:pt x="1741" y="1549"/>
                </a:lnTo>
                <a:lnTo>
                  <a:pt x="1990" y="1549"/>
                </a:lnTo>
                <a:lnTo>
                  <a:pt x="2238" y="1608"/>
                </a:lnTo>
                <a:lnTo>
                  <a:pt x="2487" y="1608"/>
                </a:lnTo>
                <a:lnTo>
                  <a:pt x="2735" y="1608"/>
                </a:lnTo>
                <a:lnTo>
                  <a:pt x="2984" y="2529"/>
                </a:lnTo>
                <a:lnTo>
                  <a:pt x="3232" y="2529"/>
                </a:lnTo>
                <a:lnTo>
                  <a:pt x="3481" y="2529"/>
                </a:lnTo>
                <a:lnTo>
                  <a:pt x="3730" y="2668"/>
                </a:lnTo>
                <a:lnTo>
                  <a:pt x="3979" y="2668"/>
                </a:lnTo>
                <a:lnTo>
                  <a:pt x="4227" y="2668"/>
                </a:lnTo>
                <a:lnTo>
                  <a:pt x="4476" y="3527"/>
                </a:lnTo>
                <a:lnTo>
                  <a:pt x="4724" y="3527"/>
                </a:lnTo>
                <a:lnTo>
                  <a:pt x="4973" y="3527"/>
                </a:lnTo>
                <a:lnTo>
                  <a:pt x="5221" y="3869"/>
                </a:lnTo>
                <a:lnTo>
                  <a:pt x="5470" y="3869"/>
                </a:lnTo>
                <a:lnTo>
                  <a:pt x="5718" y="3869"/>
                </a:lnTo>
                <a:lnTo>
                  <a:pt x="5968" y="4399"/>
                </a:lnTo>
                <a:lnTo>
                  <a:pt x="6217" y="4399"/>
                </a:lnTo>
                <a:lnTo>
                  <a:pt x="6465" y="4399"/>
                </a:lnTo>
                <a:lnTo>
                  <a:pt x="6714" y="4713"/>
                </a:lnTo>
                <a:lnTo>
                  <a:pt x="6962" y="4713"/>
                </a:lnTo>
                <a:lnTo>
                  <a:pt x="7211" y="4713"/>
                </a:lnTo>
                <a:lnTo>
                  <a:pt x="7459" y="4776"/>
                </a:lnTo>
                <a:lnTo>
                  <a:pt x="7708" y="4776"/>
                </a:lnTo>
                <a:lnTo>
                  <a:pt x="7956" y="4776"/>
                </a:lnTo>
                <a:lnTo>
                  <a:pt x="8205" y="4885"/>
                </a:lnTo>
                <a:lnTo>
                  <a:pt x="8454" y="4885"/>
                </a:lnTo>
                <a:lnTo>
                  <a:pt x="8703" y="4885"/>
                </a:lnTo>
                <a:lnTo>
                  <a:pt x="8951" y="5721"/>
                </a:lnTo>
                <a:lnTo>
                  <a:pt x="9200" y="5721"/>
                </a:lnTo>
                <a:lnTo>
                  <a:pt x="9449" y="5721"/>
                </a:lnTo>
                <a:lnTo>
                  <a:pt x="9697" y="5861"/>
                </a:lnTo>
                <a:lnTo>
                  <a:pt x="9946" y="5861"/>
                </a:lnTo>
                <a:lnTo>
                  <a:pt x="10194" y="5861"/>
                </a:lnTo>
                <a:lnTo>
                  <a:pt x="10443" y="6045"/>
                </a:lnTo>
                <a:lnTo>
                  <a:pt x="10692" y="6045"/>
                </a:lnTo>
                <a:lnTo>
                  <a:pt x="10941" y="6045"/>
                </a:lnTo>
                <a:lnTo>
                  <a:pt x="11188" y="6509"/>
                </a:lnTo>
                <a:lnTo>
                  <a:pt x="11437" y="6509"/>
                </a:lnTo>
                <a:lnTo>
                  <a:pt x="11685" y="6509"/>
                </a:lnTo>
                <a:lnTo>
                  <a:pt x="11934" y="6646"/>
                </a:lnTo>
                <a:lnTo>
                  <a:pt x="12182" y="6646"/>
                </a:lnTo>
                <a:lnTo>
                  <a:pt x="12431" y="6646"/>
                </a:lnTo>
                <a:lnTo>
                  <a:pt x="12679" y="7557"/>
                </a:lnTo>
                <a:lnTo>
                  <a:pt x="12928" y="7557"/>
                </a:lnTo>
                <a:lnTo>
                  <a:pt x="13177" y="7557"/>
                </a:lnTo>
                <a:lnTo>
                  <a:pt x="13426" y="7812"/>
                </a:lnTo>
                <a:lnTo>
                  <a:pt x="13675" y="7812"/>
                </a:lnTo>
                <a:lnTo>
                  <a:pt x="13923" y="7812"/>
                </a:lnTo>
                <a:lnTo>
                  <a:pt x="14172" y="7852"/>
                </a:lnTo>
                <a:lnTo>
                  <a:pt x="14420" y="7852"/>
                </a:lnTo>
                <a:lnTo>
                  <a:pt x="14669" y="7852"/>
                </a:lnTo>
                <a:lnTo>
                  <a:pt x="14917" y="7964"/>
                </a:lnTo>
                <a:lnTo>
                  <a:pt x="15166" y="7964"/>
                </a:lnTo>
                <a:lnTo>
                  <a:pt x="15415" y="7964"/>
                </a:lnTo>
                <a:lnTo>
                  <a:pt x="15664" y="7967"/>
                </a:lnTo>
                <a:lnTo>
                  <a:pt x="15912" y="7967"/>
                </a:lnTo>
                <a:lnTo>
                  <a:pt x="16161" y="7967"/>
                </a:lnTo>
                <a:lnTo>
                  <a:pt x="16409" y="7984"/>
                </a:lnTo>
                <a:lnTo>
                  <a:pt x="16658" y="7984"/>
                </a:lnTo>
                <a:lnTo>
                  <a:pt x="16906" y="7984"/>
                </a:lnTo>
                <a:lnTo>
                  <a:pt x="17155" y="8033"/>
                </a:lnTo>
                <a:lnTo>
                  <a:pt x="17403" y="8033"/>
                </a:lnTo>
                <a:lnTo>
                  <a:pt x="17652" y="8033"/>
                </a:lnTo>
                <a:lnTo>
                  <a:pt x="17902" y="8091"/>
                </a:lnTo>
                <a:lnTo>
                  <a:pt x="18150" y="8091"/>
                </a:lnTo>
                <a:lnTo>
                  <a:pt x="18399" y="8091"/>
                </a:lnTo>
                <a:lnTo>
                  <a:pt x="18647" y="8264"/>
                </a:lnTo>
                <a:lnTo>
                  <a:pt x="18896" y="8264"/>
                </a:lnTo>
                <a:lnTo>
                  <a:pt x="19144" y="8264"/>
                </a:lnTo>
                <a:lnTo>
                  <a:pt x="19393" y="8301"/>
                </a:lnTo>
                <a:lnTo>
                  <a:pt x="19641" y="8301"/>
                </a:lnTo>
                <a:lnTo>
                  <a:pt x="19890" y="8301"/>
                </a:lnTo>
                <a:lnTo>
                  <a:pt x="20139" y="9282"/>
                </a:lnTo>
                <a:lnTo>
                  <a:pt x="20388" y="9282"/>
                </a:lnTo>
                <a:lnTo>
                  <a:pt x="20636" y="9282"/>
                </a:lnTo>
                <a:lnTo>
                  <a:pt x="20885" y="9575"/>
                </a:lnTo>
                <a:lnTo>
                  <a:pt x="21134" y="9575"/>
                </a:lnTo>
                <a:lnTo>
                  <a:pt x="21382" y="9575"/>
                </a:lnTo>
                <a:lnTo>
                  <a:pt x="21631" y="10253"/>
                </a:lnTo>
                <a:lnTo>
                  <a:pt x="21879" y="10253"/>
                </a:lnTo>
                <a:lnTo>
                  <a:pt x="22128" y="10253"/>
                </a:lnTo>
                <a:lnTo>
                  <a:pt x="22376" y="10405"/>
                </a:lnTo>
                <a:lnTo>
                  <a:pt x="22626" y="10405"/>
                </a:lnTo>
                <a:lnTo>
                  <a:pt x="22874" y="10405"/>
                </a:lnTo>
                <a:lnTo>
                  <a:pt x="23123" y="10500"/>
                </a:lnTo>
                <a:lnTo>
                  <a:pt x="23371" y="10500"/>
                </a:lnTo>
                <a:lnTo>
                  <a:pt x="23620" y="1050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6555960" y="2108160"/>
            <a:ext cx="575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3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, N=1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1598760" y="4979880"/>
            <a:ext cx="82440" cy="7488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1639800" y="5016600"/>
            <a:ext cx="180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1665360" y="4959360"/>
            <a:ext cx="82440" cy="745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1706400" y="4997520"/>
            <a:ext cx="180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1730520" y="4965840"/>
            <a:ext cx="82440" cy="745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1771560" y="5003640"/>
            <a:ext cx="180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1795320" y="4883040"/>
            <a:ext cx="82800" cy="7488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1836720" y="4921200"/>
            <a:ext cx="144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1862280" y="4871880"/>
            <a:ext cx="82440" cy="7308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1903320" y="4908600"/>
            <a:ext cx="180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1927080" y="4863960"/>
            <a:ext cx="84240" cy="7488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1968480" y="4900680"/>
            <a:ext cx="144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1994040" y="4751280"/>
            <a:ext cx="82440" cy="7488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2035080" y="4789440"/>
            <a:ext cx="180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2058840" y="4768920"/>
            <a:ext cx="82800" cy="7308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2100240" y="4805280"/>
            <a:ext cx="144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2125800" y="4751280"/>
            <a:ext cx="82440" cy="7488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2166840" y="4789440"/>
            <a:ext cx="180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2190600" y="5043600"/>
            <a:ext cx="82800" cy="745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2232000" y="5081760"/>
            <a:ext cx="144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2257560" y="5059440"/>
            <a:ext cx="82440" cy="745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2298600" y="5095800"/>
            <a:ext cx="180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2322360" y="5037120"/>
            <a:ext cx="82800" cy="7308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2363760" y="5073480"/>
            <a:ext cx="144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2387520" y="5043600"/>
            <a:ext cx="82800" cy="745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2428920" y="5079960"/>
            <a:ext cx="144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2454120" y="5033880"/>
            <a:ext cx="82800" cy="7308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2495520" y="5070600"/>
            <a:ext cx="144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2519280" y="5040360"/>
            <a:ext cx="82800" cy="7308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2560680" y="5076720"/>
            <a:ext cx="144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2585880" y="5160960"/>
            <a:ext cx="82800" cy="745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2627280" y="5199120"/>
            <a:ext cx="180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2651040" y="5176800"/>
            <a:ext cx="82800" cy="745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2692440" y="5213520"/>
            <a:ext cx="144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2717640" y="5181480"/>
            <a:ext cx="82800" cy="7488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2759040" y="5219640"/>
            <a:ext cx="180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2782800" y="4711680"/>
            <a:ext cx="82800" cy="745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2824200" y="4749840"/>
            <a:ext cx="144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2849400" y="4724280"/>
            <a:ext cx="82800" cy="7488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2890800" y="4762440"/>
            <a:ext cx="180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2914560" y="4710240"/>
            <a:ext cx="82800" cy="727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2955960" y="4746600"/>
            <a:ext cx="144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2979720" y="5265720"/>
            <a:ext cx="82440" cy="7308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3021120" y="5302080"/>
            <a:ext cx="144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3046320" y="5257800"/>
            <a:ext cx="82800" cy="745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3087720" y="5295960"/>
            <a:ext cx="144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3111480" y="5249880"/>
            <a:ext cx="82440" cy="7308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3152880" y="5286240"/>
            <a:ext cx="144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3178080" y="5129280"/>
            <a:ext cx="82800" cy="7308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3219480" y="5165640"/>
            <a:ext cx="144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243240" y="5113440"/>
            <a:ext cx="82440" cy="7308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3284640" y="5149800"/>
            <a:ext cx="144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309840" y="5095800"/>
            <a:ext cx="82800" cy="745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351240" y="5132520"/>
            <a:ext cx="144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3375000" y="5187960"/>
            <a:ext cx="82440" cy="7308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3416400" y="5224320"/>
            <a:ext cx="144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3441600" y="5189400"/>
            <a:ext cx="82800" cy="7308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3483000" y="5226120"/>
            <a:ext cx="144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3506760" y="5219640"/>
            <a:ext cx="82440" cy="7308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3548160" y="5256360"/>
            <a:ext cx="144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3571920" y="5073480"/>
            <a:ext cx="82440" cy="7488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3613320" y="5110200"/>
            <a:ext cx="144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3638520" y="5067360"/>
            <a:ext cx="82440" cy="745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3679920" y="5105520"/>
            <a:ext cx="144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3703680" y="5062680"/>
            <a:ext cx="82440" cy="745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745080" y="5100480"/>
            <a:ext cx="144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3770280" y="5284800"/>
            <a:ext cx="82440" cy="7308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3811680" y="5321160"/>
            <a:ext cx="144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3835440" y="5273640"/>
            <a:ext cx="82440" cy="745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3876840" y="5310360"/>
            <a:ext cx="144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3902040" y="5253120"/>
            <a:ext cx="82440" cy="7308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3943440" y="5289480"/>
            <a:ext cx="144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3967200" y="5072040"/>
            <a:ext cx="82440" cy="7308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4008600" y="5108400"/>
            <a:ext cx="144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4032360" y="5083200"/>
            <a:ext cx="83880" cy="745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4075200" y="5121360"/>
            <a:ext cx="144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4098960" y="5092560"/>
            <a:ext cx="82440" cy="7488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4140360" y="5130720"/>
            <a:ext cx="144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4164120" y="5218200"/>
            <a:ext cx="82440" cy="7308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4205160" y="5254560"/>
            <a:ext cx="180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4230720" y="5246640"/>
            <a:ext cx="82440" cy="7308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4272120" y="5283360"/>
            <a:ext cx="144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4295880" y="5246640"/>
            <a:ext cx="82440" cy="745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4336920" y="5283360"/>
            <a:ext cx="180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4362480" y="4756320"/>
            <a:ext cx="82440" cy="745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4403880" y="4792680"/>
            <a:ext cx="144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4427640" y="4737240"/>
            <a:ext cx="82440" cy="727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4468680" y="4773600"/>
            <a:ext cx="180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4494240" y="4773600"/>
            <a:ext cx="82440" cy="7308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4535640" y="4809960"/>
            <a:ext cx="144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4559400" y="5259240"/>
            <a:ext cx="82440" cy="7308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4600440" y="5295960"/>
            <a:ext cx="180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4624560" y="5268960"/>
            <a:ext cx="82440" cy="7308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4665600" y="5305320"/>
            <a:ext cx="180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4691160" y="5262480"/>
            <a:ext cx="82440" cy="7308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4732200" y="5299200"/>
            <a:ext cx="180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4756320" y="5218200"/>
            <a:ext cx="82440" cy="745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4797360" y="5254560"/>
            <a:ext cx="180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4822920" y="5203800"/>
            <a:ext cx="82440" cy="745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4863960" y="5240160"/>
            <a:ext cx="180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4888080" y="5194440"/>
            <a:ext cx="82440" cy="727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4929120" y="5230800"/>
            <a:ext cx="180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4952880" y="5126040"/>
            <a:ext cx="82800" cy="745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4994280" y="5164200"/>
            <a:ext cx="144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5019840" y="5137200"/>
            <a:ext cx="82440" cy="745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5060880" y="5175360"/>
            <a:ext cx="180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5084640" y="5141880"/>
            <a:ext cx="82800" cy="745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5126040" y="5178600"/>
            <a:ext cx="144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5151600" y="5319720"/>
            <a:ext cx="82440" cy="745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5192640" y="5356080"/>
            <a:ext cx="180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5216400" y="5330880"/>
            <a:ext cx="82800" cy="7308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5257800" y="5367240"/>
            <a:ext cx="144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5283360" y="5334120"/>
            <a:ext cx="82440" cy="745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5324400" y="5372280"/>
            <a:ext cx="180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5348160" y="5445000"/>
            <a:ext cx="82800" cy="7488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5389560" y="5481720"/>
            <a:ext cx="144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5413320" y="5433840"/>
            <a:ext cx="84240" cy="7488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5456160" y="5470560"/>
            <a:ext cx="180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5479920" y="5472000"/>
            <a:ext cx="82800" cy="7488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5521320" y="5510160"/>
            <a:ext cx="144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5545080" y="5389560"/>
            <a:ext cx="82440" cy="7308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5586480" y="5425920"/>
            <a:ext cx="144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5611680" y="5365800"/>
            <a:ext cx="82800" cy="745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5653080" y="5402160"/>
            <a:ext cx="144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5676840" y="5359320"/>
            <a:ext cx="82440" cy="745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5718240" y="5396040"/>
            <a:ext cx="144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5743440" y="5375160"/>
            <a:ext cx="82800" cy="7308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5784840" y="5411880"/>
            <a:ext cx="144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5808600" y="5380200"/>
            <a:ext cx="82440" cy="745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5850000" y="5416560"/>
            <a:ext cx="144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5875200" y="5396040"/>
            <a:ext cx="82800" cy="727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5916600" y="5432400"/>
            <a:ext cx="144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5940360" y="5035680"/>
            <a:ext cx="82440" cy="745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5981760" y="5072040"/>
            <a:ext cx="144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6005520" y="5056200"/>
            <a:ext cx="84240" cy="7308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6046920" y="5092560"/>
            <a:ext cx="144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072120" y="5045040"/>
            <a:ext cx="82440" cy="745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6113520" y="5083200"/>
            <a:ext cx="144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6137280" y="5262480"/>
            <a:ext cx="82440" cy="7308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6178680" y="5299200"/>
            <a:ext cx="144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6203880" y="5261040"/>
            <a:ext cx="82800" cy="745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6245280" y="5299200"/>
            <a:ext cx="144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6269040" y="5275440"/>
            <a:ext cx="82440" cy="745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6310440" y="5313240"/>
            <a:ext cx="144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6335640" y="5362560"/>
            <a:ext cx="82800" cy="745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6377040" y="5400720"/>
            <a:ext cx="144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6400800" y="5369040"/>
            <a:ext cx="82440" cy="7308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6442200" y="5405400"/>
            <a:ext cx="144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467400" y="5381640"/>
            <a:ext cx="82800" cy="7308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6508800" y="5418000"/>
            <a:ext cx="144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6532560" y="5295960"/>
            <a:ext cx="82440" cy="745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6573960" y="5332320"/>
            <a:ext cx="144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6597720" y="5330880"/>
            <a:ext cx="82440" cy="7308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6638760" y="5367240"/>
            <a:ext cx="180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6664320" y="5300640"/>
            <a:ext cx="82440" cy="745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6705720" y="5338800"/>
            <a:ext cx="144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6729480" y="5318280"/>
            <a:ext cx="82440" cy="745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6770520" y="5354640"/>
            <a:ext cx="180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6796080" y="5334120"/>
            <a:ext cx="82440" cy="745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6837480" y="5370480"/>
            <a:ext cx="144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6861240" y="5322960"/>
            <a:ext cx="82440" cy="745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6902280" y="5359320"/>
            <a:ext cx="180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6927840" y="5388120"/>
            <a:ext cx="82440" cy="727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6969240" y="5424480"/>
            <a:ext cx="144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6993000" y="5388120"/>
            <a:ext cx="82440" cy="745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7034040" y="5425920"/>
            <a:ext cx="180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7059600" y="5369040"/>
            <a:ext cx="82440" cy="7308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7101000" y="5405400"/>
            <a:ext cx="144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7124760" y="5362560"/>
            <a:ext cx="82440" cy="7308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7165800" y="5398920"/>
            <a:ext cx="180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7189920" y="5330880"/>
            <a:ext cx="82440" cy="745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7230960" y="5369040"/>
            <a:ext cx="180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7256520" y="5361120"/>
            <a:ext cx="82440" cy="727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7297560" y="5397480"/>
            <a:ext cx="180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7321680" y="5535720"/>
            <a:ext cx="82440" cy="7308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7362720" y="5572080"/>
            <a:ext cx="180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7388280" y="5532480"/>
            <a:ext cx="82440" cy="745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7429680" y="5570640"/>
            <a:ext cx="144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7453440" y="5537160"/>
            <a:ext cx="82440" cy="745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7494480" y="5575320"/>
            <a:ext cx="180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7518240" y="5491080"/>
            <a:ext cx="84240" cy="745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7561440" y="5529240"/>
            <a:ext cx="144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7585200" y="5497560"/>
            <a:ext cx="82440" cy="745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7626240" y="5535720"/>
            <a:ext cx="180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7651800" y="5494320"/>
            <a:ext cx="82440" cy="745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7693200" y="5532480"/>
            <a:ext cx="144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7716960" y="5443560"/>
            <a:ext cx="82440" cy="745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7758000" y="5479920"/>
            <a:ext cx="180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7781760" y="5457960"/>
            <a:ext cx="82800" cy="7452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7823160" y="5495760"/>
            <a:ext cx="180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7848720" y="5454720"/>
            <a:ext cx="82440" cy="7308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7889760" y="5491080"/>
            <a:ext cx="180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7439040" y="2163600"/>
            <a:ext cx="82440" cy="73080"/>
          </a:xfrm>
          <a:prstGeom prst="rect">
            <a:avLst/>
          </a:pr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7480440" y="2200320"/>
            <a:ext cx="144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6555960" y="2301840"/>
            <a:ext cx="575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3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, N=2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1598760" y="5751360"/>
            <a:ext cx="82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1639800" y="5713560"/>
            <a:ext cx="180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1598760" y="5713560"/>
            <a:ext cx="82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 flipV="1">
            <a:off x="1598760" y="5713200"/>
            <a:ext cx="82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1665360" y="5748480"/>
            <a:ext cx="82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1706400" y="5710320"/>
            <a:ext cx="180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1665360" y="5710320"/>
            <a:ext cx="82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 flipV="1">
            <a:off x="1665360" y="5709960"/>
            <a:ext cx="82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1730520" y="5757840"/>
            <a:ext cx="82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1771560" y="5719680"/>
            <a:ext cx="180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730520" y="5719680"/>
            <a:ext cx="82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 flipV="1">
            <a:off x="1730520" y="5719320"/>
            <a:ext cx="82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1795320" y="5721480"/>
            <a:ext cx="842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1836720" y="5684760"/>
            <a:ext cx="144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1795320" y="5684760"/>
            <a:ext cx="8424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 flipV="1">
            <a:off x="1795320" y="5682960"/>
            <a:ext cx="842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1862280" y="5721480"/>
            <a:ext cx="82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1903320" y="5684760"/>
            <a:ext cx="180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1862280" y="5684760"/>
            <a:ext cx="82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 flipV="1">
            <a:off x="1862280" y="5684400"/>
            <a:ext cx="82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1927080" y="5713560"/>
            <a:ext cx="842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1968480" y="5676840"/>
            <a:ext cx="144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1927080" y="5676840"/>
            <a:ext cx="8424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 flipV="1">
            <a:off x="1927080" y="5675040"/>
            <a:ext cx="842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1994040" y="5699160"/>
            <a:ext cx="82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2035080" y="5662440"/>
            <a:ext cx="180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1994040" y="5662440"/>
            <a:ext cx="8244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 flipV="1">
            <a:off x="1994040" y="5662440"/>
            <a:ext cx="8244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2058840" y="5719680"/>
            <a:ext cx="842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2100240" y="5683320"/>
            <a:ext cx="1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2058840" y="5683320"/>
            <a:ext cx="842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 flipV="1">
            <a:off x="2058840" y="5682960"/>
            <a:ext cx="842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2125800" y="5692680"/>
            <a:ext cx="82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2166840" y="5656320"/>
            <a:ext cx="180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2125800" y="5656320"/>
            <a:ext cx="82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 flipV="1">
            <a:off x="2125800" y="5655960"/>
            <a:ext cx="82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2190600" y="5781600"/>
            <a:ext cx="8280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2232000" y="5745240"/>
            <a:ext cx="1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2190600" y="5745240"/>
            <a:ext cx="8280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 flipV="1">
            <a:off x="2190600" y="5744880"/>
            <a:ext cx="8280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2257560" y="5778360"/>
            <a:ext cx="82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2298600" y="5742000"/>
            <a:ext cx="180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2257560" y="5742000"/>
            <a:ext cx="82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 flipV="1">
            <a:off x="2257560" y="5741640"/>
            <a:ext cx="8244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2322360" y="5780160"/>
            <a:ext cx="82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2363760" y="5743440"/>
            <a:ext cx="144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2322360" y="5743440"/>
            <a:ext cx="8280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 flipV="1">
            <a:off x="2322360" y="5741640"/>
            <a:ext cx="8280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2387520" y="5781600"/>
            <a:ext cx="842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2428920" y="5745240"/>
            <a:ext cx="1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2387520" y="5745240"/>
            <a:ext cx="842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 flipV="1">
            <a:off x="2387520" y="5744880"/>
            <a:ext cx="842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2454120" y="5792760"/>
            <a:ext cx="82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2495520" y="5754600"/>
            <a:ext cx="144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2454120" y="5754600"/>
            <a:ext cx="8280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 flipV="1">
            <a:off x="2454120" y="5754600"/>
            <a:ext cx="8280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2519280" y="5784840"/>
            <a:ext cx="82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2560680" y="5748480"/>
            <a:ext cx="1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2519280" y="5748480"/>
            <a:ext cx="8280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 flipV="1">
            <a:off x="2519280" y="5748120"/>
            <a:ext cx="8280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2585880" y="5808600"/>
            <a:ext cx="8280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2627280" y="5770440"/>
            <a:ext cx="180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2585880" y="5770440"/>
            <a:ext cx="8280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 flipV="1">
            <a:off x="2585880" y="5770440"/>
            <a:ext cx="8280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2651040" y="5803920"/>
            <a:ext cx="842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2692440" y="5767560"/>
            <a:ext cx="1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2651040" y="5767560"/>
            <a:ext cx="842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 flipV="1">
            <a:off x="2651040" y="5767200"/>
            <a:ext cx="842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2717640" y="5802480"/>
            <a:ext cx="82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2759040" y="5765760"/>
            <a:ext cx="180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2717640" y="5765760"/>
            <a:ext cx="8280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 flipV="1">
            <a:off x="2717640" y="5765400"/>
            <a:ext cx="8280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2782800" y="5641920"/>
            <a:ext cx="8280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2824200" y="5603760"/>
            <a:ext cx="144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2782800" y="5603760"/>
            <a:ext cx="8280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 flipV="1">
            <a:off x="2782800" y="5603760"/>
            <a:ext cx="8280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2849400" y="5634000"/>
            <a:ext cx="8280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2890800" y="5597640"/>
            <a:ext cx="180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2849400" y="5597640"/>
            <a:ext cx="8280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 flipV="1">
            <a:off x="2849400" y="5597280"/>
            <a:ext cx="8280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2914560" y="5613480"/>
            <a:ext cx="82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2955960" y="5576760"/>
            <a:ext cx="144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2914560" y="5576760"/>
            <a:ext cx="8280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 flipV="1">
            <a:off x="2914560" y="5576760"/>
            <a:ext cx="8280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2979720" y="5832360"/>
            <a:ext cx="842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021120" y="5796000"/>
            <a:ext cx="1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2979720" y="5796000"/>
            <a:ext cx="842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 flipV="1">
            <a:off x="2979720" y="5795640"/>
            <a:ext cx="8424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046320" y="5840280"/>
            <a:ext cx="8280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087720" y="5803920"/>
            <a:ext cx="1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3046320" y="5803920"/>
            <a:ext cx="8280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 flipV="1">
            <a:off x="3046320" y="5803560"/>
            <a:ext cx="8280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111480" y="5845320"/>
            <a:ext cx="82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3152880" y="5807160"/>
            <a:ext cx="1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3111480" y="5807160"/>
            <a:ext cx="82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 flipV="1">
            <a:off x="3111480" y="5806800"/>
            <a:ext cx="82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178080" y="5803920"/>
            <a:ext cx="82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3219480" y="5767560"/>
            <a:ext cx="1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178080" y="5767560"/>
            <a:ext cx="8280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 flipV="1">
            <a:off x="3178080" y="5767200"/>
            <a:ext cx="8280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3243240" y="5808600"/>
            <a:ext cx="82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3284640" y="5772240"/>
            <a:ext cx="144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3243240" y="5772240"/>
            <a:ext cx="8244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 flipV="1">
            <a:off x="3243240" y="5771880"/>
            <a:ext cx="8244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309840" y="5803920"/>
            <a:ext cx="82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351240" y="5767560"/>
            <a:ext cx="1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309840" y="5767560"/>
            <a:ext cx="8280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 flipV="1">
            <a:off x="3309840" y="5767200"/>
            <a:ext cx="8280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375000" y="5807160"/>
            <a:ext cx="82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416400" y="5770440"/>
            <a:ext cx="144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3375000" y="5770440"/>
            <a:ext cx="8244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 flipV="1">
            <a:off x="3375000" y="5770440"/>
            <a:ext cx="8244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3441600" y="5802480"/>
            <a:ext cx="82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3483000" y="5764320"/>
            <a:ext cx="1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441600" y="5764320"/>
            <a:ext cx="8280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 flipV="1">
            <a:off x="3441600" y="5763960"/>
            <a:ext cx="8280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506760" y="5802480"/>
            <a:ext cx="82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3548160" y="5765760"/>
            <a:ext cx="1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3506760" y="5765760"/>
            <a:ext cx="82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 flipV="1">
            <a:off x="3506760" y="5765400"/>
            <a:ext cx="82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3571920" y="5770440"/>
            <a:ext cx="842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3613320" y="5734080"/>
            <a:ext cx="1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3571920" y="5734080"/>
            <a:ext cx="842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 flipV="1">
            <a:off x="3571920" y="5733720"/>
            <a:ext cx="8424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3638520" y="5770440"/>
            <a:ext cx="82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3679920" y="5734080"/>
            <a:ext cx="1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3638520" y="5734080"/>
            <a:ext cx="82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 flipV="1">
            <a:off x="3638520" y="5733720"/>
            <a:ext cx="8244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3703680" y="5765760"/>
            <a:ext cx="82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745080" y="5727600"/>
            <a:ext cx="144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3703680" y="5727600"/>
            <a:ext cx="8244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 flipV="1">
            <a:off x="3703680" y="5727600"/>
            <a:ext cx="8244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3770280" y="5835600"/>
            <a:ext cx="82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35" name=""/>
          <p:cNvGrpSpPr/>
          <p:nvPr/>
        </p:nvGrpSpPr>
        <p:grpSpPr>
          <a:xfrm>
            <a:off x="3770280" y="5616360"/>
            <a:ext cx="3371760" cy="298800"/>
            <a:chOff x="3770280" y="5616360"/>
            <a:chExt cx="3371760" cy="298800"/>
          </a:xfrm>
        </p:grpSpPr>
        <p:sp>
          <p:nvSpPr>
            <p:cNvPr id="2136" name=""/>
            <p:cNvSpPr/>
            <p:nvPr/>
          </p:nvSpPr>
          <p:spPr>
            <a:xfrm>
              <a:off x="3811680" y="5799240"/>
              <a:ext cx="1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3770280" y="579924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 flipV="1">
              <a:off x="3770280" y="579888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835440" y="5835600"/>
              <a:ext cx="82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876840" y="5799240"/>
              <a:ext cx="1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835440" y="579924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 flipV="1">
              <a:off x="3835440" y="579888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3902040" y="5829480"/>
              <a:ext cx="82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3943440" y="5792760"/>
              <a:ext cx="1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3902040" y="579276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 flipV="1">
              <a:off x="3902040" y="579240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3967200" y="5770440"/>
              <a:ext cx="82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4008600" y="5734080"/>
              <a:ext cx="1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967200" y="573408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 flipV="1">
              <a:off x="3967200" y="573372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4032360" y="5780160"/>
              <a:ext cx="8388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4075200" y="5742000"/>
              <a:ext cx="1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4032360" y="5742000"/>
              <a:ext cx="8388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 flipV="1">
              <a:off x="4032360" y="5741640"/>
              <a:ext cx="8388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4098960" y="5770440"/>
              <a:ext cx="82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4140360" y="5734080"/>
              <a:ext cx="1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098960" y="573408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V="1">
              <a:off x="4098960" y="5733720"/>
              <a:ext cx="82440" cy="7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4164120" y="5842080"/>
              <a:ext cx="8388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4205160" y="5805360"/>
              <a:ext cx="180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4164120" y="5805360"/>
              <a:ext cx="8388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 flipV="1">
              <a:off x="4164120" y="5805360"/>
              <a:ext cx="8388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4230720" y="5848200"/>
              <a:ext cx="82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4272120" y="5811840"/>
              <a:ext cx="1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4230720" y="581184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V="1">
              <a:off x="4230720" y="581148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4295880" y="5846760"/>
              <a:ext cx="82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4336920" y="5808600"/>
              <a:ext cx="180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4295880" y="580860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 flipV="1">
              <a:off x="4295880" y="580824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362480" y="5657760"/>
              <a:ext cx="82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403880" y="5621400"/>
              <a:ext cx="1440" cy="7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4362480" y="5621400"/>
              <a:ext cx="82440" cy="7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 flipV="1">
              <a:off x="4362480" y="5619600"/>
              <a:ext cx="824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4427640" y="5653080"/>
              <a:ext cx="82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4468680" y="5616720"/>
              <a:ext cx="180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427640" y="561672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 flipV="1">
              <a:off x="4427640" y="561636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4494240" y="5672160"/>
              <a:ext cx="82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535640" y="5635800"/>
              <a:ext cx="1440" cy="727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4494240" y="5635800"/>
              <a:ext cx="82440" cy="727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 flipV="1">
              <a:off x="4494240" y="563364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559400" y="5834160"/>
              <a:ext cx="82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4600440" y="5797440"/>
              <a:ext cx="180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4559400" y="5797440"/>
              <a:ext cx="824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 flipV="1">
              <a:off x="4559400" y="5797440"/>
              <a:ext cx="824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4624560" y="5826240"/>
              <a:ext cx="8388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4665600" y="5789520"/>
              <a:ext cx="1800" cy="7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4624560" y="5789520"/>
              <a:ext cx="83880" cy="7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 flipV="1">
              <a:off x="4624560" y="5787720"/>
              <a:ext cx="8388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691160" y="5838840"/>
              <a:ext cx="82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4732200" y="5802480"/>
              <a:ext cx="180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4691160" y="580248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 flipV="1">
              <a:off x="4691160" y="580212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4756320" y="5821200"/>
              <a:ext cx="82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4797360" y="5784840"/>
              <a:ext cx="180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4756320" y="578484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 flipV="1">
              <a:off x="4756320" y="578448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4822920" y="5835600"/>
              <a:ext cx="82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4863960" y="5797440"/>
              <a:ext cx="180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4822920" y="5797440"/>
              <a:ext cx="824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V="1">
              <a:off x="4822920" y="5797440"/>
              <a:ext cx="824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4888080" y="5823000"/>
              <a:ext cx="82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4929120" y="5786280"/>
              <a:ext cx="1800" cy="7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4888080" y="5786280"/>
              <a:ext cx="82440" cy="7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 flipV="1">
              <a:off x="4888080" y="5785920"/>
              <a:ext cx="82440" cy="7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952880" y="5792760"/>
              <a:ext cx="842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4994280" y="5756400"/>
              <a:ext cx="1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952880" y="5756400"/>
              <a:ext cx="842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 flipV="1">
              <a:off x="4952880" y="5756040"/>
              <a:ext cx="84240" cy="7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5019840" y="5796000"/>
              <a:ext cx="82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060880" y="5759280"/>
              <a:ext cx="180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5019840" y="5759280"/>
              <a:ext cx="824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 flipV="1">
              <a:off x="5019840" y="5758920"/>
              <a:ext cx="82440" cy="7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5084640" y="5794200"/>
              <a:ext cx="842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5126040" y="5756400"/>
              <a:ext cx="1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5084640" y="5756400"/>
              <a:ext cx="842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 flipV="1">
              <a:off x="5084640" y="5756040"/>
              <a:ext cx="842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5151600" y="5848200"/>
              <a:ext cx="82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5192640" y="5810400"/>
              <a:ext cx="180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5151600" y="581040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 flipV="1">
              <a:off x="5151600" y="581004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5216400" y="5851440"/>
              <a:ext cx="8280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5257800" y="5815080"/>
              <a:ext cx="1440" cy="7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5216400" y="5815080"/>
              <a:ext cx="82800" cy="7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 flipV="1">
              <a:off x="5216400" y="5813280"/>
              <a:ext cx="8280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5283360" y="5853240"/>
              <a:ext cx="82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5324400" y="5816520"/>
              <a:ext cx="180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5283360" y="581652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V="1">
              <a:off x="5283360" y="581616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5348160" y="5877000"/>
              <a:ext cx="82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389560" y="5840280"/>
              <a:ext cx="14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5348160" y="5840280"/>
              <a:ext cx="8280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 flipV="1">
              <a:off x="5348160" y="5839920"/>
              <a:ext cx="82800" cy="7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5413320" y="5878440"/>
              <a:ext cx="842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5456160" y="5840280"/>
              <a:ext cx="180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5413320" y="5840280"/>
              <a:ext cx="842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V="1">
              <a:off x="5413320" y="5840280"/>
              <a:ext cx="842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5479920" y="5877000"/>
              <a:ext cx="82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5521320" y="5838840"/>
              <a:ext cx="1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479920" y="5838840"/>
              <a:ext cx="8280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V="1">
              <a:off x="5479920" y="5838480"/>
              <a:ext cx="8280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5545080" y="5861160"/>
              <a:ext cx="842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5586480" y="5824440"/>
              <a:ext cx="14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5545080" y="5824440"/>
              <a:ext cx="842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V="1">
              <a:off x="5545080" y="5824440"/>
              <a:ext cx="842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611680" y="5861160"/>
              <a:ext cx="82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653080" y="5824440"/>
              <a:ext cx="14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611680" y="5824440"/>
              <a:ext cx="8280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V="1">
              <a:off x="5611680" y="5824440"/>
              <a:ext cx="8280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5676840" y="5856120"/>
              <a:ext cx="842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5718240" y="5818320"/>
              <a:ext cx="1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676840" y="5818320"/>
              <a:ext cx="842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 flipV="1">
              <a:off x="5676840" y="5817960"/>
              <a:ext cx="842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743440" y="5867280"/>
              <a:ext cx="8280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784840" y="5830920"/>
              <a:ext cx="1440" cy="7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743440" y="5830920"/>
              <a:ext cx="82800" cy="7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 flipV="1">
              <a:off x="5743440" y="5829120"/>
              <a:ext cx="8280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808600" y="5854680"/>
              <a:ext cx="82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850000" y="5816520"/>
              <a:ext cx="1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808600" y="581652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 flipV="1">
              <a:off x="5808600" y="581616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875200" y="5864400"/>
              <a:ext cx="82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5916600" y="5826240"/>
              <a:ext cx="1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5875200" y="5826240"/>
              <a:ext cx="8280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 flipV="1">
              <a:off x="5875200" y="5825880"/>
              <a:ext cx="8280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5940360" y="5767560"/>
              <a:ext cx="82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5981760" y="5729400"/>
              <a:ext cx="1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940360" y="572940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 flipV="1">
              <a:off x="5940360" y="572904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6005520" y="5784840"/>
              <a:ext cx="842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6046920" y="5746680"/>
              <a:ext cx="1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6005520" y="5746680"/>
              <a:ext cx="842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 flipV="1">
              <a:off x="6005520" y="5746320"/>
              <a:ext cx="842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6072120" y="5778360"/>
              <a:ext cx="82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6113520" y="5742000"/>
              <a:ext cx="1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6072120" y="574200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 flipV="1">
              <a:off x="6072120" y="574164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6137280" y="5832360"/>
              <a:ext cx="842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6178680" y="5796000"/>
              <a:ext cx="1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6137280" y="5796000"/>
              <a:ext cx="842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 flipV="1">
              <a:off x="6137280" y="5795640"/>
              <a:ext cx="842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6203880" y="5826240"/>
              <a:ext cx="82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6245280" y="5789520"/>
              <a:ext cx="14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6203880" y="5789520"/>
              <a:ext cx="8280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 flipV="1">
              <a:off x="6203880" y="5789520"/>
              <a:ext cx="8280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6269040" y="5827680"/>
              <a:ext cx="82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6310440" y="5791320"/>
              <a:ext cx="1440" cy="7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6269040" y="5791320"/>
              <a:ext cx="82440" cy="7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 flipV="1">
              <a:off x="6269040" y="5789520"/>
              <a:ext cx="824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6335640" y="5846760"/>
              <a:ext cx="82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6377040" y="5808600"/>
              <a:ext cx="1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335640" y="5808600"/>
              <a:ext cx="8280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 flipV="1">
              <a:off x="6335640" y="5808240"/>
              <a:ext cx="8280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400800" y="5854680"/>
              <a:ext cx="82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6442200" y="5818320"/>
              <a:ext cx="1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6400800" y="581832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 flipV="1">
              <a:off x="6400800" y="581796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6467400" y="5857920"/>
              <a:ext cx="82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6508800" y="5821200"/>
              <a:ext cx="14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6467400" y="5821200"/>
              <a:ext cx="8280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 flipV="1">
              <a:off x="6467400" y="5821200"/>
              <a:ext cx="8280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6532560" y="5851440"/>
              <a:ext cx="82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573960" y="5815080"/>
              <a:ext cx="1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532560" y="581508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 flipV="1">
              <a:off x="6532560" y="5814720"/>
              <a:ext cx="82440" cy="7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6597720" y="5850000"/>
              <a:ext cx="842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6638760" y="5813280"/>
              <a:ext cx="1800" cy="7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6597720" y="5813280"/>
              <a:ext cx="84240" cy="7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 flipV="1">
              <a:off x="6597720" y="5812920"/>
              <a:ext cx="84240" cy="7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6664320" y="5840280"/>
              <a:ext cx="82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705720" y="5802480"/>
              <a:ext cx="1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6664320" y="580248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 flipV="1">
              <a:off x="6664320" y="580212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6729480" y="5856120"/>
              <a:ext cx="842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6770520" y="5818320"/>
              <a:ext cx="180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6729480" y="5818320"/>
              <a:ext cx="842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V="1">
              <a:off x="6729480" y="5817960"/>
              <a:ext cx="842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6796080" y="5861160"/>
              <a:ext cx="82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6837480" y="5823000"/>
              <a:ext cx="1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6796080" y="582300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 flipV="1">
              <a:off x="6796080" y="582264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6861240" y="5869080"/>
              <a:ext cx="82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6902280" y="5832360"/>
              <a:ext cx="180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6861240" y="5832360"/>
              <a:ext cx="824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 flipV="1">
              <a:off x="6861240" y="5832360"/>
              <a:ext cx="82440" cy="74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6927840" y="5869080"/>
              <a:ext cx="82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6969240" y="5830920"/>
              <a:ext cx="1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6927840" y="583092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 flipV="1">
              <a:off x="6927840" y="583056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993000" y="5873760"/>
              <a:ext cx="82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7034040" y="5837400"/>
              <a:ext cx="180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6993000" y="583740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 flipV="1">
              <a:off x="6993000" y="5837040"/>
              <a:ext cx="82440" cy="74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7059600" y="5873760"/>
              <a:ext cx="82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336" name=""/>
          <p:cNvSpPr/>
          <p:nvPr/>
        </p:nvSpPr>
        <p:spPr>
          <a:xfrm>
            <a:off x="7101000" y="5835600"/>
            <a:ext cx="1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7059600" y="5835600"/>
            <a:ext cx="82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V="1">
            <a:off x="7059600" y="5835240"/>
            <a:ext cx="82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7124760" y="5840280"/>
            <a:ext cx="82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7165800" y="5803920"/>
            <a:ext cx="180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7124760" y="5803920"/>
            <a:ext cx="82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 flipV="1">
            <a:off x="7124760" y="5803560"/>
            <a:ext cx="8244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7189920" y="5848200"/>
            <a:ext cx="8388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7230960" y="5811840"/>
            <a:ext cx="180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7189920" y="5811840"/>
            <a:ext cx="8388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 flipV="1">
            <a:off x="7189920" y="5810040"/>
            <a:ext cx="8388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7256520" y="5840280"/>
            <a:ext cx="82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7297560" y="5803920"/>
            <a:ext cx="180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7256520" y="5803920"/>
            <a:ext cx="8244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 flipV="1">
            <a:off x="7256520" y="5803560"/>
            <a:ext cx="8244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7321680" y="5892840"/>
            <a:ext cx="82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7362720" y="5856120"/>
            <a:ext cx="180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7321680" y="5856120"/>
            <a:ext cx="8244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 flipV="1">
            <a:off x="7321680" y="5856120"/>
            <a:ext cx="8244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7388280" y="5899320"/>
            <a:ext cx="82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7429680" y="5862600"/>
            <a:ext cx="1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7388280" y="5862600"/>
            <a:ext cx="82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 flipV="1">
            <a:off x="7388280" y="5862240"/>
            <a:ext cx="8244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7453440" y="5892840"/>
            <a:ext cx="82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7494480" y="5856120"/>
            <a:ext cx="180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7453440" y="5856120"/>
            <a:ext cx="8244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 flipV="1">
            <a:off x="7453440" y="5856120"/>
            <a:ext cx="8244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7518240" y="5892840"/>
            <a:ext cx="842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7561440" y="5856120"/>
            <a:ext cx="144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7518240" y="5856120"/>
            <a:ext cx="8424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 flipV="1">
            <a:off x="7518240" y="5855760"/>
            <a:ext cx="8424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7585200" y="5889600"/>
            <a:ext cx="82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7626240" y="5853240"/>
            <a:ext cx="180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7585200" y="5853240"/>
            <a:ext cx="82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 flipV="1">
            <a:off x="7585200" y="5853240"/>
            <a:ext cx="82440" cy="727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7651800" y="5892840"/>
            <a:ext cx="82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7693200" y="5854680"/>
            <a:ext cx="1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7651800" y="5854680"/>
            <a:ext cx="82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 flipV="1">
            <a:off x="7651800" y="5854320"/>
            <a:ext cx="82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7716960" y="5884920"/>
            <a:ext cx="82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7758000" y="5848200"/>
            <a:ext cx="180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7716960" y="5848200"/>
            <a:ext cx="8244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 flipV="1">
            <a:off x="7716960" y="5848200"/>
            <a:ext cx="8244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7781760" y="5880240"/>
            <a:ext cx="842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7823160" y="5843520"/>
            <a:ext cx="180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7781760" y="5843520"/>
            <a:ext cx="842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 flipV="1">
            <a:off x="7781760" y="5843160"/>
            <a:ext cx="842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7848720" y="5886360"/>
            <a:ext cx="82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7889760" y="5850000"/>
            <a:ext cx="180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7848720" y="5850000"/>
            <a:ext cx="82440" cy="74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 flipV="1">
            <a:off x="7848720" y="5849640"/>
            <a:ext cx="82440" cy="73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7439040" y="2394000"/>
            <a:ext cx="842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7480440" y="2357280"/>
            <a:ext cx="144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7439040" y="2357280"/>
            <a:ext cx="8424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 flipV="1">
            <a:off x="7439040" y="2357280"/>
            <a:ext cx="84240" cy="74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6555960" y="2496960"/>
            <a:ext cx="575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3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, N=3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1584360" y="5945040"/>
            <a:ext cx="1112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8" y="279"/>
                </a:moveTo>
                <a:lnTo>
                  <a:pt x="0" y="0"/>
                </a:lnTo>
                <a:lnTo>
                  <a:pt x="417" y="0"/>
                </a:lnTo>
                <a:lnTo>
                  <a:pt x="208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1639800" y="5970600"/>
            <a:ext cx="180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1650960" y="5945040"/>
            <a:ext cx="1094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9" y="279"/>
                </a:moveTo>
                <a:lnTo>
                  <a:pt x="0" y="0"/>
                </a:lnTo>
                <a:lnTo>
                  <a:pt x="417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1706400" y="5970600"/>
            <a:ext cx="180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1716120" y="5945040"/>
            <a:ext cx="1112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8" y="279"/>
                </a:moveTo>
                <a:lnTo>
                  <a:pt x="0" y="0"/>
                </a:lnTo>
                <a:lnTo>
                  <a:pt x="417" y="0"/>
                </a:lnTo>
                <a:lnTo>
                  <a:pt x="208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1771560" y="5970600"/>
            <a:ext cx="180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1782720" y="5945040"/>
            <a:ext cx="1094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9" y="279"/>
                </a:moveTo>
                <a:lnTo>
                  <a:pt x="0" y="0"/>
                </a:lnTo>
                <a:lnTo>
                  <a:pt x="417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183672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1847880" y="5945040"/>
            <a:ext cx="1112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8" y="279"/>
                </a:moveTo>
                <a:lnTo>
                  <a:pt x="0" y="0"/>
                </a:lnTo>
                <a:lnTo>
                  <a:pt x="417" y="0"/>
                </a:lnTo>
                <a:lnTo>
                  <a:pt x="208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1903320" y="5970600"/>
            <a:ext cx="180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1914480" y="5945040"/>
            <a:ext cx="109440" cy="74880"/>
          </a:xfrm>
          <a:custGeom>
            <a:avLst/>
            <a:gdLst/>
            <a:ahLst/>
            <a:rect l="l" t="t" r="r" b="b"/>
            <a:pathLst>
              <a:path w="418" h="279">
                <a:moveTo>
                  <a:pt x="209" y="279"/>
                </a:moveTo>
                <a:lnTo>
                  <a:pt x="0" y="0"/>
                </a:lnTo>
                <a:lnTo>
                  <a:pt x="418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196848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1979640" y="5945040"/>
            <a:ext cx="1112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8" y="279"/>
                </a:moveTo>
                <a:lnTo>
                  <a:pt x="0" y="0"/>
                </a:lnTo>
                <a:lnTo>
                  <a:pt x="417" y="0"/>
                </a:lnTo>
                <a:lnTo>
                  <a:pt x="208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2035080" y="5970600"/>
            <a:ext cx="180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2046240" y="5945040"/>
            <a:ext cx="109440" cy="74880"/>
          </a:xfrm>
          <a:custGeom>
            <a:avLst/>
            <a:gdLst/>
            <a:ahLst/>
            <a:rect l="l" t="t" r="r" b="b"/>
            <a:pathLst>
              <a:path w="418" h="279">
                <a:moveTo>
                  <a:pt x="209" y="279"/>
                </a:moveTo>
                <a:lnTo>
                  <a:pt x="0" y="0"/>
                </a:lnTo>
                <a:lnTo>
                  <a:pt x="418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210024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2111400" y="5945040"/>
            <a:ext cx="1112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9" y="279"/>
                </a:moveTo>
                <a:lnTo>
                  <a:pt x="0" y="0"/>
                </a:lnTo>
                <a:lnTo>
                  <a:pt x="417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2166840" y="5970600"/>
            <a:ext cx="180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2176560" y="5945040"/>
            <a:ext cx="110880" cy="74880"/>
          </a:xfrm>
          <a:custGeom>
            <a:avLst/>
            <a:gdLst/>
            <a:ahLst/>
            <a:rect l="l" t="t" r="r" b="b"/>
            <a:pathLst>
              <a:path w="418" h="279">
                <a:moveTo>
                  <a:pt x="209" y="279"/>
                </a:moveTo>
                <a:lnTo>
                  <a:pt x="0" y="0"/>
                </a:lnTo>
                <a:lnTo>
                  <a:pt x="418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223200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2243160" y="5945040"/>
            <a:ext cx="1094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9" y="279"/>
                </a:moveTo>
                <a:lnTo>
                  <a:pt x="0" y="0"/>
                </a:lnTo>
                <a:lnTo>
                  <a:pt x="417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2298600" y="5970600"/>
            <a:ext cx="180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2308320" y="5945040"/>
            <a:ext cx="110880" cy="74880"/>
          </a:xfrm>
          <a:custGeom>
            <a:avLst/>
            <a:gdLst/>
            <a:ahLst/>
            <a:rect l="l" t="t" r="r" b="b"/>
            <a:pathLst>
              <a:path w="418" h="279">
                <a:moveTo>
                  <a:pt x="209" y="279"/>
                </a:moveTo>
                <a:lnTo>
                  <a:pt x="0" y="0"/>
                </a:lnTo>
                <a:lnTo>
                  <a:pt x="418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236376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2374920" y="5945040"/>
            <a:ext cx="1094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9" y="279"/>
                </a:moveTo>
                <a:lnTo>
                  <a:pt x="0" y="0"/>
                </a:lnTo>
                <a:lnTo>
                  <a:pt x="417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242892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2440080" y="5945040"/>
            <a:ext cx="110880" cy="74880"/>
          </a:xfrm>
          <a:custGeom>
            <a:avLst/>
            <a:gdLst/>
            <a:ahLst/>
            <a:rect l="l" t="t" r="r" b="b"/>
            <a:pathLst>
              <a:path w="418" h="279">
                <a:moveTo>
                  <a:pt x="209" y="279"/>
                </a:moveTo>
                <a:lnTo>
                  <a:pt x="0" y="0"/>
                </a:lnTo>
                <a:lnTo>
                  <a:pt x="418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249552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2506680" y="5945040"/>
            <a:ext cx="1094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9" y="279"/>
                </a:moveTo>
                <a:lnTo>
                  <a:pt x="0" y="0"/>
                </a:lnTo>
                <a:lnTo>
                  <a:pt x="417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256068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2571840" y="5945040"/>
            <a:ext cx="11088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8" y="279"/>
                </a:moveTo>
                <a:lnTo>
                  <a:pt x="0" y="0"/>
                </a:lnTo>
                <a:lnTo>
                  <a:pt x="417" y="0"/>
                </a:lnTo>
                <a:lnTo>
                  <a:pt x="208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2627280" y="5970600"/>
            <a:ext cx="180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2638440" y="5945040"/>
            <a:ext cx="1094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9" y="279"/>
                </a:moveTo>
                <a:lnTo>
                  <a:pt x="0" y="0"/>
                </a:lnTo>
                <a:lnTo>
                  <a:pt x="417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269244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2703600" y="5945040"/>
            <a:ext cx="1094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8" y="279"/>
                </a:moveTo>
                <a:lnTo>
                  <a:pt x="0" y="0"/>
                </a:lnTo>
                <a:lnTo>
                  <a:pt x="417" y="0"/>
                </a:lnTo>
                <a:lnTo>
                  <a:pt x="208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2759040" y="5970600"/>
            <a:ext cx="180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2768760" y="5945040"/>
            <a:ext cx="11088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9" y="279"/>
                </a:moveTo>
                <a:lnTo>
                  <a:pt x="0" y="0"/>
                </a:lnTo>
                <a:lnTo>
                  <a:pt x="417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282420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2835360" y="5945040"/>
            <a:ext cx="1094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8" y="279"/>
                </a:moveTo>
                <a:lnTo>
                  <a:pt x="0" y="0"/>
                </a:lnTo>
                <a:lnTo>
                  <a:pt x="417" y="0"/>
                </a:lnTo>
                <a:lnTo>
                  <a:pt x="208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2890800" y="5970600"/>
            <a:ext cx="180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2900520" y="5945040"/>
            <a:ext cx="110880" cy="74880"/>
          </a:xfrm>
          <a:custGeom>
            <a:avLst/>
            <a:gdLst/>
            <a:ahLst/>
            <a:rect l="l" t="t" r="r" b="b"/>
            <a:pathLst>
              <a:path w="418" h="279">
                <a:moveTo>
                  <a:pt x="209" y="279"/>
                </a:moveTo>
                <a:lnTo>
                  <a:pt x="0" y="0"/>
                </a:lnTo>
                <a:lnTo>
                  <a:pt x="418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295596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2967120" y="5945040"/>
            <a:ext cx="1094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8" y="279"/>
                </a:moveTo>
                <a:lnTo>
                  <a:pt x="0" y="0"/>
                </a:lnTo>
                <a:lnTo>
                  <a:pt x="417" y="0"/>
                </a:lnTo>
                <a:lnTo>
                  <a:pt x="208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302112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3032280" y="5945040"/>
            <a:ext cx="110880" cy="74880"/>
          </a:xfrm>
          <a:custGeom>
            <a:avLst/>
            <a:gdLst/>
            <a:ahLst/>
            <a:rect l="l" t="t" r="r" b="b"/>
            <a:pathLst>
              <a:path w="418" h="279">
                <a:moveTo>
                  <a:pt x="209" y="279"/>
                </a:moveTo>
                <a:lnTo>
                  <a:pt x="0" y="0"/>
                </a:lnTo>
                <a:lnTo>
                  <a:pt x="418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308772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3097080" y="5945040"/>
            <a:ext cx="1112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8" y="279"/>
                </a:moveTo>
                <a:lnTo>
                  <a:pt x="0" y="0"/>
                </a:lnTo>
                <a:lnTo>
                  <a:pt x="417" y="0"/>
                </a:lnTo>
                <a:lnTo>
                  <a:pt x="208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315288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3164040" y="5945040"/>
            <a:ext cx="110880" cy="74880"/>
          </a:xfrm>
          <a:custGeom>
            <a:avLst/>
            <a:gdLst/>
            <a:ahLst/>
            <a:rect l="l" t="t" r="r" b="b"/>
            <a:pathLst>
              <a:path w="418" h="279">
                <a:moveTo>
                  <a:pt x="209" y="279"/>
                </a:moveTo>
                <a:lnTo>
                  <a:pt x="0" y="0"/>
                </a:lnTo>
                <a:lnTo>
                  <a:pt x="418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321948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3230640" y="5945040"/>
            <a:ext cx="1094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9" y="279"/>
                </a:moveTo>
                <a:lnTo>
                  <a:pt x="0" y="0"/>
                </a:lnTo>
                <a:lnTo>
                  <a:pt x="417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328464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3295800" y="5945040"/>
            <a:ext cx="1094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8" y="279"/>
                </a:moveTo>
                <a:lnTo>
                  <a:pt x="0" y="0"/>
                </a:lnTo>
                <a:lnTo>
                  <a:pt x="417" y="0"/>
                </a:lnTo>
                <a:lnTo>
                  <a:pt x="208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335124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3360600" y="5945040"/>
            <a:ext cx="1112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9" y="279"/>
                </a:moveTo>
                <a:lnTo>
                  <a:pt x="0" y="0"/>
                </a:lnTo>
                <a:lnTo>
                  <a:pt x="417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341640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3427560" y="5945040"/>
            <a:ext cx="1094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8" y="279"/>
                </a:moveTo>
                <a:lnTo>
                  <a:pt x="0" y="0"/>
                </a:lnTo>
                <a:lnTo>
                  <a:pt x="417" y="0"/>
                </a:lnTo>
                <a:lnTo>
                  <a:pt x="208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348300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3492360" y="5945040"/>
            <a:ext cx="1112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9" y="279"/>
                </a:moveTo>
                <a:lnTo>
                  <a:pt x="0" y="0"/>
                </a:lnTo>
                <a:lnTo>
                  <a:pt x="417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354816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3559320" y="5945040"/>
            <a:ext cx="1094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8" y="279"/>
                </a:moveTo>
                <a:lnTo>
                  <a:pt x="0" y="0"/>
                </a:lnTo>
                <a:lnTo>
                  <a:pt x="417" y="0"/>
                </a:lnTo>
                <a:lnTo>
                  <a:pt x="208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361332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3624120" y="5945040"/>
            <a:ext cx="1112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9" y="279"/>
                </a:moveTo>
                <a:lnTo>
                  <a:pt x="0" y="0"/>
                </a:lnTo>
                <a:lnTo>
                  <a:pt x="417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367992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3689280" y="5945040"/>
            <a:ext cx="1112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8" y="279"/>
                </a:moveTo>
                <a:lnTo>
                  <a:pt x="0" y="0"/>
                </a:lnTo>
                <a:lnTo>
                  <a:pt x="417" y="0"/>
                </a:lnTo>
                <a:lnTo>
                  <a:pt x="208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374508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3755880" y="5945040"/>
            <a:ext cx="10980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9" y="279"/>
                </a:moveTo>
                <a:lnTo>
                  <a:pt x="0" y="0"/>
                </a:lnTo>
                <a:lnTo>
                  <a:pt x="417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381168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3821040" y="5945040"/>
            <a:ext cx="1112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8" y="279"/>
                </a:moveTo>
                <a:lnTo>
                  <a:pt x="0" y="0"/>
                </a:lnTo>
                <a:lnTo>
                  <a:pt x="417" y="0"/>
                </a:lnTo>
                <a:lnTo>
                  <a:pt x="208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387684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887640" y="5945040"/>
            <a:ext cx="109800" cy="74880"/>
          </a:xfrm>
          <a:custGeom>
            <a:avLst/>
            <a:gdLst/>
            <a:ahLst/>
            <a:rect l="l" t="t" r="r" b="b"/>
            <a:pathLst>
              <a:path w="418" h="279">
                <a:moveTo>
                  <a:pt x="209" y="279"/>
                </a:moveTo>
                <a:lnTo>
                  <a:pt x="0" y="0"/>
                </a:lnTo>
                <a:lnTo>
                  <a:pt x="418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394344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3952800" y="5945040"/>
            <a:ext cx="1112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8" y="279"/>
                </a:moveTo>
                <a:lnTo>
                  <a:pt x="0" y="0"/>
                </a:lnTo>
                <a:lnTo>
                  <a:pt x="417" y="0"/>
                </a:lnTo>
                <a:lnTo>
                  <a:pt x="208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400860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4019400" y="5945040"/>
            <a:ext cx="109800" cy="74880"/>
          </a:xfrm>
          <a:custGeom>
            <a:avLst/>
            <a:gdLst/>
            <a:ahLst/>
            <a:rect l="l" t="t" r="r" b="b"/>
            <a:pathLst>
              <a:path w="418" h="279">
                <a:moveTo>
                  <a:pt x="209" y="279"/>
                </a:moveTo>
                <a:lnTo>
                  <a:pt x="0" y="0"/>
                </a:lnTo>
                <a:lnTo>
                  <a:pt x="418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407520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4084560" y="5945040"/>
            <a:ext cx="1112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9" y="279"/>
                </a:moveTo>
                <a:lnTo>
                  <a:pt x="0" y="0"/>
                </a:lnTo>
                <a:lnTo>
                  <a:pt x="417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414036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4151160" y="5945040"/>
            <a:ext cx="109800" cy="74880"/>
          </a:xfrm>
          <a:custGeom>
            <a:avLst/>
            <a:gdLst/>
            <a:ahLst/>
            <a:rect l="l" t="t" r="r" b="b"/>
            <a:pathLst>
              <a:path w="418" h="279">
                <a:moveTo>
                  <a:pt x="209" y="279"/>
                </a:moveTo>
                <a:lnTo>
                  <a:pt x="0" y="0"/>
                </a:lnTo>
                <a:lnTo>
                  <a:pt x="418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4205160" y="5970600"/>
            <a:ext cx="180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4216320" y="5945040"/>
            <a:ext cx="1112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9" y="279"/>
                </a:moveTo>
                <a:lnTo>
                  <a:pt x="0" y="0"/>
                </a:lnTo>
                <a:lnTo>
                  <a:pt x="417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427212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4281480" y="5945040"/>
            <a:ext cx="111240" cy="74880"/>
          </a:xfrm>
          <a:custGeom>
            <a:avLst/>
            <a:gdLst/>
            <a:ahLst/>
            <a:rect l="l" t="t" r="r" b="b"/>
            <a:pathLst>
              <a:path w="418" h="279">
                <a:moveTo>
                  <a:pt x="209" y="279"/>
                </a:moveTo>
                <a:lnTo>
                  <a:pt x="0" y="0"/>
                </a:lnTo>
                <a:lnTo>
                  <a:pt x="418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4336920" y="5970600"/>
            <a:ext cx="180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4348080" y="5945040"/>
            <a:ext cx="10980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9" y="279"/>
                </a:moveTo>
                <a:lnTo>
                  <a:pt x="0" y="0"/>
                </a:lnTo>
                <a:lnTo>
                  <a:pt x="417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440388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4413240" y="5945040"/>
            <a:ext cx="1112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8" y="279"/>
                </a:moveTo>
                <a:lnTo>
                  <a:pt x="0" y="0"/>
                </a:lnTo>
                <a:lnTo>
                  <a:pt x="417" y="0"/>
                </a:lnTo>
                <a:lnTo>
                  <a:pt x="208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4468680" y="5970600"/>
            <a:ext cx="180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4479840" y="5945040"/>
            <a:ext cx="10980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9" y="279"/>
                </a:moveTo>
                <a:lnTo>
                  <a:pt x="0" y="0"/>
                </a:lnTo>
                <a:lnTo>
                  <a:pt x="417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453564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4545000" y="5945040"/>
            <a:ext cx="1112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8" y="279"/>
                </a:moveTo>
                <a:lnTo>
                  <a:pt x="0" y="0"/>
                </a:lnTo>
                <a:lnTo>
                  <a:pt x="417" y="0"/>
                </a:lnTo>
                <a:lnTo>
                  <a:pt x="208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4600440" y="5970600"/>
            <a:ext cx="180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4611600" y="5945040"/>
            <a:ext cx="10980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9" y="279"/>
                </a:moveTo>
                <a:lnTo>
                  <a:pt x="0" y="0"/>
                </a:lnTo>
                <a:lnTo>
                  <a:pt x="417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4665600" y="5970600"/>
            <a:ext cx="180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4676760" y="5945040"/>
            <a:ext cx="1094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8" y="279"/>
                </a:moveTo>
                <a:lnTo>
                  <a:pt x="0" y="0"/>
                </a:lnTo>
                <a:lnTo>
                  <a:pt x="417" y="0"/>
                </a:lnTo>
                <a:lnTo>
                  <a:pt x="208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4732200" y="5970600"/>
            <a:ext cx="180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4741920" y="5945040"/>
            <a:ext cx="1112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9" y="279"/>
                </a:moveTo>
                <a:lnTo>
                  <a:pt x="0" y="0"/>
                </a:lnTo>
                <a:lnTo>
                  <a:pt x="417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4797360" y="5970600"/>
            <a:ext cx="180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4808520" y="5945040"/>
            <a:ext cx="1094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8" y="279"/>
                </a:moveTo>
                <a:lnTo>
                  <a:pt x="0" y="0"/>
                </a:lnTo>
                <a:lnTo>
                  <a:pt x="417" y="0"/>
                </a:lnTo>
                <a:lnTo>
                  <a:pt x="208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4863960" y="5970600"/>
            <a:ext cx="180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4873680" y="5945040"/>
            <a:ext cx="1112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9" y="279"/>
                </a:moveTo>
                <a:lnTo>
                  <a:pt x="0" y="0"/>
                </a:lnTo>
                <a:lnTo>
                  <a:pt x="417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4929120" y="5970600"/>
            <a:ext cx="180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4940280" y="5945040"/>
            <a:ext cx="1094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8" y="279"/>
                </a:moveTo>
                <a:lnTo>
                  <a:pt x="0" y="0"/>
                </a:lnTo>
                <a:lnTo>
                  <a:pt x="417" y="0"/>
                </a:lnTo>
                <a:lnTo>
                  <a:pt x="208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499428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5005440" y="5945040"/>
            <a:ext cx="1112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9" y="279"/>
                </a:moveTo>
                <a:lnTo>
                  <a:pt x="0" y="0"/>
                </a:lnTo>
                <a:lnTo>
                  <a:pt x="417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5060880" y="5970600"/>
            <a:ext cx="180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5072040" y="5945040"/>
            <a:ext cx="1094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8" y="279"/>
                </a:moveTo>
                <a:lnTo>
                  <a:pt x="0" y="0"/>
                </a:lnTo>
                <a:lnTo>
                  <a:pt x="417" y="0"/>
                </a:lnTo>
                <a:lnTo>
                  <a:pt x="208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512604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5137200" y="5945040"/>
            <a:ext cx="111240" cy="74880"/>
          </a:xfrm>
          <a:custGeom>
            <a:avLst/>
            <a:gdLst/>
            <a:ahLst/>
            <a:rect l="l" t="t" r="r" b="b"/>
            <a:pathLst>
              <a:path w="418" h="279">
                <a:moveTo>
                  <a:pt x="209" y="279"/>
                </a:moveTo>
                <a:lnTo>
                  <a:pt x="0" y="0"/>
                </a:lnTo>
                <a:lnTo>
                  <a:pt x="418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5192640" y="5970600"/>
            <a:ext cx="180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5202360" y="5945040"/>
            <a:ext cx="11088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9" y="279"/>
                </a:moveTo>
                <a:lnTo>
                  <a:pt x="0" y="0"/>
                </a:lnTo>
                <a:lnTo>
                  <a:pt x="417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525780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5268960" y="5945040"/>
            <a:ext cx="109440" cy="74880"/>
          </a:xfrm>
          <a:custGeom>
            <a:avLst/>
            <a:gdLst/>
            <a:ahLst/>
            <a:rect l="l" t="t" r="r" b="b"/>
            <a:pathLst>
              <a:path w="418" h="279">
                <a:moveTo>
                  <a:pt x="209" y="279"/>
                </a:moveTo>
                <a:lnTo>
                  <a:pt x="0" y="0"/>
                </a:lnTo>
                <a:lnTo>
                  <a:pt x="418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5324400" y="5970600"/>
            <a:ext cx="180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5334120" y="5945040"/>
            <a:ext cx="11088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9" y="279"/>
                </a:moveTo>
                <a:lnTo>
                  <a:pt x="0" y="0"/>
                </a:lnTo>
                <a:lnTo>
                  <a:pt x="417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538956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5400720" y="5945040"/>
            <a:ext cx="109440" cy="74880"/>
          </a:xfrm>
          <a:custGeom>
            <a:avLst/>
            <a:gdLst/>
            <a:ahLst/>
            <a:rect l="l" t="t" r="r" b="b"/>
            <a:pathLst>
              <a:path w="418" h="279">
                <a:moveTo>
                  <a:pt x="209" y="279"/>
                </a:moveTo>
                <a:lnTo>
                  <a:pt x="0" y="0"/>
                </a:lnTo>
                <a:lnTo>
                  <a:pt x="418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5456160" y="5970600"/>
            <a:ext cx="180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5465880" y="5945040"/>
            <a:ext cx="11088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9" y="279"/>
                </a:moveTo>
                <a:lnTo>
                  <a:pt x="0" y="0"/>
                </a:lnTo>
                <a:lnTo>
                  <a:pt x="417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552132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5532480" y="5945040"/>
            <a:ext cx="109440" cy="74880"/>
          </a:xfrm>
          <a:custGeom>
            <a:avLst/>
            <a:gdLst/>
            <a:ahLst/>
            <a:rect l="l" t="t" r="r" b="b"/>
            <a:pathLst>
              <a:path w="418" h="279">
                <a:moveTo>
                  <a:pt x="209" y="279"/>
                </a:moveTo>
                <a:lnTo>
                  <a:pt x="0" y="0"/>
                </a:lnTo>
                <a:lnTo>
                  <a:pt x="418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558648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5597640" y="5945040"/>
            <a:ext cx="11088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9" y="279"/>
                </a:moveTo>
                <a:lnTo>
                  <a:pt x="0" y="0"/>
                </a:lnTo>
                <a:lnTo>
                  <a:pt x="417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565308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5664240" y="5945040"/>
            <a:ext cx="1094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8" y="279"/>
                </a:moveTo>
                <a:lnTo>
                  <a:pt x="0" y="0"/>
                </a:lnTo>
                <a:lnTo>
                  <a:pt x="417" y="0"/>
                </a:lnTo>
                <a:lnTo>
                  <a:pt x="208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571824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5729400" y="5945040"/>
            <a:ext cx="11088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9" y="279"/>
                </a:moveTo>
                <a:lnTo>
                  <a:pt x="0" y="0"/>
                </a:lnTo>
                <a:lnTo>
                  <a:pt x="417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578484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5794200" y="5945040"/>
            <a:ext cx="1112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8" y="279"/>
                </a:moveTo>
                <a:lnTo>
                  <a:pt x="0" y="0"/>
                </a:lnTo>
                <a:lnTo>
                  <a:pt x="417" y="0"/>
                </a:lnTo>
                <a:lnTo>
                  <a:pt x="208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585000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5861160" y="5945040"/>
            <a:ext cx="1094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9" y="279"/>
                </a:moveTo>
                <a:lnTo>
                  <a:pt x="0" y="0"/>
                </a:lnTo>
                <a:lnTo>
                  <a:pt x="417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591660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5925960" y="5945040"/>
            <a:ext cx="1112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8" y="279"/>
                </a:moveTo>
                <a:lnTo>
                  <a:pt x="0" y="0"/>
                </a:lnTo>
                <a:lnTo>
                  <a:pt x="417" y="0"/>
                </a:lnTo>
                <a:lnTo>
                  <a:pt x="208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598176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5992920" y="5945040"/>
            <a:ext cx="109440" cy="74880"/>
          </a:xfrm>
          <a:custGeom>
            <a:avLst/>
            <a:gdLst/>
            <a:ahLst/>
            <a:rect l="l" t="t" r="r" b="b"/>
            <a:pathLst>
              <a:path w="418" h="279">
                <a:moveTo>
                  <a:pt x="209" y="279"/>
                </a:moveTo>
                <a:lnTo>
                  <a:pt x="0" y="0"/>
                </a:lnTo>
                <a:lnTo>
                  <a:pt x="418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604692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6058080" y="5945040"/>
            <a:ext cx="11088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8" y="279"/>
                </a:moveTo>
                <a:lnTo>
                  <a:pt x="0" y="0"/>
                </a:lnTo>
                <a:lnTo>
                  <a:pt x="417" y="0"/>
                </a:lnTo>
                <a:lnTo>
                  <a:pt x="208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611352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6124680" y="5945040"/>
            <a:ext cx="109440" cy="74880"/>
          </a:xfrm>
          <a:custGeom>
            <a:avLst/>
            <a:gdLst/>
            <a:ahLst/>
            <a:rect l="l" t="t" r="r" b="b"/>
            <a:pathLst>
              <a:path w="418" h="279">
                <a:moveTo>
                  <a:pt x="209" y="279"/>
                </a:moveTo>
                <a:lnTo>
                  <a:pt x="0" y="0"/>
                </a:lnTo>
                <a:lnTo>
                  <a:pt x="418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617868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6189840" y="5945040"/>
            <a:ext cx="11088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8" y="279"/>
                </a:moveTo>
                <a:lnTo>
                  <a:pt x="0" y="0"/>
                </a:lnTo>
                <a:lnTo>
                  <a:pt x="417" y="0"/>
                </a:lnTo>
                <a:lnTo>
                  <a:pt x="208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624528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6254640" y="5945040"/>
            <a:ext cx="111240" cy="74880"/>
          </a:xfrm>
          <a:custGeom>
            <a:avLst/>
            <a:gdLst/>
            <a:ahLst/>
            <a:rect l="l" t="t" r="r" b="b"/>
            <a:pathLst>
              <a:path w="418" h="279">
                <a:moveTo>
                  <a:pt x="209" y="279"/>
                </a:moveTo>
                <a:lnTo>
                  <a:pt x="0" y="0"/>
                </a:lnTo>
                <a:lnTo>
                  <a:pt x="418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631044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321600" y="5945040"/>
            <a:ext cx="11088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9" y="279"/>
                </a:moveTo>
                <a:lnTo>
                  <a:pt x="0" y="0"/>
                </a:lnTo>
                <a:lnTo>
                  <a:pt x="417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637704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6386400" y="5945040"/>
            <a:ext cx="1112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8" y="279"/>
                </a:moveTo>
                <a:lnTo>
                  <a:pt x="0" y="0"/>
                </a:lnTo>
                <a:lnTo>
                  <a:pt x="417" y="0"/>
                </a:lnTo>
                <a:lnTo>
                  <a:pt x="208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644220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6453360" y="5945040"/>
            <a:ext cx="1094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9" y="279"/>
                </a:moveTo>
                <a:lnTo>
                  <a:pt x="0" y="0"/>
                </a:lnTo>
                <a:lnTo>
                  <a:pt x="417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650880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6518160" y="5945040"/>
            <a:ext cx="1112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8" y="279"/>
                </a:moveTo>
                <a:lnTo>
                  <a:pt x="0" y="0"/>
                </a:lnTo>
                <a:lnTo>
                  <a:pt x="417" y="0"/>
                </a:lnTo>
                <a:lnTo>
                  <a:pt x="208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657396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6585120" y="5945040"/>
            <a:ext cx="1094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9" y="279"/>
                </a:moveTo>
                <a:lnTo>
                  <a:pt x="0" y="0"/>
                </a:lnTo>
                <a:lnTo>
                  <a:pt x="417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6638760" y="5970600"/>
            <a:ext cx="180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6649920" y="5945040"/>
            <a:ext cx="1112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8" y="279"/>
                </a:moveTo>
                <a:lnTo>
                  <a:pt x="0" y="0"/>
                </a:lnTo>
                <a:lnTo>
                  <a:pt x="417" y="0"/>
                </a:lnTo>
                <a:lnTo>
                  <a:pt x="208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670572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6716880" y="5945040"/>
            <a:ext cx="1094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9" y="279"/>
                </a:moveTo>
                <a:lnTo>
                  <a:pt x="0" y="0"/>
                </a:lnTo>
                <a:lnTo>
                  <a:pt x="417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6770520" y="5970600"/>
            <a:ext cx="180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6781680" y="5945040"/>
            <a:ext cx="10980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8" y="279"/>
                </a:moveTo>
                <a:lnTo>
                  <a:pt x="0" y="0"/>
                </a:lnTo>
                <a:lnTo>
                  <a:pt x="417" y="0"/>
                </a:lnTo>
                <a:lnTo>
                  <a:pt x="208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683748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6846840" y="5945040"/>
            <a:ext cx="1112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9" y="279"/>
                </a:moveTo>
                <a:lnTo>
                  <a:pt x="0" y="0"/>
                </a:lnTo>
                <a:lnTo>
                  <a:pt x="417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6902280" y="5970600"/>
            <a:ext cx="180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6913440" y="5945040"/>
            <a:ext cx="1112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8" y="279"/>
                </a:moveTo>
                <a:lnTo>
                  <a:pt x="0" y="0"/>
                </a:lnTo>
                <a:lnTo>
                  <a:pt x="417" y="0"/>
                </a:lnTo>
                <a:lnTo>
                  <a:pt x="208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696924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6978600" y="5945040"/>
            <a:ext cx="111240" cy="74880"/>
          </a:xfrm>
          <a:custGeom>
            <a:avLst/>
            <a:gdLst/>
            <a:ahLst/>
            <a:rect l="l" t="t" r="r" b="b"/>
            <a:pathLst>
              <a:path w="418" h="279">
                <a:moveTo>
                  <a:pt x="209" y="279"/>
                </a:moveTo>
                <a:lnTo>
                  <a:pt x="0" y="0"/>
                </a:lnTo>
                <a:lnTo>
                  <a:pt x="418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7034040" y="5970600"/>
            <a:ext cx="180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7045200" y="5945040"/>
            <a:ext cx="10980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8" y="279"/>
                </a:moveTo>
                <a:lnTo>
                  <a:pt x="0" y="0"/>
                </a:lnTo>
                <a:lnTo>
                  <a:pt x="417" y="0"/>
                </a:lnTo>
                <a:lnTo>
                  <a:pt x="208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710100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7110360" y="5945040"/>
            <a:ext cx="111240" cy="74880"/>
          </a:xfrm>
          <a:custGeom>
            <a:avLst/>
            <a:gdLst/>
            <a:ahLst/>
            <a:rect l="l" t="t" r="r" b="b"/>
            <a:pathLst>
              <a:path w="418" h="279">
                <a:moveTo>
                  <a:pt x="209" y="279"/>
                </a:moveTo>
                <a:lnTo>
                  <a:pt x="0" y="0"/>
                </a:lnTo>
                <a:lnTo>
                  <a:pt x="418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7165800" y="5970600"/>
            <a:ext cx="180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7176960" y="5945040"/>
            <a:ext cx="10980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9" y="279"/>
                </a:moveTo>
                <a:lnTo>
                  <a:pt x="0" y="0"/>
                </a:lnTo>
                <a:lnTo>
                  <a:pt x="417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7230960" y="5970600"/>
            <a:ext cx="180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7242120" y="5945040"/>
            <a:ext cx="111240" cy="74880"/>
          </a:xfrm>
          <a:custGeom>
            <a:avLst/>
            <a:gdLst/>
            <a:ahLst/>
            <a:rect l="l" t="t" r="r" b="b"/>
            <a:pathLst>
              <a:path w="418" h="279">
                <a:moveTo>
                  <a:pt x="209" y="279"/>
                </a:moveTo>
                <a:lnTo>
                  <a:pt x="0" y="0"/>
                </a:lnTo>
                <a:lnTo>
                  <a:pt x="418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7297560" y="5970600"/>
            <a:ext cx="180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7307280" y="5945040"/>
            <a:ext cx="1112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9" y="279"/>
                </a:moveTo>
                <a:lnTo>
                  <a:pt x="0" y="0"/>
                </a:lnTo>
                <a:lnTo>
                  <a:pt x="417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7362720" y="5970600"/>
            <a:ext cx="180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7373880" y="5945040"/>
            <a:ext cx="109440" cy="74880"/>
          </a:xfrm>
          <a:custGeom>
            <a:avLst/>
            <a:gdLst/>
            <a:ahLst/>
            <a:rect l="l" t="t" r="r" b="b"/>
            <a:pathLst>
              <a:path w="418" h="279">
                <a:moveTo>
                  <a:pt x="209" y="279"/>
                </a:moveTo>
                <a:lnTo>
                  <a:pt x="0" y="0"/>
                </a:lnTo>
                <a:lnTo>
                  <a:pt x="418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742968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7439040" y="5945040"/>
            <a:ext cx="1112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9" y="279"/>
                </a:moveTo>
                <a:lnTo>
                  <a:pt x="0" y="0"/>
                </a:lnTo>
                <a:lnTo>
                  <a:pt x="417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7494480" y="5970600"/>
            <a:ext cx="180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7505640" y="5945040"/>
            <a:ext cx="1094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8" y="279"/>
                </a:moveTo>
                <a:lnTo>
                  <a:pt x="0" y="0"/>
                </a:lnTo>
                <a:lnTo>
                  <a:pt x="417" y="0"/>
                </a:lnTo>
                <a:lnTo>
                  <a:pt x="208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756144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7570800" y="5945040"/>
            <a:ext cx="1112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9" y="279"/>
                </a:moveTo>
                <a:lnTo>
                  <a:pt x="0" y="0"/>
                </a:lnTo>
                <a:lnTo>
                  <a:pt x="417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7626240" y="5970600"/>
            <a:ext cx="180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7637400" y="5945040"/>
            <a:ext cx="1094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8" y="279"/>
                </a:moveTo>
                <a:lnTo>
                  <a:pt x="0" y="0"/>
                </a:lnTo>
                <a:lnTo>
                  <a:pt x="417" y="0"/>
                </a:lnTo>
                <a:lnTo>
                  <a:pt x="208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7693200" y="5970600"/>
            <a:ext cx="144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7702560" y="5945040"/>
            <a:ext cx="1112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9" y="279"/>
                </a:moveTo>
                <a:lnTo>
                  <a:pt x="0" y="0"/>
                </a:lnTo>
                <a:lnTo>
                  <a:pt x="417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7758000" y="5970600"/>
            <a:ext cx="180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7769160" y="5945040"/>
            <a:ext cx="1094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8" y="279"/>
                </a:moveTo>
                <a:lnTo>
                  <a:pt x="0" y="0"/>
                </a:lnTo>
                <a:lnTo>
                  <a:pt x="417" y="0"/>
                </a:lnTo>
                <a:lnTo>
                  <a:pt x="208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7823160" y="5970600"/>
            <a:ext cx="180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7834320" y="5945040"/>
            <a:ext cx="1112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9" y="279"/>
                </a:moveTo>
                <a:lnTo>
                  <a:pt x="0" y="0"/>
                </a:lnTo>
                <a:lnTo>
                  <a:pt x="417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7889760" y="5970600"/>
            <a:ext cx="180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7426440" y="2563920"/>
            <a:ext cx="109440" cy="74520"/>
          </a:xfrm>
          <a:custGeom>
            <a:avLst/>
            <a:gdLst/>
            <a:ahLst/>
            <a:rect l="l" t="t" r="r" b="b"/>
            <a:pathLst>
              <a:path w="417" h="280">
                <a:moveTo>
                  <a:pt x="208" y="280"/>
                </a:moveTo>
                <a:lnTo>
                  <a:pt x="0" y="0"/>
                </a:lnTo>
                <a:lnTo>
                  <a:pt x="417" y="0"/>
                </a:lnTo>
                <a:lnTo>
                  <a:pt x="208" y="280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7480440" y="2589120"/>
            <a:ext cx="1440" cy="180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6555960" y="2690640"/>
            <a:ext cx="575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3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, N=5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1598760" y="5923080"/>
            <a:ext cx="8244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 flipV="1">
            <a:off x="1598760" y="5921280"/>
            <a:ext cx="824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1665360" y="5923080"/>
            <a:ext cx="8244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 flipV="1">
            <a:off x="1665360" y="5922720"/>
            <a:ext cx="8244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1730520" y="5921280"/>
            <a:ext cx="824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 flipV="1">
            <a:off x="1730520" y="5921280"/>
            <a:ext cx="824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1795320" y="5918040"/>
            <a:ext cx="8424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 flipV="1">
            <a:off x="1795320" y="5916240"/>
            <a:ext cx="842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1862280" y="5918040"/>
            <a:ext cx="824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 flipV="1">
            <a:off x="1862280" y="5918040"/>
            <a:ext cx="824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1927080" y="5919840"/>
            <a:ext cx="8424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 flipV="1">
            <a:off x="1927080" y="5918040"/>
            <a:ext cx="842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1994040" y="5919840"/>
            <a:ext cx="8244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 flipV="1">
            <a:off x="1994040" y="5918040"/>
            <a:ext cx="824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2058840" y="5919840"/>
            <a:ext cx="8424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 flipV="1">
            <a:off x="2058840" y="5918040"/>
            <a:ext cx="842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2125800" y="5918040"/>
            <a:ext cx="824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 flipV="1">
            <a:off x="2125800" y="5918040"/>
            <a:ext cx="824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2190600" y="5921280"/>
            <a:ext cx="8280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 flipV="1">
            <a:off x="2190600" y="5921280"/>
            <a:ext cx="8280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2257560" y="592452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 flipV="1">
            <a:off x="2257560" y="592416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2322360" y="5924520"/>
            <a:ext cx="8280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 flipV="1">
            <a:off x="2322360" y="5922720"/>
            <a:ext cx="8280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2387520" y="5925960"/>
            <a:ext cx="8424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 flipV="1">
            <a:off x="2387520" y="5924160"/>
            <a:ext cx="842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2454120" y="5924520"/>
            <a:ext cx="8280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 flipV="1">
            <a:off x="2454120" y="5924160"/>
            <a:ext cx="8280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2519280" y="5924520"/>
            <a:ext cx="8280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 flipV="1">
            <a:off x="2519280" y="5924160"/>
            <a:ext cx="8280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2585880" y="5924520"/>
            <a:ext cx="8280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 flipV="1">
            <a:off x="2585880" y="5924160"/>
            <a:ext cx="8280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2651040" y="5924520"/>
            <a:ext cx="8424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 flipV="1">
            <a:off x="2651040" y="5922720"/>
            <a:ext cx="842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>
            <a:off x="2717640" y="5924520"/>
            <a:ext cx="8280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 flipV="1">
            <a:off x="2717640" y="5922720"/>
            <a:ext cx="8280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2782800" y="5904000"/>
            <a:ext cx="8280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 flipV="1">
            <a:off x="2782800" y="5903640"/>
            <a:ext cx="8280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2849400" y="5907240"/>
            <a:ext cx="8280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 flipV="1">
            <a:off x="2849400" y="5907240"/>
            <a:ext cx="82800" cy="727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2914560" y="5908680"/>
            <a:ext cx="8280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 flipV="1">
            <a:off x="2914560" y="5908320"/>
            <a:ext cx="8280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2979720" y="5925960"/>
            <a:ext cx="842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 flipV="1">
            <a:off x="2979720" y="5925600"/>
            <a:ext cx="8424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3046320" y="5925960"/>
            <a:ext cx="8280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 flipV="1">
            <a:off x="3046320" y="5925960"/>
            <a:ext cx="8280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3111480" y="5925960"/>
            <a:ext cx="824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 flipV="1">
            <a:off x="3111480" y="5925960"/>
            <a:ext cx="824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3178080" y="5925960"/>
            <a:ext cx="8280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 flipV="1">
            <a:off x="3178080" y="5925960"/>
            <a:ext cx="8280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3243240" y="5925960"/>
            <a:ext cx="824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 flipV="1">
            <a:off x="3243240" y="5925960"/>
            <a:ext cx="824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3309840" y="5923080"/>
            <a:ext cx="8280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 flipV="1">
            <a:off x="3309840" y="5922720"/>
            <a:ext cx="8280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3375000" y="5924520"/>
            <a:ext cx="8244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 flipV="1">
            <a:off x="3375000" y="592272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3441600" y="5925960"/>
            <a:ext cx="8280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 flipV="1">
            <a:off x="3441600" y="5924160"/>
            <a:ext cx="8280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3506760" y="592308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 flipV="1">
            <a:off x="3506760" y="5922720"/>
            <a:ext cx="8244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3571920" y="5919840"/>
            <a:ext cx="842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 flipV="1">
            <a:off x="3571920" y="5919480"/>
            <a:ext cx="842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3638520" y="5921280"/>
            <a:ext cx="8244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 flipV="1">
            <a:off x="3638520" y="591948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3703680" y="5918040"/>
            <a:ext cx="824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 flipV="1">
            <a:off x="3703680" y="5917680"/>
            <a:ext cx="8244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3770280" y="5924520"/>
            <a:ext cx="8244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 flipV="1">
            <a:off x="3770280" y="5924160"/>
            <a:ext cx="8244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3835440" y="5925960"/>
            <a:ext cx="8244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 flipV="1">
            <a:off x="3835440" y="592416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3902040" y="5925960"/>
            <a:ext cx="8244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 flipV="1">
            <a:off x="3902040" y="592416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3967200" y="592308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 flipV="1">
            <a:off x="3967200" y="5922720"/>
            <a:ext cx="8244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4032360" y="5923080"/>
            <a:ext cx="8388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 flipV="1">
            <a:off x="4032360" y="5921280"/>
            <a:ext cx="8388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4098960" y="591984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 flipV="1">
            <a:off x="4098960" y="591948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4164120" y="5927760"/>
            <a:ext cx="8388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 flipV="1">
            <a:off x="4164120" y="5927400"/>
            <a:ext cx="8388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4230720" y="5929200"/>
            <a:ext cx="824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 flipV="1">
            <a:off x="4230720" y="5928840"/>
            <a:ext cx="8244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4295880" y="592776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 flipV="1">
            <a:off x="4295880" y="592740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4362480" y="5911920"/>
            <a:ext cx="8244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 flipV="1">
            <a:off x="4362480" y="5911560"/>
            <a:ext cx="8244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4427640" y="590868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 flipV="1">
            <a:off x="4427640" y="590832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4494240" y="590400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 flipV="1">
            <a:off x="4494240" y="590364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4559400" y="5925960"/>
            <a:ext cx="824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 flipV="1">
            <a:off x="4559400" y="5925960"/>
            <a:ext cx="824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4624560" y="5927760"/>
            <a:ext cx="8388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 flipV="1">
            <a:off x="4624560" y="5927400"/>
            <a:ext cx="8388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4691160" y="5925960"/>
            <a:ext cx="824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 flipV="1">
            <a:off x="4691160" y="5925960"/>
            <a:ext cx="824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4756320" y="592452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 flipV="1">
            <a:off x="4756320" y="592416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4822920" y="5925960"/>
            <a:ext cx="8244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 flipV="1">
            <a:off x="4822920" y="592416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4888080" y="5925960"/>
            <a:ext cx="8244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 flipV="1">
            <a:off x="4888080" y="592416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4952880" y="5923080"/>
            <a:ext cx="842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 flipV="1">
            <a:off x="4952880" y="5922720"/>
            <a:ext cx="842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5019840" y="591984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 flipV="1">
            <a:off x="5019840" y="591948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5084640" y="5923080"/>
            <a:ext cx="842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 flipV="1">
            <a:off x="5084640" y="5922720"/>
            <a:ext cx="8424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5151600" y="5924520"/>
            <a:ext cx="8244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 flipV="1">
            <a:off x="5151600" y="5924160"/>
            <a:ext cx="8244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5216400" y="5924520"/>
            <a:ext cx="8280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 flipV="1">
            <a:off x="5216400" y="5924160"/>
            <a:ext cx="8280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5283360" y="5925960"/>
            <a:ext cx="824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 flipV="1">
            <a:off x="5283360" y="5925960"/>
            <a:ext cx="824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5348160" y="5927760"/>
            <a:ext cx="8280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 flipV="1">
            <a:off x="5348160" y="5925960"/>
            <a:ext cx="8280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5413320" y="5927760"/>
            <a:ext cx="842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 flipV="1">
            <a:off x="5413320" y="5927400"/>
            <a:ext cx="8424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5479920" y="5927760"/>
            <a:ext cx="8280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 flipV="1">
            <a:off x="5479920" y="5927400"/>
            <a:ext cx="8280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5545080" y="5924520"/>
            <a:ext cx="842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 flipV="1">
            <a:off x="5545080" y="5924160"/>
            <a:ext cx="842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5611680" y="5927760"/>
            <a:ext cx="8280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 flipV="1">
            <a:off x="5611680" y="5927400"/>
            <a:ext cx="8280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5676840" y="5925960"/>
            <a:ext cx="8424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 flipV="1">
            <a:off x="5676840" y="5924160"/>
            <a:ext cx="842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5743440" y="5925960"/>
            <a:ext cx="8280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 flipV="1">
            <a:off x="5743440" y="5925960"/>
            <a:ext cx="8280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5808600" y="592776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 flipV="1">
            <a:off x="5808600" y="592740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5875200" y="5924520"/>
            <a:ext cx="8280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 flipV="1">
            <a:off x="5875200" y="5924160"/>
            <a:ext cx="8280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5940360" y="591660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 flipV="1">
            <a:off x="5940360" y="591624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6005520" y="5921280"/>
            <a:ext cx="842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 flipV="1">
            <a:off x="6005520" y="5921280"/>
            <a:ext cx="842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6072120" y="5919840"/>
            <a:ext cx="8244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 flipV="1">
            <a:off x="6072120" y="5918040"/>
            <a:ext cx="824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6137280" y="5923080"/>
            <a:ext cx="842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 flipV="1">
            <a:off x="6137280" y="5922720"/>
            <a:ext cx="842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6203880" y="5923080"/>
            <a:ext cx="8280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 flipV="1">
            <a:off x="6203880" y="5922720"/>
            <a:ext cx="8280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6269040" y="592452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 flipV="1">
            <a:off x="6269040" y="592416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6335640" y="5925960"/>
            <a:ext cx="8280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 flipV="1">
            <a:off x="6335640" y="5925960"/>
            <a:ext cx="8280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6400800" y="5925960"/>
            <a:ext cx="824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 flipV="1">
            <a:off x="6400800" y="5925960"/>
            <a:ext cx="824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6467400" y="5927760"/>
            <a:ext cx="8280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 flipV="1">
            <a:off x="6467400" y="5927400"/>
            <a:ext cx="8280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6532560" y="592308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 flipV="1">
            <a:off x="6532560" y="592272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6597720" y="5923080"/>
            <a:ext cx="842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 flipV="1">
            <a:off x="6597720" y="5922720"/>
            <a:ext cx="842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6664320" y="592776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 flipV="1">
            <a:off x="6664320" y="5927400"/>
            <a:ext cx="8244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6729480" y="5929200"/>
            <a:ext cx="8424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 flipV="1">
            <a:off x="6729480" y="5927400"/>
            <a:ext cx="842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6796080" y="5929200"/>
            <a:ext cx="8244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 flipV="1">
            <a:off x="6796080" y="592740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6861240" y="592776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 flipV="1">
            <a:off x="6861240" y="592740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6927840" y="5925960"/>
            <a:ext cx="8244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 flipV="1">
            <a:off x="6927840" y="592416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6993000" y="5925960"/>
            <a:ext cx="824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 flipV="1">
            <a:off x="6993000" y="5925960"/>
            <a:ext cx="824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7059600" y="592776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 flipV="1">
            <a:off x="7059600" y="592740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7124760" y="5925960"/>
            <a:ext cx="824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 flipV="1">
            <a:off x="7124760" y="5925960"/>
            <a:ext cx="824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7189920" y="5924520"/>
            <a:ext cx="8388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 flipV="1">
            <a:off x="7189920" y="5924160"/>
            <a:ext cx="8388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7256520" y="5921280"/>
            <a:ext cx="824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 flipV="1">
            <a:off x="7256520" y="5921280"/>
            <a:ext cx="824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7321680" y="592776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 flipV="1">
            <a:off x="7321680" y="592740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7388280" y="5929200"/>
            <a:ext cx="824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 flipV="1">
            <a:off x="7388280" y="5929200"/>
            <a:ext cx="824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7453440" y="5929200"/>
            <a:ext cx="824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 flipV="1">
            <a:off x="7453440" y="5929200"/>
            <a:ext cx="824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7518240" y="5927760"/>
            <a:ext cx="842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 flipV="1">
            <a:off x="7518240" y="5927400"/>
            <a:ext cx="842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7585200" y="5929200"/>
            <a:ext cx="824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 flipV="1">
            <a:off x="7585200" y="5929200"/>
            <a:ext cx="824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7651800" y="5925960"/>
            <a:ext cx="824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 flipV="1">
            <a:off x="7651800" y="5925960"/>
            <a:ext cx="82440" cy="748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7716960" y="592776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 flipV="1">
            <a:off x="7716960" y="592740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7781760" y="5927760"/>
            <a:ext cx="842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 flipV="1">
            <a:off x="7781760" y="5927400"/>
            <a:ext cx="842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7848720" y="5927760"/>
            <a:ext cx="824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 flipV="1">
            <a:off x="7848720" y="5927400"/>
            <a:ext cx="8244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7439040" y="2746440"/>
            <a:ext cx="84240" cy="7452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 flipV="1">
            <a:off x="7439040" y="2746080"/>
            <a:ext cx="84240" cy="73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613800" y="3306600"/>
            <a:ext cx="377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40458c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C933-6565-4CE2-916F-EA02FC0040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atistical gain versus</a:t>
            </a:r>
            <a:r>
              <a:rPr b="0" i="1" lang="en-US" sz="4400" spc="-1" strike="noStrike">
                <a:solidFill>
                  <a:srgbClr val="660066"/>
                </a:solidFill>
                <a:latin typeface="Times New Roman"/>
              </a:rPr>
              <a:t> 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3" name=""/>
          <p:cNvSpPr/>
          <p:nvPr/>
        </p:nvSpPr>
        <p:spPr>
          <a:xfrm>
            <a:off x="1625760" y="602784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 flipH="1">
            <a:off x="7805520" y="602784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1392120" y="59356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1625760" y="557208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 flipH="1">
            <a:off x="7805520" y="557208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1392120" y="5479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1625760" y="511488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 flipH="1">
            <a:off x="7805520" y="511488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1392120" y="50245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1625760" y="465948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 flipH="1">
            <a:off x="7805520" y="465948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1392120" y="45673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1625760" y="420372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 flipH="1">
            <a:off x="7805520" y="420372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1392120" y="41115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1625760" y="374796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 flipH="1">
            <a:off x="7805520" y="374796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1294920" y="365616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1625760" y="329256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 flipH="1">
            <a:off x="7805520" y="329256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1294920" y="320040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1625760" y="283680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 flipH="1">
            <a:off x="7805520" y="283680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1294920" y="274464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1625760" y="23814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 flipH="1">
            <a:off x="7805520" y="23814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1294920" y="228924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1625760" y="192564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 flipH="1">
            <a:off x="7805520" y="192564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1294920" y="18334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 flipV="1">
            <a:off x="1827360" y="598608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1827360" y="192564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1780920" y="61293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 flipV="1">
            <a:off x="2228760" y="598608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2228760" y="192564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2182680" y="61293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 flipV="1">
            <a:off x="3032280" y="598608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3032280" y="192564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2985840" y="61293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 flipV="1">
            <a:off x="3835440" y="598608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3835440" y="192564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3743640" y="612936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 flipV="1">
            <a:off x="4638600" y="598608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4638600" y="192564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4546800" y="612936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 flipV="1">
            <a:off x="5442120" y="598608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5442120" y="192564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5349960" y="612936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 flipV="1">
            <a:off x="6245280" y="598608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6245280" y="192564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6153480" y="612936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 flipV="1">
            <a:off x="7650000" y="598608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7650000" y="192564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7558200" y="612936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1625760" y="1925640"/>
            <a:ext cx="6225840" cy="4102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 rot="16200000">
            <a:off x="1230120" y="38858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4646520" y="642132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6402240" y="5214960"/>
            <a:ext cx="63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=0.800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7227720" y="5307120"/>
            <a:ext cx="430560" cy="144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1827360" y="1994040"/>
            <a:ext cx="5822640" cy="1071360"/>
          </a:xfrm>
          <a:custGeom>
            <a:avLst/>
            <a:gdLst/>
            <a:ahLst/>
            <a:rect l="l" t="t" r="r" b="b"/>
            <a:pathLst>
              <a:path w="22010" h="4048">
                <a:moveTo>
                  <a:pt x="0" y="0"/>
                </a:moveTo>
                <a:lnTo>
                  <a:pt x="0" y="0"/>
                </a:lnTo>
                <a:lnTo>
                  <a:pt x="1517" y="2067"/>
                </a:lnTo>
                <a:lnTo>
                  <a:pt x="4554" y="2670"/>
                </a:lnTo>
                <a:lnTo>
                  <a:pt x="7590" y="3445"/>
                </a:lnTo>
                <a:lnTo>
                  <a:pt x="10624" y="3360"/>
                </a:lnTo>
                <a:lnTo>
                  <a:pt x="13660" y="4048"/>
                </a:lnTo>
                <a:lnTo>
                  <a:pt x="16697" y="3790"/>
                </a:lnTo>
                <a:lnTo>
                  <a:pt x="22010" y="3101"/>
                </a:lnTo>
              </a:path>
            </a:pathLst>
          </a:cu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1785960" y="1957320"/>
            <a:ext cx="82440" cy="7308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 flipV="1">
            <a:off x="1785960" y="1955520"/>
            <a:ext cx="82440" cy="7452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2187720" y="2503440"/>
            <a:ext cx="82440" cy="7452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 flipV="1">
            <a:off x="2187720" y="2503080"/>
            <a:ext cx="82440" cy="7452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2990880" y="2664000"/>
            <a:ext cx="82440" cy="7272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 flipV="1">
            <a:off x="2990880" y="2661840"/>
            <a:ext cx="82440" cy="7452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3794040" y="2868480"/>
            <a:ext cx="82800" cy="7488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 flipV="1">
            <a:off x="3794040" y="2868120"/>
            <a:ext cx="82800" cy="7308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4597560" y="2846520"/>
            <a:ext cx="82440" cy="7272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 flipV="1">
            <a:off x="4597560" y="2844360"/>
            <a:ext cx="82440" cy="7452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5400720" y="3027240"/>
            <a:ext cx="82440" cy="7488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 flipV="1">
            <a:off x="5400720" y="3027240"/>
            <a:ext cx="82440" cy="7488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6203880" y="2959200"/>
            <a:ext cx="82800" cy="7452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 flipV="1">
            <a:off x="6203880" y="2958840"/>
            <a:ext cx="82800" cy="7452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7608960" y="2776680"/>
            <a:ext cx="82440" cy="7452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 flipV="1">
            <a:off x="7608960" y="2776320"/>
            <a:ext cx="82440" cy="7452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7400880" y="5268960"/>
            <a:ext cx="84240" cy="7452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 flipV="1">
            <a:off x="7400880" y="5268600"/>
            <a:ext cx="84240" cy="74520"/>
          </a:xfrm>
          <a:prstGeom prst="line">
            <a:avLst/>
          </a:prstGeom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6402600" y="5408640"/>
            <a:ext cx="68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=0.900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7227720" y="5500800"/>
            <a:ext cx="43056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1827360" y="2449440"/>
            <a:ext cx="5822640" cy="865440"/>
          </a:xfrm>
          <a:custGeom>
            <a:avLst/>
            <a:gdLst/>
            <a:ahLst/>
            <a:rect l="l" t="t" r="r" b="b"/>
            <a:pathLst>
              <a:path w="22010" h="3273">
                <a:moveTo>
                  <a:pt x="0" y="0"/>
                </a:moveTo>
                <a:lnTo>
                  <a:pt x="0" y="0"/>
                </a:lnTo>
                <a:lnTo>
                  <a:pt x="1517" y="1722"/>
                </a:lnTo>
                <a:lnTo>
                  <a:pt x="4554" y="2412"/>
                </a:lnTo>
                <a:lnTo>
                  <a:pt x="7590" y="3015"/>
                </a:lnTo>
                <a:lnTo>
                  <a:pt x="10624" y="2842"/>
                </a:lnTo>
                <a:lnTo>
                  <a:pt x="13660" y="3273"/>
                </a:lnTo>
                <a:lnTo>
                  <a:pt x="16697" y="3187"/>
                </a:lnTo>
                <a:lnTo>
                  <a:pt x="22010" y="2412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1771560" y="2424240"/>
            <a:ext cx="111240" cy="7452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9" y="279"/>
                </a:moveTo>
                <a:lnTo>
                  <a:pt x="0" y="0"/>
                </a:lnTo>
                <a:lnTo>
                  <a:pt x="417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1827360" y="244944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2173320" y="2881440"/>
            <a:ext cx="111240" cy="72720"/>
          </a:xfrm>
          <a:custGeom>
            <a:avLst/>
            <a:gdLst/>
            <a:ahLst/>
            <a:rect l="l" t="t" r="r" b="b"/>
            <a:pathLst>
              <a:path w="418" h="279">
                <a:moveTo>
                  <a:pt x="209" y="279"/>
                </a:moveTo>
                <a:lnTo>
                  <a:pt x="0" y="0"/>
                </a:lnTo>
                <a:lnTo>
                  <a:pt x="418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2228760" y="290520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2976480" y="3063960"/>
            <a:ext cx="111240" cy="73080"/>
          </a:xfrm>
          <a:custGeom>
            <a:avLst/>
            <a:gdLst/>
            <a:ahLst/>
            <a:rect l="l" t="t" r="r" b="b"/>
            <a:pathLst>
              <a:path w="418" h="280">
                <a:moveTo>
                  <a:pt x="209" y="280"/>
                </a:moveTo>
                <a:lnTo>
                  <a:pt x="0" y="0"/>
                </a:lnTo>
                <a:lnTo>
                  <a:pt x="418" y="0"/>
                </a:lnTo>
                <a:lnTo>
                  <a:pt x="209" y="28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3032280" y="308772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3780000" y="3222720"/>
            <a:ext cx="110880" cy="7452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9" y="279"/>
                </a:moveTo>
                <a:lnTo>
                  <a:pt x="0" y="0"/>
                </a:lnTo>
                <a:lnTo>
                  <a:pt x="417" y="0"/>
                </a:lnTo>
                <a:lnTo>
                  <a:pt x="209" y="279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3835440" y="324648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4583160" y="3176640"/>
            <a:ext cx="111240" cy="7452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8" y="279"/>
                </a:moveTo>
                <a:lnTo>
                  <a:pt x="0" y="0"/>
                </a:lnTo>
                <a:lnTo>
                  <a:pt x="417" y="0"/>
                </a:lnTo>
                <a:lnTo>
                  <a:pt x="208" y="279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4638600" y="320184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5386320" y="3290760"/>
            <a:ext cx="109440" cy="7488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8" y="279"/>
                </a:moveTo>
                <a:lnTo>
                  <a:pt x="0" y="0"/>
                </a:lnTo>
                <a:lnTo>
                  <a:pt x="417" y="0"/>
                </a:lnTo>
                <a:lnTo>
                  <a:pt x="208" y="279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5442120" y="331488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6189840" y="3268800"/>
            <a:ext cx="110880" cy="72720"/>
          </a:xfrm>
          <a:custGeom>
            <a:avLst/>
            <a:gdLst/>
            <a:ahLst/>
            <a:rect l="l" t="t" r="r" b="b"/>
            <a:pathLst>
              <a:path w="417" h="280">
                <a:moveTo>
                  <a:pt x="208" y="280"/>
                </a:moveTo>
                <a:lnTo>
                  <a:pt x="0" y="0"/>
                </a:lnTo>
                <a:lnTo>
                  <a:pt x="417" y="0"/>
                </a:lnTo>
                <a:lnTo>
                  <a:pt x="208" y="28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6245280" y="329256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7596360" y="3063960"/>
            <a:ext cx="109440" cy="73080"/>
          </a:xfrm>
          <a:custGeom>
            <a:avLst/>
            <a:gdLst/>
            <a:ahLst/>
            <a:rect l="l" t="t" r="r" b="b"/>
            <a:pathLst>
              <a:path w="417" h="280">
                <a:moveTo>
                  <a:pt x="209" y="280"/>
                </a:moveTo>
                <a:lnTo>
                  <a:pt x="0" y="0"/>
                </a:lnTo>
                <a:lnTo>
                  <a:pt x="417" y="0"/>
                </a:lnTo>
                <a:lnTo>
                  <a:pt x="209" y="28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7650000" y="308772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7388280" y="5477040"/>
            <a:ext cx="109440" cy="72720"/>
          </a:xfrm>
          <a:custGeom>
            <a:avLst/>
            <a:gdLst/>
            <a:ahLst/>
            <a:rect l="l" t="t" r="r" b="b"/>
            <a:pathLst>
              <a:path w="417" h="279">
                <a:moveTo>
                  <a:pt x="208" y="279"/>
                </a:moveTo>
                <a:lnTo>
                  <a:pt x="0" y="0"/>
                </a:lnTo>
                <a:lnTo>
                  <a:pt x="417" y="0"/>
                </a:lnTo>
                <a:lnTo>
                  <a:pt x="208" y="279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7442280" y="550080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6402600" y="5603760"/>
            <a:ext cx="68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=0.950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7227720" y="5695920"/>
            <a:ext cx="43056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1827360" y="2768760"/>
            <a:ext cx="5822640" cy="728640"/>
          </a:xfrm>
          <a:custGeom>
            <a:avLst/>
            <a:gdLst/>
            <a:ahLst/>
            <a:rect l="l" t="t" r="r" b="b"/>
            <a:pathLst>
              <a:path w="22010" h="2757">
                <a:moveTo>
                  <a:pt x="0" y="0"/>
                </a:moveTo>
                <a:lnTo>
                  <a:pt x="0" y="0"/>
                </a:lnTo>
                <a:lnTo>
                  <a:pt x="1517" y="1551"/>
                </a:lnTo>
                <a:lnTo>
                  <a:pt x="4554" y="2155"/>
                </a:lnTo>
                <a:lnTo>
                  <a:pt x="7590" y="2585"/>
                </a:lnTo>
                <a:lnTo>
                  <a:pt x="10624" y="2498"/>
                </a:lnTo>
                <a:lnTo>
                  <a:pt x="13660" y="2757"/>
                </a:lnTo>
                <a:lnTo>
                  <a:pt x="16697" y="2585"/>
                </a:lnTo>
                <a:lnTo>
                  <a:pt x="22010" y="2413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1785960" y="2732040"/>
            <a:ext cx="82440" cy="73080"/>
          </a:xfrm>
          <a:prstGeom prst="rect">
            <a:avLst/>
          </a:pr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1827360" y="2768760"/>
            <a:ext cx="1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2187720" y="3141720"/>
            <a:ext cx="82440" cy="74520"/>
          </a:xfrm>
          <a:prstGeom prst="rect">
            <a:avLst/>
          </a:pr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2228760" y="3178080"/>
            <a:ext cx="180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2990880" y="3301920"/>
            <a:ext cx="82440" cy="73080"/>
          </a:xfrm>
          <a:prstGeom prst="rect">
            <a:avLst/>
          </a:pr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3032280" y="3338640"/>
            <a:ext cx="1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3794040" y="3414600"/>
            <a:ext cx="82800" cy="74880"/>
          </a:xfrm>
          <a:prstGeom prst="rect">
            <a:avLst/>
          </a:pr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3835440" y="3452760"/>
            <a:ext cx="1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4597560" y="3392640"/>
            <a:ext cx="82440" cy="74520"/>
          </a:xfrm>
          <a:prstGeom prst="rect">
            <a:avLst/>
          </a:pr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4638600" y="3429000"/>
            <a:ext cx="1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5400720" y="3460680"/>
            <a:ext cx="82440" cy="74520"/>
          </a:xfrm>
          <a:prstGeom prst="rect">
            <a:avLst/>
          </a:pr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>
            <a:off x="5442120" y="3497400"/>
            <a:ext cx="1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6203880" y="3414600"/>
            <a:ext cx="82800" cy="74880"/>
          </a:xfrm>
          <a:prstGeom prst="rect">
            <a:avLst/>
          </a:pr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6245280" y="3452760"/>
            <a:ext cx="1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>
            <a:off x="7608960" y="3370320"/>
            <a:ext cx="82440" cy="73080"/>
          </a:xfrm>
          <a:prstGeom prst="rect">
            <a:avLst/>
          </a:pr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>
            <a:off x="7650000" y="3406680"/>
            <a:ext cx="180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>
            <a:off x="7400880" y="5657760"/>
            <a:ext cx="82440" cy="74880"/>
          </a:xfrm>
          <a:prstGeom prst="rect">
            <a:avLst/>
          </a:pr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2" name=""/>
          <p:cNvSpPr/>
          <p:nvPr/>
        </p:nvSpPr>
        <p:spPr>
          <a:xfrm>
            <a:off x="7442280" y="5695920"/>
            <a:ext cx="1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>
            <a:off x="6402600" y="5797440"/>
            <a:ext cx="68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=0.975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7227720" y="5889600"/>
            <a:ext cx="43056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>
            <a:off x="1827360" y="3019320"/>
            <a:ext cx="5822640" cy="660600"/>
          </a:xfrm>
          <a:custGeom>
            <a:avLst/>
            <a:gdLst/>
            <a:ahLst/>
            <a:rect l="l" t="t" r="r" b="b"/>
            <a:pathLst>
              <a:path w="22010" h="2498">
                <a:moveTo>
                  <a:pt x="0" y="0"/>
                </a:moveTo>
                <a:lnTo>
                  <a:pt x="0" y="0"/>
                </a:lnTo>
                <a:lnTo>
                  <a:pt x="1517" y="1465"/>
                </a:lnTo>
                <a:lnTo>
                  <a:pt x="4554" y="2067"/>
                </a:lnTo>
                <a:lnTo>
                  <a:pt x="7590" y="2498"/>
                </a:lnTo>
                <a:lnTo>
                  <a:pt x="10624" y="2412"/>
                </a:lnTo>
                <a:lnTo>
                  <a:pt x="13660" y="2498"/>
                </a:lnTo>
                <a:lnTo>
                  <a:pt x="16697" y="2325"/>
                </a:lnTo>
                <a:lnTo>
                  <a:pt x="22010" y="2240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1785960" y="3019320"/>
            <a:ext cx="8244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>
            <a:off x="1827360" y="2982960"/>
            <a:ext cx="1440" cy="7308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2187720" y="3406680"/>
            <a:ext cx="8244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2228760" y="3370320"/>
            <a:ext cx="1800" cy="7308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2990880" y="3565440"/>
            <a:ext cx="8244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3032280" y="3529080"/>
            <a:ext cx="1440" cy="7452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3794040" y="3679920"/>
            <a:ext cx="8280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3835440" y="3643200"/>
            <a:ext cx="1440" cy="7488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4597560" y="3657600"/>
            <a:ext cx="8244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4638600" y="3621240"/>
            <a:ext cx="1800" cy="7272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5400720" y="3679920"/>
            <a:ext cx="8244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5442120" y="3643200"/>
            <a:ext cx="1440" cy="7488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6203880" y="3633840"/>
            <a:ext cx="8280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>
            <a:off x="6245280" y="3597120"/>
            <a:ext cx="1440" cy="7488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7608960" y="3611520"/>
            <a:ext cx="82440" cy="180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>
            <a:off x="7650000" y="3575160"/>
            <a:ext cx="1800" cy="7452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7400880" y="5889600"/>
            <a:ext cx="84240" cy="14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>
            <a:off x="7442280" y="5853240"/>
            <a:ext cx="1440" cy="7272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7925760" y="59547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58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>
            <a:off x="744120" y="3300480"/>
            <a:ext cx="53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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F836-F835-412D-AD7D-441EA7AB30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blem State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nd the acceptance region for SLA defined at ingress poi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ive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(logical) topolog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des, Link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routing algorithm (SP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set of user SLA reques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sider only AF traffic reque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7A5D-822C-45D0-9CAD-23DEED256AF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iffServ paradig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service contract (SLA) is estabilished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fferent type of service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xpedited forwarding: virtual wi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ssured forwarding: statistical guarantee of bandwidth (congestion may arise in best service class too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Best Effort: classic model we are all used 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ckets are classified at network edges in few classes according to the user SL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twork core considers only few classes (PHB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blem: SLA-Admission Contro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w to accept a new SLA?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D7B1-971F-4B7C-A0B5-9225EE0EE1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blem inpu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LA definition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41040" indent="-5065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er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specifies in its AF - SL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302840" indent="-43416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imes New Roman"/>
              </a:rPr>
              <a:t>B</a:t>
            </a:r>
            <a:r>
              <a:rPr b="0" i="1" lang="en-US" sz="2000" spc="-1" strike="noStrike" baseline="-25000">
                <a:solidFill>
                  <a:srgbClr val="40458c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: assured bandwidt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302840" indent="-43416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</a:t>
            </a:r>
            <a:r>
              <a:rPr b="0" i="1" lang="en-US" sz="2000" spc="-1" strike="noStrike" baseline="-25000">
                <a:solidFill>
                  <a:srgbClr val="40458c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: probability that </a:t>
            </a:r>
            <a:r>
              <a:rPr b="0" i="1" lang="en-US" sz="2000" spc="-1" strike="noStrike">
                <a:solidFill>
                  <a:srgbClr val="40458c"/>
                </a:solidFill>
                <a:latin typeface="Times New Roman"/>
              </a:rPr>
              <a:t>B(t)</a:t>
            </a:r>
            <a:r>
              <a:rPr b="0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</a:t>
            </a:r>
            <a:r>
              <a:rPr b="0" i="1" lang="en-US" sz="2000" spc="-1" strike="noStrike">
                <a:solidFill>
                  <a:srgbClr val="40458c"/>
                </a:solidFill>
                <a:latin typeface="Times New Roman"/>
              </a:rPr>
              <a:t>B</a:t>
            </a:r>
            <a:r>
              <a:rPr b="0" i="1" lang="en-US" sz="2000" spc="-1" strike="noStrike" baseline="-25000">
                <a:solidFill>
                  <a:srgbClr val="40458c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302840" indent="-43416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40458c"/>
                </a:solidFill>
                <a:latin typeface="Times New Roman"/>
              </a:rPr>
              <a:t>i,j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: traffic fraction to (from) user </a:t>
            </a:r>
            <a:r>
              <a:rPr b="0" i="1" lang="en-US" sz="2000" spc="-1" strike="noStrike">
                <a:solidFill>
                  <a:srgbClr val="40458c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78880" indent="-5788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ffic defini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41040" indent="-50652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df(</a:t>
            </a: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</a:t>
            </a:r>
            <a:r>
              <a:rPr b="0" i="1" lang="en-US" sz="2400" spc="-1" strike="noStrike" baseline="-25000">
                <a:solidFill>
                  <a:srgbClr val="40458c"/>
                </a:solidFill>
                <a:latin typeface="Times New Roman"/>
              </a:rPr>
              <a:t>i,j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,w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 probabilistic description of the traffic from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o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302840" indent="-43416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erived from user traffic profil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302840" indent="-43416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erived from SLA descript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7A80-A4C3-4BA5-9563-F30E93E558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thodology ide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nd the traffic profile on network link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oute user’s “SLA-flows” on the topolog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nd the traffic profile as sum of the different flows routed on the link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95280" indent="-38088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e exact 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pdf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on each link is given by the convolution of all the flow 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pdf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valuate the overbooking probabil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set of admissible SLAs is such that the “overbooking probability” is within the SLA constraint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LA admissibility reg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n line” SLA admission contro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BDC7-6AE5-437F-96CC-A633D71895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pen Proble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ow to derive the stochastic description of SLA offered traffic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user knows its current traffic profi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357560" indent="-45252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verage </a:t>
            </a:r>
            <a:r>
              <a:rPr b="0" i="1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357560" indent="-45252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tandard deviation </a:t>
            </a:r>
            <a:r>
              <a:rPr b="0" i="1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user requires an AF bandwidth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40458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357560" indent="-45252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verage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</a:rPr>
              <a:t>B</a:t>
            </a:r>
            <a:r>
              <a:rPr b="0" i="1" lang="en-US" sz="2400" spc="-1" strike="noStrike" baseline="-25000">
                <a:solidFill>
                  <a:srgbClr val="40458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357560" indent="-45252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tandard deviation ?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CBA5-95DC-462B-8AD5-369F31014E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Open proble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User traffic profi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SLA bandwidth reque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=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SLA traffic profi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1143000" y="1676520"/>
            <a:ext cx="0" cy="16761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3200400"/>
            <a:ext cx="39625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981080"/>
            <a:ext cx="0" cy="14479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76520" y="1828800"/>
            <a:ext cx="1066680" cy="1371600"/>
          </a:xfrm>
          <a:custGeom>
            <a:avLst/>
            <a:gdLst/>
            <a:ahLst/>
            <a:rect l="l" t="t" r="r" b="b"/>
            <a:pathLst>
              <a:path w="672" h="864">
                <a:moveTo>
                  <a:pt x="0" y="864"/>
                </a:moveTo>
                <a:cubicBezTo>
                  <a:pt x="148" y="848"/>
                  <a:pt x="296" y="832"/>
                  <a:pt x="384" y="768"/>
                </a:cubicBezTo>
                <a:cubicBezTo>
                  <a:pt x="472" y="704"/>
                  <a:pt x="496" y="560"/>
                  <a:pt x="528" y="480"/>
                </a:cubicBezTo>
                <a:cubicBezTo>
                  <a:pt x="560" y="400"/>
                  <a:pt x="560" y="360"/>
                  <a:pt x="576" y="288"/>
                </a:cubicBezTo>
                <a:cubicBezTo>
                  <a:pt x="592" y="216"/>
                  <a:pt x="608" y="96"/>
                  <a:pt x="624" y="48"/>
                </a:cubicBezTo>
                <a:cubicBezTo>
                  <a:pt x="640" y="0"/>
                  <a:pt x="656" y="0"/>
                  <a:pt x="672" y="0"/>
                </a:cubicBezTo>
              </a:path>
            </a:pathLst>
          </a:cu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742480" y="1828800"/>
            <a:ext cx="1066680" cy="1371600"/>
          </a:xfrm>
          <a:custGeom>
            <a:avLst/>
            <a:gdLst/>
            <a:ahLst/>
            <a:rect l="l" t="t" r="r" b="b"/>
            <a:pathLst>
              <a:path w="672" h="864">
                <a:moveTo>
                  <a:pt x="0" y="864"/>
                </a:moveTo>
                <a:cubicBezTo>
                  <a:pt x="148" y="848"/>
                  <a:pt x="296" y="832"/>
                  <a:pt x="384" y="768"/>
                </a:cubicBezTo>
                <a:cubicBezTo>
                  <a:pt x="472" y="704"/>
                  <a:pt x="496" y="560"/>
                  <a:pt x="528" y="480"/>
                </a:cubicBezTo>
                <a:cubicBezTo>
                  <a:pt x="560" y="400"/>
                  <a:pt x="560" y="360"/>
                  <a:pt x="576" y="288"/>
                </a:cubicBezTo>
                <a:cubicBezTo>
                  <a:pt x="592" y="216"/>
                  <a:pt x="608" y="96"/>
                  <a:pt x="624" y="48"/>
                </a:cubicBezTo>
                <a:cubicBezTo>
                  <a:pt x="640" y="0"/>
                  <a:pt x="656" y="0"/>
                  <a:pt x="672" y="0"/>
                </a:cubicBezTo>
              </a:path>
            </a:pathLst>
          </a:cu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5000" y="326880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40458c"/>
                </a:solidFill>
                <a:latin typeface="Symbol"/>
                <a:ea typeface="Symbol"/>
              </a:rPr>
              <a:t>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38280" y="2743200"/>
            <a:ext cx="609840" cy="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0" y="212580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40458c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43000" y="4296960"/>
            <a:ext cx="0" cy="16765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5821200"/>
            <a:ext cx="39625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11080" y="5897520"/>
            <a:ext cx="494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40458c"/>
                </a:solidFill>
                <a:latin typeface="Times New Roman"/>
              </a:rPr>
              <a:t>B</a:t>
            </a:r>
            <a:r>
              <a:rPr b="0" i="1" lang="it-IT" sz="3200" spc="-1" strike="noStrike" baseline="-25000">
                <a:solidFill>
                  <a:srgbClr val="40458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590920" y="4419720"/>
            <a:ext cx="2133000" cy="1600200"/>
            <a:chOff x="2590920" y="4419720"/>
            <a:chExt cx="2133000" cy="1600200"/>
          </a:xfrm>
        </p:grpSpPr>
        <p:sp>
          <p:nvSpPr>
            <p:cNvPr id="235" name=""/>
            <p:cNvSpPr/>
            <p:nvPr/>
          </p:nvSpPr>
          <p:spPr>
            <a:xfrm>
              <a:off x="3657600" y="4572000"/>
              <a:ext cx="0" cy="14479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2590920" y="4419720"/>
              <a:ext cx="2133000" cy="1371600"/>
              <a:chOff x="2590920" y="4419720"/>
              <a:chExt cx="2133000" cy="1371600"/>
            </a:xfrm>
          </p:grpSpPr>
          <p:sp>
            <p:nvSpPr>
              <p:cNvPr id="237" name=""/>
              <p:cNvSpPr/>
              <p:nvPr/>
            </p:nvSpPr>
            <p:spPr>
              <a:xfrm>
                <a:off x="2590920" y="4419720"/>
                <a:ext cx="1066680" cy="1371600"/>
              </a:xfrm>
              <a:custGeom>
                <a:avLst/>
                <a:gdLst/>
                <a:ahLst/>
                <a:rect l="l" t="t" r="r" b="b"/>
                <a:pathLst>
                  <a:path w="672" h="864">
                    <a:moveTo>
                      <a:pt x="0" y="864"/>
                    </a:moveTo>
                    <a:cubicBezTo>
                      <a:pt x="148" y="848"/>
                      <a:pt x="296" y="832"/>
                      <a:pt x="384" y="768"/>
                    </a:cubicBezTo>
                    <a:cubicBezTo>
                      <a:pt x="472" y="704"/>
                      <a:pt x="496" y="560"/>
                      <a:pt x="528" y="480"/>
                    </a:cubicBezTo>
                    <a:cubicBezTo>
                      <a:pt x="560" y="400"/>
                      <a:pt x="560" y="360"/>
                      <a:pt x="576" y="288"/>
                    </a:cubicBezTo>
                    <a:cubicBezTo>
                      <a:pt x="592" y="216"/>
                      <a:pt x="608" y="96"/>
                      <a:pt x="624" y="48"/>
                    </a:cubicBezTo>
                    <a:cubicBezTo>
                      <a:pt x="640" y="0"/>
                      <a:pt x="656" y="0"/>
                      <a:pt x="672" y="0"/>
                    </a:cubicBezTo>
                  </a:path>
                </a:pathLst>
              </a:custGeom>
              <a:noFill/>
              <a:ln w="381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3656880" y="4419720"/>
                <a:ext cx="1066680" cy="1371600"/>
              </a:xfrm>
              <a:custGeom>
                <a:avLst/>
                <a:gdLst/>
                <a:ahLst/>
                <a:rect l="l" t="t" r="r" b="b"/>
                <a:pathLst>
                  <a:path w="672" h="864">
                    <a:moveTo>
                      <a:pt x="0" y="864"/>
                    </a:moveTo>
                    <a:cubicBezTo>
                      <a:pt x="148" y="848"/>
                      <a:pt x="296" y="832"/>
                      <a:pt x="384" y="768"/>
                    </a:cubicBezTo>
                    <a:cubicBezTo>
                      <a:pt x="472" y="704"/>
                      <a:pt x="496" y="560"/>
                      <a:pt x="528" y="480"/>
                    </a:cubicBezTo>
                    <a:cubicBezTo>
                      <a:pt x="560" y="400"/>
                      <a:pt x="560" y="360"/>
                      <a:pt x="576" y="288"/>
                    </a:cubicBezTo>
                    <a:cubicBezTo>
                      <a:pt x="592" y="216"/>
                      <a:pt x="608" y="96"/>
                      <a:pt x="624" y="48"/>
                    </a:cubicBezTo>
                    <a:cubicBezTo>
                      <a:pt x="640" y="0"/>
                      <a:pt x="656" y="0"/>
                      <a:pt x="672" y="0"/>
                    </a:cubicBezTo>
                  </a:path>
                </a:pathLst>
              </a:custGeom>
              <a:noFill/>
              <a:ln w="381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3352680" y="5334120"/>
              <a:ext cx="6098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963600" y="4716360"/>
              <a:ext cx="4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32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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9291-CD7F-487B-A8F8-E5C3FD3550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pen Proble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UT…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oes the user know its own traffic profile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s it reasonable to “translate” a traffic profile description into an SLA description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C475-8F0F-4775-B91A-37C6B4C581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5334120" y="3505320"/>
            <a:ext cx="3102480" cy="2790000"/>
            <a:chOff x="5334120" y="3505320"/>
            <a:chExt cx="3102480" cy="2790000"/>
          </a:xfrm>
        </p:grpSpPr>
        <p:grpSp>
          <p:nvGrpSpPr>
            <p:cNvPr id="244" name=""/>
            <p:cNvGrpSpPr/>
            <p:nvPr/>
          </p:nvGrpSpPr>
          <p:grpSpPr>
            <a:xfrm>
              <a:off x="5334120" y="3580920"/>
              <a:ext cx="3047760" cy="2714400"/>
              <a:chOff x="5334120" y="3580920"/>
              <a:chExt cx="3047760" cy="2714400"/>
            </a:xfrm>
          </p:grpSpPr>
          <p:sp>
            <p:nvSpPr>
              <p:cNvPr id="245" name=""/>
              <p:cNvSpPr/>
              <p:nvPr/>
            </p:nvSpPr>
            <p:spPr>
              <a:xfrm>
                <a:off x="5562720" y="4114800"/>
                <a:ext cx="2361960" cy="1523880"/>
              </a:xfrm>
              <a:prstGeom prst="rect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5562720" y="3580920"/>
                <a:ext cx="0" cy="221004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334120" y="5638680"/>
                <a:ext cx="304776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924680" y="4191120"/>
                <a:ext cx="0" cy="144756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727400" y="5562720"/>
                <a:ext cx="494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40458c"/>
                    </a:solidFill>
                    <a:latin typeface="Times New Roman"/>
                  </a:rPr>
                  <a:t>B</a:t>
                </a:r>
                <a:r>
                  <a:rPr b="0" i="1" lang="en-US" sz="3200" spc="-1" strike="noStrike" baseline="-25000">
                    <a:solidFill>
                      <a:srgbClr val="40458c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426720" y="5646600"/>
                <a:ext cx="9198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40458c"/>
                    </a:solidFill>
                    <a:latin typeface="Times New Roman"/>
                  </a:rPr>
                  <a:t>B</a:t>
                </a:r>
                <a:r>
                  <a:rPr b="0" i="1" lang="en-US" sz="3200" spc="-1" strike="noStrike" baseline="-25000">
                    <a:solidFill>
                      <a:srgbClr val="40458c"/>
                    </a:solidFill>
                    <a:latin typeface="Times New Roman"/>
                  </a:rPr>
                  <a:t>i </a:t>
                </a:r>
                <a:r>
                  <a:rPr b="0" i="1" lang="en-US" sz="2800" spc="-1" strike="noStrike">
                    <a:solidFill>
                      <a:srgbClr val="40458c"/>
                    </a:solidFill>
                    <a:latin typeface="Times New Roman"/>
                  </a:rPr>
                  <a:t>r</a:t>
                </a:r>
                <a:r>
                  <a:rPr b="0" i="1" lang="en-US" sz="2800" spc="-1" strike="noStrike" baseline="-25000">
                    <a:solidFill>
                      <a:srgbClr val="40458c"/>
                    </a:solidFill>
                    <a:latin typeface="Times New Roman"/>
                  </a:rPr>
                  <a:t>i,j</a:t>
                </a:r>
                <a:r>
                  <a:rPr b="0" i="1" lang="en-US" sz="3200" spc="-1" strike="noStrike" baseline="-25000">
                    <a:solidFill>
                      <a:srgbClr val="40458c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858000" y="4343400"/>
                <a:ext cx="0" cy="144792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5547600" y="3505320"/>
              <a:ext cx="28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Traffic profile on </a:t>
              </a:r>
              <a:r>
                <a:rPr b="0" i="1" lang="en-US" sz="1800" spc="-1" strike="noStrike">
                  <a:solidFill>
                    <a:srgbClr val="40458c"/>
                  </a:solidFill>
                  <a:latin typeface="Tahoma"/>
                </a:rPr>
                <a:t>path</a:t>
              </a: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 to </a:t>
              </a:r>
              <a:r>
                <a:rPr b="0" i="1" lang="en-US" sz="1800" spc="-1" strike="noStrike">
                  <a:solidFill>
                    <a:srgbClr val="40458c"/>
                  </a:solidFill>
                  <a:latin typeface="Times New Roman"/>
                </a:rPr>
                <a:t>j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r solu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o not ask the user its SLA traffic profi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e the traffic parameters that describe the SL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ssible destina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57200" y="4162320"/>
            <a:ext cx="3429000" cy="2162160"/>
            <a:chOff x="457200" y="4162320"/>
            <a:chExt cx="3429000" cy="2162160"/>
          </a:xfrm>
        </p:grpSpPr>
        <p:sp>
          <p:nvSpPr>
            <p:cNvPr id="256" name=""/>
            <p:cNvSpPr/>
            <p:nvPr/>
          </p:nvSpPr>
          <p:spPr>
            <a:xfrm>
              <a:off x="457200" y="5105160"/>
              <a:ext cx="380880" cy="38088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i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504960" y="4190760"/>
              <a:ext cx="381240" cy="38088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04960" y="5181480"/>
              <a:ext cx="381240" cy="38088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04960" y="5943240"/>
              <a:ext cx="381240" cy="38124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8080" y="5257440"/>
              <a:ext cx="685800" cy="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1523880" y="4419360"/>
              <a:ext cx="1905120" cy="83808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523880" y="5257440"/>
              <a:ext cx="1905120" cy="15264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523880" y="5257440"/>
              <a:ext cx="1905120" cy="83844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45360" y="4647960"/>
              <a:ext cx="494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40458c"/>
                  </a:solidFill>
                  <a:latin typeface="Times New Roman"/>
                </a:rPr>
                <a:t>B</a:t>
              </a:r>
              <a:r>
                <a:rPr b="0" i="1" lang="en-US" sz="3200" spc="-1" strike="noStrike" baseline="-25000">
                  <a:solidFill>
                    <a:srgbClr val="40458c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923120" y="4162320"/>
              <a:ext cx="532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40458c"/>
                  </a:solidFill>
                  <a:latin typeface="Times New Roman"/>
                </a:rPr>
                <a:t>r</a:t>
              </a:r>
              <a:r>
                <a:rPr b="0" i="1" lang="en-US" sz="2800" spc="-1" strike="noStrike" baseline="-25000">
                  <a:solidFill>
                    <a:srgbClr val="40458c"/>
                  </a:solidFill>
                  <a:latin typeface="Times New Roman"/>
                </a:rPr>
                <a:t>i,1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32960" y="4779720"/>
              <a:ext cx="532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40458c"/>
                  </a:solidFill>
                  <a:latin typeface="Times New Roman"/>
                </a:rPr>
                <a:t>r</a:t>
              </a:r>
              <a:r>
                <a:rPr b="0" i="1" lang="en-US" sz="2800" spc="-1" strike="noStrike" baseline="-25000">
                  <a:solidFill>
                    <a:srgbClr val="40458c"/>
                  </a:solidFill>
                  <a:latin typeface="Times New Roman"/>
                </a:rPr>
                <a:t>i,2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923120" y="5541840"/>
              <a:ext cx="532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40458c"/>
                  </a:solidFill>
                  <a:latin typeface="Times New Roman"/>
                </a:rPr>
                <a:t>r</a:t>
              </a:r>
              <a:r>
                <a:rPr b="0" i="1" lang="en-US" sz="2800" spc="-1" strike="noStrike" baseline="-25000">
                  <a:solidFill>
                    <a:srgbClr val="40458c"/>
                  </a:solidFill>
                  <a:latin typeface="Times New Roman"/>
                </a:rPr>
                <a:t>i,3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5791320" y="4267080"/>
            <a:ext cx="2133000" cy="1371600"/>
            <a:chOff x="5791320" y="4267080"/>
            <a:chExt cx="2133000" cy="1371600"/>
          </a:xfrm>
        </p:grpSpPr>
        <p:sp>
          <p:nvSpPr>
            <p:cNvPr id="269" name=""/>
            <p:cNvSpPr/>
            <p:nvPr/>
          </p:nvSpPr>
          <p:spPr>
            <a:xfrm>
              <a:off x="5791320" y="4267080"/>
              <a:ext cx="1066680" cy="1371600"/>
            </a:xfrm>
            <a:custGeom>
              <a:avLst/>
              <a:gdLst/>
              <a:ahLst/>
              <a:rect l="l" t="t" r="r" b="b"/>
              <a:pathLst>
                <a:path w="672" h="864">
                  <a:moveTo>
                    <a:pt x="0" y="864"/>
                  </a:moveTo>
                  <a:cubicBezTo>
                    <a:pt x="148" y="848"/>
                    <a:pt x="296" y="832"/>
                    <a:pt x="384" y="768"/>
                  </a:cubicBezTo>
                  <a:cubicBezTo>
                    <a:pt x="472" y="704"/>
                    <a:pt x="496" y="560"/>
                    <a:pt x="528" y="480"/>
                  </a:cubicBezTo>
                  <a:cubicBezTo>
                    <a:pt x="560" y="400"/>
                    <a:pt x="560" y="360"/>
                    <a:pt x="576" y="288"/>
                  </a:cubicBezTo>
                  <a:cubicBezTo>
                    <a:pt x="592" y="216"/>
                    <a:pt x="608" y="96"/>
                    <a:pt x="624" y="48"/>
                  </a:cubicBezTo>
                  <a:cubicBezTo>
                    <a:pt x="640" y="0"/>
                    <a:pt x="656" y="0"/>
                    <a:pt x="672" y="0"/>
                  </a:cubicBezTo>
                </a:path>
              </a:pathLst>
            </a:custGeom>
            <a:noFill/>
            <a:ln w="3168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6857280" y="4267080"/>
              <a:ext cx="1066680" cy="1371600"/>
            </a:xfrm>
            <a:custGeom>
              <a:avLst/>
              <a:gdLst/>
              <a:ahLst/>
              <a:rect l="l" t="t" r="r" b="b"/>
              <a:pathLst>
                <a:path w="672" h="864">
                  <a:moveTo>
                    <a:pt x="0" y="864"/>
                  </a:moveTo>
                  <a:cubicBezTo>
                    <a:pt x="148" y="848"/>
                    <a:pt x="296" y="832"/>
                    <a:pt x="384" y="768"/>
                  </a:cubicBezTo>
                  <a:cubicBezTo>
                    <a:pt x="472" y="704"/>
                    <a:pt x="496" y="560"/>
                    <a:pt x="528" y="480"/>
                  </a:cubicBezTo>
                  <a:cubicBezTo>
                    <a:pt x="560" y="400"/>
                    <a:pt x="560" y="360"/>
                    <a:pt x="576" y="288"/>
                  </a:cubicBezTo>
                  <a:cubicBezTo>
                    <a:pt x="592" y="216"/>
                    <a:pt x="608" y="96"/>
                    <a:pt x="624" y="48"/>
                  </a:cubicBezTo>
                  <a:cubicBezTo>
                    <a:pt x="640" y="0"/>
                    <a:pt x="656" y="0"/>
                    <a:pt x="672" y="0"/>
                  </a:cubicBezTo>
                </a:path>
              </a:pathLst>
            </a:custGeom>
            <a:noFill/>
            <a:ln w="3168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5562720" y="4419720"/>
            <a:ext cx="2361960" cy="685800"/>
          </a:xfrm>
          <a:prstGeom prst="line">
            <a:avLst/>
          </a:prstGeom>
          <a:ln w="316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715000" y="4267080"/>
            <a:ext cx="2133720" cy="1371600"/>
            <a:chOff x="5715000" y="4267080"/>
            <a:chExt cx="2133720" cy="1371600"/>
          </a:xfrm>
        </p:grpSpPr>
        <p:sp>
          <p:nvSpPr>
            <p:cNvPr id="273" name=""/>
            <p:cNvSpPr/>
            <p:nvPr/>
          </p:nvSpPr>
          <p:spPr>
            <a:xfrm flipV="1">
              <a:off x="5715000" y="4267080"/>
              <a:ext cx="0" cy="1371600"/>
            </a:xfrm>
            <a:prstGeom prst="line">
              <a:avLst/>
            </a:prstGeom>
            <a:ln w="316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15000" y="4267080"/>
              <a:ext cx="380880" cy="0"/>
            </a:xfrm>
            <a:prstGeom prst="line">
              <a:avLst/>
            </a:prstGeom>
            <a:ln w="316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095880" y="4267080"/>
              <a:ext cx="0" cy="1371600"/>
            </a:xfrm>
            <a:prstGeom prst="line">
              <a:avLst/>
            </a:prstGeom>
            <a:ln w="316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4647960"/>
              <a:ext cx="0" cy="990360"/>
            </a:xfrm>
            <a:prstGeom prst="line">
              <a:avLst/>
            </a:prstGeom>
            <a:ln w="316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315200" y="4648320"/>
              <a:ext cx="533520" cy="0"/>
            </a:xfrm>
            <a:prstGeom prst="line">
              <a:avLst/>
            </a:prstGeom>
            <a:ln w="316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848720" y="4648320"/>
              <a:ext cx="0" cy="990360"/>
            </a:xfrm>
            <a:prstGeom prst="line">
              <a:avLst/>
            </a:prstGeom>
            <a:ln w="316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5562720" y="3809880"/>
            <a:ext cx="2361960" cy="1828800"/>
            <a:chOff x="5562720" y="3809880"/>
            <a:chExt cx="2361960" cy="1828800"/>
          </a:xfrm>
        </p:grpSpPr>
        <p:sp>
          <p:nvSpPr>
            <p:cNvPr id="280" name=""/>
            <p:cNvSpPr/>
            <p:nvPr/>
          </p:nvSpPr>
          <p:spPr>
            <a:xfrm flipV="1">
              <a:off x="5562720" y="4343400"/>
              <a:ext cx="0" cy="1295280"/>
            </a:xfrm>
            <a:prstGeom prst="line">
              <a:avLst/>
            </a:prstGeom>
            <a:ln w="3168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7924680" y="3809880"/>
              <a:ext cx="0" cy="1828800"/>
            </a:xfrm>
            <a:prstGeom prst="line">
              <a:avLst/>
            </a:prstGeom>
            <a:ln w="3168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F51E-419D-48C3-BDBE-1BF18D424C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ianluca Mardente</cp:lastModifiedBy>
  <dcterms:modified xsi:type="dcterms:W3CDTF">2003-07-05T09:20:41Z</dcterms:modified>
  <cp:revision>19</cp:revision>
  <dc:subject/>
  <dc:title>PowerPoint Presentation</dc:title>
</cp:coreProperties>
</file>