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E7A517-8EF9-4FB9-977B-0E248B5D70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48D337-B3BD-4163-8E35-E50681BB38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5F64C1C-6ED8-446B-BB16-8AD5DBE5FC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3079BE-D097-4D5D-BFFC-AA809BBBB0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8E93C-A7FC-482D-BF1C-5AD0A0F042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9A26-7120-4CCE-A987-B04B22AB5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C403A-56C0-428B-9EAB-80AC33C28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CEE4E-4663-4A29-8623-EEEC57877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E4D8C-7942-4704-812B-7B1426C6F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8D230-6532-4CCD-BE12-54AEE5248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5C6E2-E249-4F52-9EED-06094472C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79CE54-8210-4DD3-9690-89FD684EA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804E2-EFF4-47BA-9CD0-A348C67A6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E7EE6-B530-43FA-BA99-0BC6AB551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98A372-649C-4072-9C25-4852A5022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64688D-B142-4CAD-A969-5711D74BBA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CC0700-8DE9-49EB-8903-F1E2346A2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71DC93-A7E8-451D-BB10-85740DD425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47ED9-2224-418E-8F00-47C3BB5F7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0D7CA4-1F22-424E-8094-77F980957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7DD73-1646-45E7-BA93-943BE9630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718F23-A690-417C-B8E5-B0EF8E0F5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D8A375-91A9-4900-92B8-9547A8B59A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5973E-246D-4141-BA1E-A264ED32F8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4F5E-0C93-443A-BC9E-B2C2A355AFA0}"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CFA4-641A-46D5-9398-D94A8E609439}" type="slidenum">
              <a:rPr b="0" lang="it-IT"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TRAFFIC AND CHANNEL MODELS</a:t>
            </a:r>
            <a:endParaRPr b="0" lang="en-US" sz="5000" spc="-1" strike="noStrike">
              <a:solidFill>
                <a:srgbClr val="ffffff"/>
              </a:solidFill>
              <a:latin typeface="Arial"/>
            </a:endParaRPr>
          </a:p>
        </p:txBody>
      </p:sp>
      <p:sp>
        <p:nvSpPr>
          <p:cNvPr id="107" name="PlaceHolder 2"/>
          <p:cNvSpPr>
            <a:spLocks noGrp="1"/>
          </p:cNvSpPr>
          <p:nvPr>
            <p:ph type="subTitle"/>
          </p:nvPr>
        </p:nvSpPr>
        <p:spPr>
          <a:xfrm>
            <a:off x="685800" y="4266720"/>
            <a:ext cx="8305920" cy="175284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   </a:t>
            </a:r>
            <a:r>
              <a:rPr b="0" lang="it-IT" sz="3400" spc="-1" strike="noStrike">
                <a:solidFill>
                  <a:srgbClr val="000000"/>
                </a:solidFill>
                <a:latin typeface="Arial"/>
              </a:rPr>
              <a:t>Unità integrata di Pisa e Pavia</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Costamagna, L. Favalli, F. Tarantola</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IRB TANGO – CEFALU’, luglio 2003</a:t>
            </a:r>
            <a:endParaRPr b="0" lang="en-US" sz="2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t Video Sequences</a:t>
            </a:r>
            <a:r>
              <a:rPr b="0" lang="it-IT" sz="4400" spc="-1" strike="noStrike">
                <a:solidFill>
                  <a:srgbClr val="000000"/>
                </a:solidFill>
                <a:latin typeface="Arial"/>
              </a:rPr>
              <a:t> </a:t>
            </a:r>
            <a:r>
              <a:rPr b="0" lang="it-IT" sz="2400" spc="-1" strike="noStrike">
                <a:solidFill>
                  <a:srgbClr val="000000"/>
                </a:solidFill>
                <a:latin typeface="Arial"/>
              </a:rPr>
              <a:t>(1)</a:t>
            </a:r>
            <a:endParaRPr b="0" lang="en-US" sz="24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sequences</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MMs: HMM2 and HMM10, 2 and 10 states.</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haos model: </a:t>
            </a:r>
            <a:r>
              <a:rPr b="1" lang="en-US" sz="2800" spc="-1" strike="noStrike">
                <a:solidFill>
                  <a:srgbClr val="000000"/>
                </a:solidFill>
                <a:latin typeface="Arial"/>
              </a:rPr>
              <a:t>Chaos 1 with variation coefficients and Hurst parameters similar to the target, and Chaos 2 with variation coefficients purposely matched to the poor behavior of HMM10.</a:t>
            </a:r>
            <a:endParaRPr b="0" lang="en-US" sz="2800" spc="-1" strike="noStrike">
              <a:solidFill>
                <a:srgbClr val="000000"/>
              </a:solidFill>
              <a:latin typeface="Arial"/>
            </a:endParaRPr>
          </a:p>
          <a:p>
            <a:pPr marL="335880" indent="-3358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distributions of interarrival delays measured at various level of link utilization.</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et Video Sequences </a:t>
            </a:r>
            <a:r>
              <a:rPr b="0" lang="en-US" sz="2400" spc="-1" strike="noStrike">
                <a:solidFill>
                  <a:srgbClr val="000000"/>
                </a:solidFill>
                <a:latin typeface="Arial"/>
              </a:rPr>
              <a:t>(2)</a:t>
            </a:r>
            <a:r>
              <a:rPr b="0" lang="en-US" sz="4400" spc="-1" strike="noStrike">
                <a:solidFill>
                  <a:srgbClr val="000000"/>
                </a:solidFill>
                <a:latin typeface="Arial"/>
              </a:rPr>
              <a:t> </a:t>
            </a:r>
            <a:br>
              <a:rPr sz="2400"/>
            </a:br>
            <a:r>
              <a:rPr b="0" lang="en-US" sz="4000" spc="-1" strike="noStrike">
                <a:solidFill>
                  <a:srgbClr val="000000"/>
                </a:solidFill>
                <a:latin typeface="Arial"/>
              </a:rPr>
              <a:t>Time behaviors</a:t>
            </a:r>
            <a:endParaRPr b="0" lang="en-US" sz="4000" spc="-1" strike="noStrike">
              <a:solidFill>
                <a:srgbClr val="000000"/>
              </a:solidFill>
              <a:latin typeface="Arial"/>
            </a:endParaRPr>
          </a:p>
        </p:txBody>
      </p:sp>
      <p:sp>
        <p:nvSpPr>
          <p:cNvPr id="127" name="PlaceHolder 2"/>
          <p:cNvSpPr>
            <a:spLocks noGrp="1"/>
          </p:cNvSpPr>
          <p:nvPr>
            <p:ph/>
          </p:nvPr>
        </p:nvSpPr>
        <p:spPr>
          <a:xfrm>
            <a:off x="456840" y="1980720"/>
            <a:ext cx="21337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 to bott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M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MM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os 1,</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os 2.</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Px2x10</a:t>
            </a:r>
            <a:r>
              <a:rPr b="0" lang="en-US" sz="2400" spc="-1" strike="noStrike" baseline="30000">
                <a:solidFill>
                  <a:srgbClr val="000000"/>
                </a:solidFill>
                <a:latin typeface="Arial"/>
              </a:rPr>
              <a:t>-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8" name="" descr=""/>
          <p:cNvPicPr/>
          <p:nvPr/>
        </p:nvPicPr>
        <p:blipFill>
          <a:blip r:embed="rId1"/>
          <a:stretch/>
        </p:blipFill>
        <p:spPr>
          <a:xfrm>
            <a:off x="2438280" y="1752480"/>
            <a:ext cx="670572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et Video Sequences</a:t>
            </a:r>
            <a:r>
              <a:rPr b="0" lang="en-US" sz="4400" spc="-1" strike="noStrike">
                <a:solidFill>
                  <a:srgbClr val="000000"/>
                </a:solidFill>
                <a:latin typeface="Arial"/>
              </a:rPr>
              <a:t> </a:t>
            </a:r>
            <a:r>
              <a:rPr b="0" lang="en-US" sz="2400" spc="-1" strike="noStrike">
                <a:solidFill>
                  <a:srgbClr val="000000"/>
                </a:solidFill>
                <a:latin typeface="Arial"/>
              </a:rPr>
              <a:t>(3)</a:t>
            </a:r>
            <a:br>
              <a:rPr sz="2400"/>
            </a:br>
            <a:r>
              <a:rPr b="0" lang="en-US" sz="4000" spc="-1" strike="noStrike">
                <a:solidFill>
                  <a:srgbClr val="000000"/>
                </a:solidFill>
                <a:latin typeface="Arial"/>
              </a:rPr>
              <a:t>Hurst Parameter</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q.     Chaos1    Chaos2   HMM10  HMM2     Original</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in       4.333      4.3164    3.6208  3.6208      2.5523</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x   109.4754 109.4713  97.6453 93.3714  109.3990</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an   74.0396   74.0903  72.7876 71.6758   73.6541</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edian 72.5841  72.6053  72.0022 72.0022   72.3027</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t.dev.   9.576     9.6292  12.1690 11.1633     9.8777</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Hurst P. 0.8164    0.6315    0.6139  0.5606     0.8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Video Sequences </a:t>
            </a:r>
            <a:r>
              <a:rPr b="0" lang="en-US" sz="1800" spc="-1" strike="noStrike">
                <a:solidFill>
                  <a:srgbClr val="000000"/>
                </a:solidFill>
                <a:latin typeface="Arial"/>
              </a:rPr>
              <a:t>(4)</a:t>
            </a:r>
            <a:r>
              <a:rPr b="0" lang="en-US" sz="2800" spc="-1" strike="noStrike">
                <a:solidFill>
                  <a:srgbClr val="000000"/>
                </a:solidFill>
                <a:latin typeface="Arial"/>
              </a:rPr>
              <a:t> Moving Covariances</a:t>
            </a:r>
            <a:br>
              <a:rPr sz="2800"/>
            </a:br>
            <a:r>
              <a:rPr b="0" lang="en-US" sz="2800" spc="-1" strike="noStrike">
                <a:solidFill>
                  <a:srgbClr val="000000"/>
                </a:solidFill>
                <a:latin typeface="Arial"/>
              </a:rPr>
              <a:t>black: target; red: Chaos 1, green: HMM10</a:t>
            </a:r>
            <a:br>
              <a:rPr sz="2800"/>
            </a:br>
            <a:r>
              <a:rPr b="0" lang="en-US" sz="2800" spc="-1" strike="noStrike">
                <a:solidFill>
                  <a:srgbClr val="000000"/>
                </a:solidFill>
                <a:latin typeface="Arial"/>
              </a:rPr>
              <a:t>Int. lengths: 2, 4, 8, 14, 18, 24</a:t>
            </a:r>
            <a:endParaRPr b="0" lang="en-US" sz="2800" spc="-1" strike="noStrike">
              <a:solidFill>
                <a:srgbClr val="000000"/>
              </a:solidFill>
              <a:latin typeface="Arial"/>
            </a:endParaRPr>
          </a:p>
        </p:txBody>
      </p:sp>
      <p:pic>
        <p:nvPicPr>
          <p:cNvPr id="132" name="" descr=""/>
          <p:cNvPicPr/>
          <p:nvPr/>
        </p:nvPicPr>
        <p:blipFill>
          <a:blip r:embed="rId1"/>
          <a:stretch/>
        </p:blipFill>
        <p:spPr>
          <a:xfrm>
            <a:off x="304920" y="1981080"/>
            <a:ext cx="4167000" cy="4114800"/>
          </a:xfrm>
          <a:prstGeom prst="rect">
            <a:avLst/>
          </a:prstGeom>
          <a:ln w="0">
            <a:noFill/>
          </a:ln>
        </p:spPr>
      </p:pic>
      <p:pic>
        <p:nvPicPr>
          <p:cNvPr id="133" name="" descr=""/>
          <p:cNvPicPr/>
          <p:nvPr/>
        </p:nvPicPr>
        <p:blipFill>
          <a:blip r:embed="rId2"/>
          <a:stretch/>
        </p:blipFill>
        <p:spPr>
          <a:xfrm>
            <a:off x="4419720" y="1981080"/>
            <a:ext cx="47242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5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Video Sequences </a:t>
            </a:r>
            <a:r>
              <a:rPr b="0" lang="en-US" sz="1800" spc="-1" strike="noStrike">
                <a:solidFill>
                  <a:srgbClr val="000000"/>
                </a:solidFill>
                <a:latin typeface="Arial"/>
              </a:rPr>
              <a:t>(5)</a:t>
            </a:r>
            <a:r>
              <a:rPr b="0" lang="en-US" sz="2800" spc="-1" strike="noStrike">
                <a:solidFill>
                  <a:srgbClr val="000000"/>
                </a:solidFill>
                <a:latin typeface="Arial"/>
              </a:rPr>
              <a:t> Moving Histograms</a:t>
            </a:r>
            <a:br>
              <a:rPr sz="2800"/>
            </a:br>
            <a:r>
              <a:rPr b="0" lang="en-US" sz="2800" spc="-1" strike="noStrike">
                <a:solidFill>
                  <a:srgbClr val="000000"/>
                </a:solidFill>
                <a:latin typeface="Arial"/>
              </a:rPr>
              <a:t>black: target; red: Chaos 1, green: HMM10</a:t>
            </a:r>
            <a:br>
              <a:rPr sz="2800"/>
            </a:br>
            <a:r>
              <a:rPr b="0" lang="en-US" sz="2800" spc="-1" strike="noStrike">
                <a:solidFill>
                  <a:srgbClr val="000000"/>
                </a:solidFill>
                <a:latin typeface="Arial"/>
              </a:rPr>
              <a:t>Interval lengths: 5, 10, 20, 30, 40, 50</a:t>
            </a:r>
            <a:endParaRPr b="0" lang="en-US" sz="2800" spc="-1" strike="noStrike">
              <a:solidFill>
                <a:srgbClr val="000000"/>
              </a:solidFill>
              <a:latin typeface="Arial"/>
            </a:endParaRPr>
          </a:p>
        </p:txBody>
      </p:sp>
      <p:pic>
        <p:nvPicPr>
          <p:cNvPr id="135" name="" descr=""/>
          <p:cNvPicPr/>
          <p:nvPr/>
        </p:nvPicPr>
        <p:blipFill>
          <a:blip r:embed="rId1"/>
          <a:stretch/>
        </p:blipFill>
        <p:spPr>
          <a:xfrm>
            <a:off x="0" y="1981080"/>
            <a:ext cx="4343400" cy="4038840"/>
          </a:xfrm>
          <a:prstGeom prst="rect">
            <a:avLst/>
          </a:prstGeom>
          <a:ln w="0">
            <a:noFill/>
          </a:ln>
        </p:spPr>
      </p:pic>
      <p:pic>
        <p:nvPicPr>
          <p:cNvPr id="136" name="" descr=""/>
          <p:cNvPicPr/>
          <p:nvPr/>
        </p:nvPicPr>
        <p:blipFill>
          <a:blip r:embed="rId2"/>
          <a:stretch/>
        </p:blipFill>
        <p:spPr>
          <a:xfrm>
            <a:off x="4267080" y="1981080"/>
            <a:ext cx="472464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Video Sequences </a:t>
            </a:r>
            <a:r>
              <a:rPr b="0" lang="en-US" sz="1800" spc="-1" strike="noStrike">
                <a:solidFill>
                  <a:srgbClr val="000000"/>
                </a:solidFill>
                <a:latin typeface="Arial"/>
              </a:rPr>
              <a:t>(6)</a:t>
            </a:r>
            <a:r>
              <a:rPr b="0" lang="en-US" sz="2800" spc="-1" strike="noStrike">
                <a:solidFill>
                  <a:srgbClr val="000000"/>
                </a:solidFill>
                <a:latin typeface="Arial"/>
              </a:rPr>
              <a:t> Variation Coefficients</a:t>
            </a:r>
            <a:br>
              <a:rPr sz="2800"/>
            </a:br>
            <a:r>
              <a:rPr b="0" lang="en-US" sz="2800" spc="-1" strike="noStrike">
                <a:solidFill>
                  <a:srgbClr val="000000"/>
                </a:solidFill>
                <a:latin typeface="Arial"/>
              </a:rPr>
              <a:t>high curves: target and Chaos 1 only.</a:t>
            </a:r>
            <a:endParaRPr b="0" lang="en-US" sz="2800" spc="-1" strike="noStrike">
              <a:solidFill>
                <a:srgbClr val="000000"/>
              </a:solidFill>
              <a:latin typeface="Arial"/>
            </a:endParaRPr>
          </a:p>
        </p:txBody>
      </p:sp>
      <p:sp>
        <p:nvSpPr>
          <p:cNvPr id="138" name="PlaceHolder 2"/>
          <p:cNvSpPr>
            <a:spLocks noGrp="1"/>
          </p:cNvSpPr>
          <p:nvPr>
            <p:ph/>
          </p:nvPr>
        </p:nvSpPr>
        <p:spPr>
          <a:xfrm>
            <a:off x="456840" y="1980720"/>
            <a:ext cx="243828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r)s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os 2 were match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HMM1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ead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rget (l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 descr=""/>
          <p:cNvPicPr/>
          <p:nvPr/>
        </p:nvPicPr>
        <p:blipFill>
          <a:blip r:embed="rId1"/>
          <a:stretch/>
        </p:blipFill>
        <p:spPr>
          <a:xfrm>
            <a:off x="2743200" y="1676520"/>
            <a:ext cx="6248520" cy="4663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cket Video Sequences</a:t>
            </a:r>
            <a:r>
              <a:rPr b="0" lang="en-US" sz="2800" spc="-1" strike="noStrike">
                <a:solidFill>
                  <a:srgbClr val="000000"/>
                </a:solidFill>
                <a:latin typeface="Arial"/>
              </a:rPr>
              <a:t> </a:t>
            </a:r>
            <a:r>
              <a:rPr b="0" lang="en-US" sz="2400" spc="-1" strike="noStrike">
                <a:solidFill>
                  <a:srgbClr val="000000"/>
                </a:solidFill>
                <a:latin typeface="Arial"/>
              </a:rPr>
              <a:t>(7)</a:t>
            </a:r>
            <a:r>
              <a:rPr b="0" lang="en-US" sz="2800" spc="-1" strike="noStrike">
                <a:solidFill>
                  <a:srgbClr val="000000"/>
                </a:solidFill>
                <a:latin typeface="Arial"/>
              </a:rPr>
              <a:t> </a:t>
            </a:r>
            <a:br>
              <a:rPr sz="2800"/>
            </a:br>
            <a:r>
              <a:rPr b="0" lang="en-US" sz="2800" spc="-1" strike="noStrike">
                <a:solidFill>
                  <a:srgbClr val="000000"/>
                </a:solidFill>
                <a:latin typeface="Arial"/>
              </a:rPr>
              <a:t>Cumulative Distributions of Interarrival Delays</a:t>
            </a:r>
            <a:endParaRPr b="0" lang="en-US" sz="2800" spc="-1" strike="noStrike">
              <a:solidFill>
                <a:srgbClr val="000000"/>
              </a:solidFill>
              <a:latin typeface="Arial"/>
            </a:endParaRPr>
          </a:p>
        </p:txBody>
      </p:sp>
      <p:sp>
        <p:nvSpPr>
          <p:cNvPr id="141" name="PlaceHolder 2"/>
          <p:cNvSpPr>
            <a:spLocks noGrp="1"/>
          </p:cNvSpPr>
          <p:nvPr>
            <p:ph/>
          </p:nvPr>
        </p:nvSpPr>
        <p:spPr>
          <a:xfrm>
            <a:off x="228240" y="1980720"/>
            <a:ext cx="213372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lin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za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lue: targe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ed: HMMs and cha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lack: Chaos, with the best K(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 descr=""/>
          <p:cNvPicPr/>
          <p:nvPr/>
        </p:nvPicPr>
        <p:blipFill>
          <a:blip r:embed="rId1"/>
          <a:stretch/>
        </p:blipFill>
        <p:spPr>
          <a:xfrm>
            <a:off x="2514600" y="1905120"/>
            <a:ext cx="6300720" cy="4419360"/>
          </a:xfrm>
          <a:prstGeom prst="rect">
            <a:avLst/>
          </a:prstGeom>
          <a:ln w="0">
            <a:noFill/>
          </a:ln>
        </p:spPr>
      </p:pic>
      <p:sp>
        <p:nvSpPr>
          <p:cNvPr id="143" name=""/>
          <p:cNvSpPr/>
          <p:nvPr/>
        </p:nvSpPr>
        <p:spPr>
          <a:xfrm>
            <a:off x="2422440" y="3008160"/>
            <a:ext cx="701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4" name=""/>
          <p:cNvSpPr/>
          <p:nvPr/>
        </p:nvSpPr>
        <p:spPr>
          <a:xfrm>
            <a:off x="1447920" y="3160800"/>
            <a:ext cx="10062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5" name=""/>
          <p:cNvSpPr/>
          <p:nvPr/>
        </p:nvSpPr>
        <p:spPr>
          <a:xfrm>
            <a:off x="2438280" y="3733920"/>
            <a:ext cx="32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146" name=""/>
          <p:cNvSpPr/>
          <p:nvPr/>
        </p:nvSpPr>
        <p:spPr>
          <a:xfrm>
            <a:off x="5105520" y="632448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Time delay</a:t>
            </a:r>
            <a:r>
              <a:rPr b="0" lang="it-IT" sz="1600" spc="-1" strike="noStrike">
                <a:solidFill>
                  <a:srgbClr val="000000"/>
                </a:solidFill>
                <a:latin typeface="Arial"/>
              </a:rPr>
              <a:t> </a:t>
            </a:r>
            <a:r>
              <a:rPr b="0" lang="it-IT" sz="1800" spc="-1" strike="noStrike">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57200"/>
            <a:ext cx="883944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 Network Traffic at campus level </a:t>
            </a:r>
            <a:r>
              <a:rPr b="0" lang="en-US" sz="2400" spc="-1" strike="noStrike">
                <a:solidFill>
                  <a:srgbClr val="000000"/>
                </a:solidFill>
                <a:latin typeface="Arial"/>
              </a:rPr>
              <a:t>(1)</a:t>
            </a:r>
            <a:br>
              <a:rPr sz="2400"/>
            </a:br>
            <a:endParaRPr b="0" lang="en-US" sz="2400" spc="-1" strike="noStrike">
              <a:solidFill>
                <a:srgbClr val="000000"/>
              </a:solidFill>
              <a:latin typeface="Arial"/>
            </a:endParaRPr>
          </a:p>
        </p:txBody>
      </p:sp>
      <p:sp>
        <p:nvSpPr>
          <p:cNvPr id="148" name="PlaceHolder 2"/>
          <p:cNvSpPr>
            <a:spLocks noGrp="1"/>
          </p:cNvSpPr>
          <p:nvPr>
            <p:ph/>
          </p:nvPr>
        </p:nvSpPr>
        <p:spPr>
          <a:xfrm>
            <a:off x="-360" y="1980720"/>
            <a:ext cx="8915400" cy="38862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Comparison with HMMs was extended in [9] to campus-level IP network traffic, using traces sampled in Pavia and observing accurately both packet length and interarrival time sequences.  We show here the first, results for the others are similar.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nly relatively short traces have been used for the moment, and LRD characteristics cannot be described.  As expected, low dimensionality HMMs were able to describe most of the target statistical features, apart from variation coefficients and time-variance plo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 Network Traffic at campus level </a:t>
            </a:r>
            <a:r>
              <a:rPr b="0" lang="en-US" sz="2400" spc="-1" strike="noStrike">
                <a:solidFill>
                  <a:srgbClr val="000000"/>
                </a:solidFill>
                <a:latin typeface="Arial"/>
              </a:rPr>
              <a:t>(2)</a:t>
            </a:r>
            <a:br>
              <a:rPr sz="2400"/>
            </a:br>
            <a:r>
              <a:rPr b="0" lang="en-US" sz="2400" spc="-1" strike="noStrike">
                <a:solidFill>
                  <a:srgbClr val="000000"/>
                </a:solidFill>
                <a:latin typeface="Arial"/>
              </a:rPr>
              <a:t> </a:t>
            </a:r>
            <a:r>
              <a:rPr b="1" lang="en-US" sz="3200" spc="-1" strike="noStrike">
                <a:solidFill>
                  <a:srgbClr val="000000"/>
                </a:solidFill>
                <a:latin typeface="Arial"/>
              </a:rPr>
              <a:t>Autocorrelation Functions</a:t>
            </a:r>
            <a:endParaRPr b="0" lang="en-US" sz="3200" spc="-1" strike="noStrike">
              <a:solidFill>
                <a:srgbClr val="000000"/>
              </a:solidFill>
              <a:latin typeface="Arial"/>
            </a:endParaRPr>
          </a:p>
        </p:txBody>
      </p:sp>
      <p:sp>
        <p:nvSpPr>
          <p:cNvPr id="150" name="PlaceHolder 2"/>
          <p:cNvSpPr>
            <a:spLocks noGrp="1"/>
          </p:cNvSpPr>
          <p:nvPr>
            <p:ph/>
          </p:nvPr>
        </p:nvSpPr>
        <p:spPr>
          <a:xfrm>
            <a:off x="0" y="1676520"/>
            <a:ext cx="3581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Both models show good autocorrelation functions (2000 sample windows): here are the target sequences a further measured sequence, the HMM and the chaotic sequences</a:t>
            </a:r>
            <a:r>
              <a:rPr b="0" lang="it-IT" sz="2800" spc="-1" strike="noStrike">
                <a:solidFill>
                  <a:srgbClr val="000000"/>
                </a:solidFill>
                <a:latin typeface="Arial"/>
              </a:rPr>
              <a:t>.</a:t>
            </a:r>
            <a:endParaRPr b="0" lang="en-US" sz="2800" spc="-1" strike="noStrike">
              <a:solidFill>
                <a:srgbClr val="000000"/>
              </a:solidFill>
              <a:latin typeface="Arial"/>
            </a:endParaRPr>
          </a:p>
        </p:txBody>
      </p:sp>
      <p:pic>
        <p:nvPicPr>
          <p:cNvPr id="151" name="" descr=""/>
          <p:cNvPicPr/>
          <p:nvPr/>
        </p:nvPicPr>
        <p:blipFill>
          <a:blip r:embed="rId1"/>
          <a:stretch/>
        </p:blipFill>
        <p:spPr>
          <a:xfrm>
            <a:off x="3733920" y="1905120"/>
            <a:ext cx="5410080" cy="4457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53352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 Network Traffic at campus level </a:t>
            </a:r>
            <a:r>
              <a:rPr b="0" lang="en-US" sz="2400" spc="-1" strike="noStrike">
                <a:solidFill>
                  <a:srgbClr val="000000"/>
                </a:solidFill>
                <a:latin typeface="Arial"/>
              </a:rPr>
              <a:t>(3)</a:t>
            </a:r>
            <a:br>
              <a:rPr sz="2400"/>
            </a:br>
            <a:r>
              <a:rPr b="1" lang="en-US" sz="3200" spc="-1" strike="noStrike">
                <a:solidFill>
                  <a:srgbClr val="000000"/>
                </a:solidFill>
                <a:latin typeface="Arial"/>
              </a:rPr>
              <a:t>Variation Coefficients</a:t>
            </a:r>
            <a:endParaRPr b="0" lang="en-US" sz="3200" spc="-1" strike="noStrike">
              <a:solidFill>
                <a:srgbClr val="000000"/>
              </a:solidFill>
              <a:latin typeface="Arial"/>
            </a:endParaRPr>
          </a:p>
        </p:txBody>
      </p:sp>
      <p:sp>
        <p:nvSpPr>
          <p:cNvPr id="153" name=""/>
          <p:cNvSpPr/>
          <p:nvPr/>
        </p:nvSpPr>
        <p:spPr>
          <a:xfrm>
            <a:off x="31766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4" name="PlaceHolder 2"/>
          <p:cNvSpPr>
            <a:spLocks noGrp="1"/>
          </p:cNvSpPr>
          <p:nvPr>
            <p:ph/>
          </p:nvPr>
        </p:nvSpPr>
        <p:spPr>
          <a:xfrm>
            <a:off x="228600" y="1980720"/>
            <a:ext cx="266688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As usual, very good for chaos, bad for HMM.  Notice the spead between measured sequences</a:t>
            </a:r>
            <a:endParaRPr b="0" lang="en-US" sz="2800" spc="-1" strike="noStrike">
              <a:solidFill>
                <a:srgbClr val="000000"/>
              </a:solidFill>
              <a:latin typeface="Arial"/>
            </a:endParaRPr>
          </a:p>
        </p:txBody>
      </p:sp>
      <p:pic>
        <p:nvPicPr>
          <p:cNvPr id="155" name="" descr=""/>
          <p:cNvPicPr/>
          <p:nvPr/>
        </p:nvPicPr>
        <p:blipFill>
          <a:blip r:embed="rId1"/>
          <a:stretch/>
        </p:blipFill>
        <p:spPr>
          <a:xfrm>
            <a:off x="3048120" y="1676520"/>
            <a:ext cx="594360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Models </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09" name="PlaceHolder 2"/>
          <p:cNvSpPr>
            <a:spLocks noGrp="1"/>
          </p:cNvSpPr>
          <p:nvPr>
            <p:ph/>
          </p:nvPr>
        </p:nvSpPr>
        <p:spPr>
          <a:xfrm>
            <a:off x="152280" y="1676520"/>
            <a:ext cx="883944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work was devoted in past to traffic models, considering in particular the long term correlation and self-similarity features [1][2].</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ffective relevance of these features when designing networks is still up for discussion.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via unit tried in past to match to tarffic traces chaotic models based on weighted sums of geometric samples derived from strange attractor trajectories.  These models were derived from models introduced from 1994 to mimic the error gap process in digital transmission channels [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45720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 Network Traffic at campus level </a:t>
            </a:r>
            <a:r>
              <a:rPr b="0" lang="en-US" sz="2400" spc="-1" strike="noStrike">
                <a:solidFill>
                  <a:srgbClr val="000000"/>
                </a:solidFill>
                <a:latin typeface="Arial"/>
              </a:rPr>
              <a:t>(4)</a:t>
            </a:r>
            <a:br>
              <a:rPr sz="2400"/>
            </a:br>
            <a:r>
              <a:rPr b="1" lang="en-US" sz="3200" spc="-1" strike="noStrike">
                <a:solidFill>
                  <a:srgbClr val="000000"/>
                </a:solidFill>
                <a:latin typeface="Arial"/>
              </a:rPr>
              <a:t>Time-Variance plots</a:t>
            </a:r>
            <a:endParaRPr b="0" lang="en-US" sz="3200" spc="-1" strike="noStrike">
              <a:solidFill>
                <a:srgbClr val="000000"/>
              </a:solidFill>
              <a:latin typeface="Arial"/>
            </a:endParaRPr>
          </a:p>
        </p:txBody>
      </p:sp>
      <p:sp>
        <p:nvSpPr>
          <p:cNvPr id="157" name="PlaceHolder 2"/>
          <p:cNvSpPr>
            <a:spLocks noGrp="1"/>
          </p:cNvSpPr>
          <p:nvPr>
            <p:ph/>
          </p:nvPr>
        </p:nvSpPr>
        <p:spPr>
          <a:xfrm>
            <a:off x="152280" y="1980720"/>
            <a:ext cx="23623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Again, very good for chaos, bad for HMM.  Notice the spread between measured sequenc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
          <p:cNvSpPr/>
          <p:nvPr/>
        </p:nvSpPr>
        <p:spPr>
          <a:xfrm>
            <a:off x="3162240" y="237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9" name=""/>
          <p:cNvSpPr/>
          <p:nvPr/>
        </p:nvSpPr>
        <p:spPr>
          <a:xfrm>
            <a:off x="2362320" y="1663560"/>
            <a:ext cx="6564240" cy="519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53080" y="1752480"/>
            <a:ext cx="1676520" cy="1752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 to bot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urther measured trace, target and chaos</a:t>
            </a:r>
            <a:endParaRPr b="0" lang="en-US" sz="1800" spc="-1" strike="noStrike">
              <a:solidFill>
                <a:srgbClr val="000000"/>
              </a:solidFill>
              <a:latin typeface="Arial"/>
            </a:endParaRPr>
          </a:p>
        </p:txBody>
      </p:sp>
      <p:sp>
        <p:nvSpPr>
          <p:cNvPr id="161" name=""/>
          <p:cNvSpPr/>
          <p:nvPr/>
        </p:nvSpPr>
        <p:spPr>
          <a:xfrm>
            <a:off x="3124080" y="2057400"/>
            <a:ext cx="5078520" cy="421812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16240" y="2071800"/>
            <a:ext cx="180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48040" y="2071800"/>
            <a:ext cx="180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479840" y="2071800"/>
            <a:ext cx="180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111640" y="2071800"/>
            <a:ext cx="180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56400" y="2071800"/>
            <a:ext cx="144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88200" y="2071800"/>
            <a:ext cx="144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020000" y="2071800"/>
            <a:ext cx="144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651800" y="2071800"/>
            <a:ext cx="144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8294760" y="2071800"/>
            <a:ext cx="1440" cy="4217760"/>
          </a:xfrm>
          <a:custGeom>
            <a:avLst/>
            <a:gdLst/>
            <a:ahLst/>
            <a:rect l="l" t="t" r="r" b="b"/>
            <a:pathLst>
              <a:path w="0" h="342">
                <a:moveTo>
                  <a:pt x="0" y="342"/>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216240" y="6289560"/>
            <a:ext cx="5078520" cy="180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3216240" y="5686560"/>
            <a:ext cx="5078520" cy="144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3216240" y="5081760"/>
            <a:ext cx="5078520" cy="144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 name=""/>
          <p:cNvSpPr/>
          <p:nvPr/>
        </p:nvSpPr>
        <p:spPr>
          <a:xfrm>
            <a:off x="3216240" y="4476600"/>
            <a:ext cx="5078520" cy="180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3216240" y="3871800"/>
            <a:ext cx="5078520" cy="180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3216240" y="3268800"/>
            <a:ext cx="5078520" cy="144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3216240" y="2664000"/>
            <a:ext cx="5078520" cy="144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a:off x="3216240" y="2071800"/>
            <a:ext cx="5078520" cy="1440"/>
          </a:xfrm>
          <a:custGeom>
            <a:avLst/>
            <a:gdLst/>
            <a:ahLst/>
            <a:rect l="l" t="t" r="r" b="b"/>
            <a:pathLst>
              <a:path w="434" h="0">
                <a:moveTo>
                  <a:pt x="0" y="0"/>
                </a:moveTo>
                <a:lnTo>
                  <a:pt x="434" y="0"/>
                </a:lnTo>
                <a:lnTo>
                  <a:pt x="43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 name=""/>
          <p:cNvSpPr/>
          <p:nvPr/>
        </p:nvSpPr>
        <p:spPr>
          <a:xfrm>
            <a:off x="3216240" y="2071800"/>
            <a:ext cx="507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a:off x="3216240" y="6289560"/>
            <a:ext cx="507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flipV="1">
            <a:off x="8294760" y="2071800"/>
            <a:ext cx="1440" cy="42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V="1">
            <a:off x="3216240" y="2071800"/>
            <a:ext cx="1800" cy="42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216240" y="6289560"/>
            <a:ext cx="507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flipV="1">
            <a:off x="3216240" y="2071800"/>
            <a:ext cx="1800" cy="42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3216240" y="62290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6" name=""/>
          <p:cNvSpPr/>
          <p:nvPr/>
        </p:nvSpPr>
        <p:spPr>
          <a:xfrm>
            <a:off x="3216240" y="207180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7" name=""/>
          <p:cNvSpPr/>
          <p:nvPr/>
        </p:nvSpPr>
        <p:spPr>
          <a:xfrm>
            <a:off x="3211200" y="6327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188" name=""/>
          <p:cNvSpPr/>
          <p:nvPr/>
        </p:nvSpPr>
        <p:spPr>
          <a:xfrm flipV="1">
            <a:off x="3848040" y="62290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48040" y="207180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0" name=""/>
          <p:cNvSpPr/>
          <p:nvPr/>
        </p:nvSpPr>
        <p:spPr>
          <a:xfrm>
            <a:off x="3769200" y="6327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5</a:t>
            </a:r>
            <a:endParaRPr b="0" lang="en-US" sz="1300" spc="-1" strike="noStrike">
              <a:solidFill>
                <a:srgbClr val="000000"/>
              </a:solidFill>
              <a:latin typeface="Arial"/>
            </a:endParaRPr>
          </a:p>
        </p:txBody>
      </p:sp>
      <p:sp>
        <p:nvSpPr>
          <p:cNvPr id="191" name=""/>
          <p:cNvSpPr/>
          <p:nvPr/>
        </p:nvSpPr>
        <p:spPr>
          <a:xfrm flipV="1">
            <a:off x="4479840" y="62290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2" name=""/>
          <p:cNvSpPr/>
          <p:nvPr/>
        </p:nvSpPr>
        <p:spPr>
          <a:xfrm>
            <a:off x="4479840" y="207180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3" name=""/>
          <p:cNvSpPr/>
          <p:nvPr/>
        </p:nvSpPr>
        <p:spPr>
          <a:xfrm>
            <a:off x="4475160" y="6327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194" name=""/>
          <p:cNvSpPr/>
          <p:nvPr/>
        </p:nvSpPr>
        <p:spPr>
          <a:xfrm flipV="1">
            <a:off x="5111640" y="622908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5" name=""/>
          <p:cNvSpPr/>
          <p:nvPr/>
        </p:nvSpPr>
        <p:spPr>
          <a:xfrm>
            <a:off x="5111640" y="2071800"/>
            <a:ext cx="180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6" name=""/>
          <p:cNvSpPr/>
          <p:nvPr/>
        </p:nvSpPr>
        <p:spPr>
          <a:xfrm>
            <a:off x="5032800" y="6327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5</a:t>
            </a:r>
            <a:endParaRPr b="0" lang="en-US" sz="1300" spc="-1" strike="noStrike">
              <a:solidFill>
                <a:srgbClr val="000000"/>
              </a:solidFill>
              <a:latin typeface="Arial"/>
            </a:endParaRPr>
          </a:p>
        </p:txBody>
      </p:sp>
      <p:sp>
        <p:nvSpPr>
          <p:cNvPr id="197" name=""/>
          <p:cNvSpPr/>
          <p:nvPr/>
        </p:nvSpPr>
        <p:spPr>
          <a:xfrm flipV="1">
            <a:off x="5756400" y="6229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98" name=""/>
          <p:cNvSpPr/>
          <p:nvPr/>
        </p:nvSpPr>
        <p:spPr>
          <a:xfrm>
            <a:off x="5756400" y="207180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9" name=""/>
          <p:cNvSpPr/>
          <p:nvPr/>
        </p:nvSpPr>
        <p:spPr>
          <a:xfrm>
            <a:off x="5751360" y="6327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p:txBody>
      </p:sp>
      <p:sp>
        <p:nvSpPr>
          <p:cNvPr id="200" name=""/>
          <p:cNvSpPr/>
          <p:nvPr/>
        </p:nvSpPr>
        <p:spPr>
          <a:xfrm flipV="1">
            <a:off x="6388200" y="6229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1" name=""/>
          <p:cNvSpPr/>
          <p:nvPr/>
        </p:nvSpPr>
        <p:spPr>
          <a:xfrm>
            <a:off x="6388200" y="207180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2" name=""/>
          <p:cNvSpPr/>
          <p:nvPr/>
        </p:nvSpPr>
        <p:spPr>
          <a:xfrm>
            <a:off x="6307560" y="6327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5</a:t>
            </a:r>
            <a:endParaRPr b="0" lang="en-US" sz="1300" spc="-1" strike="noStrike">
              <a:solidFill>
                <a:srgbClr val="000000"/>
              </a:solidFill>
              <a:latin typeface="Arial"/>
            </a:endParaRPr>
          </a:p>
        </p:txBody>
      </p:sp>
      <p:sp>
        <p:nvSpPr>
          <p:cNvPr id="203" name=""/>
          <p:cNvSpPr/>
          <p:nvPr/>
        </p:nvSpPr>
        <p:spPr>
          <a:xfrm flipV="1">
            <a:off x="7020000" y="6229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4" name=""/>
          <p:cNvSpPr/>
          <p:nvPr/>
        </p:nvSpPr>
        <p:spPr>
          <a:xfrm>
            <a:off x="7020000" y="207180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5" name=""/>
          <p:cNvSpPr/>
          <p:nvPr/>
        </p:nvSpPr>
        <p:spPr>
          <a:xfrm>
            <a:off x="7014960" y="6327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p:txBody>
      </p:sp>
      <p:sp>
        <p:nvSpPr>
          <p:cNvPr id="206" name=""/>
          <p:cNvSpPr/>
          <p:nvPr/>
        </p:nvSpPr>
        <p:spPr>
          <a:xfrm flipV="1">
            <a:off x="7651800" y="6229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7" name=""/>
          <p:cNvSpPr/>
          <p:nvPr/>
        </p:nvSpPr>
        <p:spPr>
          <a:xfrm>
            <a:off x="7651800" y="207180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 name=""/>
          <p:cNvSpPr/>
          <p:nvPr/>
        </p:nvSpPr>
        <p:spPr>
          <a:xfrm>
            <a:off x="7571160" y="6327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5</a:t>
            </a:r>
            <a:endParaRPr b="0" lang="en-US" sz="1300" spc="-1" strike="noStrike">
              <a:solidFill>
                <a:srgbClr val="000000"/>
              </a:solidFill>
              <a:latin typeface="Arial"/>
            </a:endParaRPr>
          </a:p>
        </p:txBody>
      </p:sp>
      <p:sp>
        <p:nvSpPr>
          <p:cNvPr id="209" name=""/>
          <p:cNvSpPr/>
          <p:nvPr/>
        </p:nvSpPr>
        <p:spPr>
          <a:xfrm flipV="1">
            <a:off x="8294760" y="622908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10" name=""/>
          <p:cNvSpPr/>
          <p:nvPr/>
        </p:nvSpPr>
        <p:spPr>
          <a:xfrm>
            <a:off x="8294760" y="2071800"/>
            <a:ext cx="1440" cy="4896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1" name=""/>
          <p:cNvSpPr/>
          <p:nvPr/>
        </p:nvSpPr>
        <p:spPr>
          <a:xfrm>
            <a:off x="8289720" y="6327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Arial"/>
            </a:endParaRPr>
          </a:p>
        </p:txBody>
      </p:sp>
      <p:sp>
        <p:nvSpPr>
          <p:cNvPr id="212" name=""/>
          <p:cNvSpPr/>
          <p:nvPr/>
        </p:nvSpPr>
        <p:spPr>
          <a:xfrm>
            <a:off x="3216240" y="628956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
          <p:cNvSpPr/>
          <p:nvPr/>
        </p:nvSpPr>
        <p:spPr>
          <a:xfrm flipH="1">
            <a:off x="8235720" y="62895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4" name=""/>
          <p:cNvSpPr/>
          <p:nvPr/>
        </p:nvSpPr>
        <p:spPr>
          <a:xfrm>
            <a:off x="2932920" y="61912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4</a:t>
            </a:r>
            <a:endParaRPr b="0" lang="en-US" sz="1300" spc="-1" strike="noStrike">
              <a:solidFill>
                <a:srgbClr val="000000"/>
              </a:solidFill>
              <a:latin typeface="Arial"/>
            </a:endParaRPr>
          </a:p>
        </p:txBody>
      </p:sp>
      <p:sp>
        <p:nvSpPr>
          <p:cNvPr id="215" name=""/>
          <p:cNvSpPr/>
          <p:nvPr/>
        </p:nvSpPr>
        <p:spPr>
          <a:xfrm>
            <a:off x="3216240" y="56865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flipH="1">
            <a:off x="8235720" y="56865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
          <p:cNvSpPr/>
          <p:nvPr/>
        </p:nvSpPr>
        <p:spPr>
          <a:xfrm>
            <a:off x="2932920" y="558648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2</a:t>
            </a:r>
            <a:endParaRPr b="0" lang="en-US" sz="1300" spc="-1" strike="noStrike">
              <a:solidFill>
                <a:srgbClr val="000000"/>
              </a:solidFill>
              <a:latin typeface="Arial"/>
            </a:endParaRPr>
          </a:p>
        </p:txBody>
      </p:sp>
      <p:sp>
        <p:nvSpPr>
          <p:cNvPr id="218" name=""/>
          <p:cNvSpPr/>
          <p:nvPr/>
        </p:nvSpPr>
        <p:spPr>
          <a:xfrm>
            <a:off x="3216240" y="508176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
          <p:cNvSpPr/>
          <p:nvPr/>
        </p:nvSpPr>
        <p:spPr>
          <a:xfrm flipH="1">
            <a:off x="8235720" y="5081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
          <p:cNvSpPr/>
          <p:nvPr/>
        </p:nvSpPr>
        <p:spPr>
          <a:xfrm>
            <a:off x="3117600" y="4983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p:txBody>
      </p:sp>
      <p:sp>
        <p:nvSpPr>
          <p:cNvPr id="221" name=""/>
          <p:cNvSpPr/>
          <p:nvPr/>
        </p:nvSpPr>
        <p:spPr>
          <a:xfrm>
            <a:off x="3216240" y="44766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2" name=""/>
          <p:cNvSpPr/>
          <p:nvPr/>
        </p:nvSpPr>
        <p:spPr>
          <a:xfrm flipH="1">
            <a:off x="8235720" y="4476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2984760" y="43783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2</a:t>
            </a:r>
            <a:endParaRPr b="0" lang="en-US" sz="1300" spc="-1" strike="noStrike">
              <a:solidFill>
                <a:srgbClr val="000000"/>
              </a:solidFill>
              <a:latin typeface="Arial"/>
            </a:endParaRPr>
          </a:p>
        </p:txBody>
      </p:sp>
      <p:sp>
        <p:nvSpPr>
          <p:cNvPr id="224" name=""/>
          <p:cNvSpPr/>
          <p:nvPr/>
        </p:nvSpPr>
        <p:spPr>
          <a:xfrm>
            <a:off x="3216240" y="3871800"/>
            <a:ext cx="47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flipH="1">
            <a:off x="8235720" y="38718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2984760" y="37735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4</a:t>
            </a:r>
            <a:endParaRPr b="0" lang="en-US" sz="1300" spc="-1" strike="noStrike">
              <a:solidFill>
                <a:srgbClr val="000000"/>
              </a:solidFill>
              <a:latin typeface="Arial"/>
            </a:endParaRPr>
          </a:p>
        </p:txBody>
      </p:sp>
      <p:sp>
        <p:nvSpPr>
          <p:cNvPr id="227" name=""/>
          <p:cNvSpPr/>
          <p:nvPr/>
        </p:nvSpPr>
        <p:spPr>
          <a:xfrm>
            <a:off x="3216240" y="3268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 name=""/>
          <p:cNvSpPr/>
          <p:nvPr/>
        </p:nvSpPr>
        <p:spPr>
          <a:xfrm flipH="1">
            <a:off x="8235720" y="3268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2984760" y="316872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6</a:t>
            </a:r>
            <a:endParaRPr b="0" lang="en-US" sz="1300" spc="-1" strike="noStrike">
              <a:solidFill>
                <a:srgbClr val="000000"/>
              </a:solidFill>
              <a:latin typeface="Arial"/>
            </a:endParaRPr>
          </a:p>
        </p:txBody>
      </p:sp>
      <p:sp>
        <p:nvSpPr>
          <p:cNvPr id="230" name=""/>
          <p:cNvSpPr/>
          <p:nvPr/>
        </p:nvSpPr>
        <p:spPr>
          <a:xfrm>
            <a:off x="3216240" y="26640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flipH="1">
            <a:off x="8235720" y="2664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 name=""/>
          <p:cNvSpPr/>
          <p:nvPr/>
        </p:nvSpPr>
        <p:spPr>
          <a:xfrm>
            <a:off x="2984760" y="2565360"/>
            <a:ext cx="229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8</a:t>
            </a:r>
            <a:endParaRPr b="0" lang="en-US" sz="1300" spc="-1" strike="noStrike">
              <a:solidFill>
                <a:srgbClr val="000000"/>
              </a:solidFill>
              <a:latin typeface="Arial"/>
            </a:endParaRPr>
          </a:p>
        </p:txBody>
      </p:sp>
      <p:sp>
        <p:nvSpPr>
          <p:cNvPr id="233" name=""/>
          <p:cNvSpPr/>
          <p:nvPr/>
        </p:nvSpPr>
        <p:spPr>
          <a:xfrm>
            <a:off x="3216240" y="2071800"/>
            <a:ext cx="4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4" name=""/>
          <p:cNvSpPr/>
          <p:nvPr/>
        </p:nvSpPr>
        <p:spPr>
          <a:xfrm flipH="1">
            <a:off x="8235720" y="20718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3117600" y="19731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p:txBody>
      </p:sp>
      <p:sp>
        <p:nvSpPr>
          <p:cNvPr id="236" name=""/>
          <p:cNvSpPr/>
          <p:nvPr/>
        </p:nvSpPr>
        <p:spPr>
          <a:xfrm>
            <a:off x="3216240" y="2071800"/>
            <a:ext cx="5078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3216240" y="6289560"/>
            <a:ext cx="507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flipV="1">
            <a:off x="8294760" y="2071800"/>
            <a:ext cx="1440" cy="42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3216240" y="2071800"/>
            <a:ext cx="1800" cy="42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216240" y="2071800"/>
            <a:ext cx="3065400" cy="1479600"/>
          </a:xfrm>
          <a:custGeom>
            <a:avLst/>
            <a:gdLst/>
            <a:ahLst/>
            <a:rect l="l" t="t" r="r" b="b"/>
            <a:pathLst>
              <a:path w="1931" h="932">
                <a:moveTo>
                  <a:pt x="0" y="0"/>
                </a:moveTo>
                <a:lnTo>
                  <a:pt x="236" y="140"/>
                </a:lnTo>
                <a:lnTo>
                  <a:pt x="376" y="217"/>
                </a:lnTo>
                <a:lnTo>
                  <a:pt x="479" y="272"/>
                </a:lnTo>
                <a:lnTo>
                  <a:pt x="553" y="311"/>
                </a:lnTo>
                <a:lnTo>
                  <a:pt x="619" y="342"/>
                </a:lnTo>
                <a:lnTo>
                  <a:pt x="671" y="373"/>
                </a:lnTo>
                <a:lnTo>
                  <a:pt x="715" y="396"/>
                </a:lnTo>
                <a:lnTo>
                  <a:pt x="759" y="412"/>
                </a:lnTo>
                <a:lnTo>
                  <a:pt x="796" y="435"/>
                </a:lnTo>
                <a:lnTo>
                  <a:pt x="826" y="450"/>
                </a:lnTo>
                <a:lnTo>
                  <a:pt x="863" y="466"/>
                </a:lnTo>
                <a:lnTo>
                  <a:pt x="885" y="482"/>
                </a:lnTo>
                <a:lnTo>
                  <a:pt x="914" y="489"/>
                </a:lnTo>
                <a:lnTo>
                  <a:pt x="936" y="505"/>
                </a:lnTo>
                <a:lnTo>
                  <a:pt x="958" y="513"/>
                </a:lnTo>
                <a:lnTo>
                  <a:pt x="981" y="528"/>
                </a:lnTo>
                <a:lnTo>
                  <a:pt x="1003" y="536"/>
                </a:lnTo>
                <a:lnTo>
                  <a:pt x="1017" y="544"/>
                </a:lnTo>
                <a:lnTo>
                  <a:pt x="1039" y="551"/>
                </a:lnTo>
                <a:lnTo>
                  <a:pt x="1054" y="559"/>
                </a:lnTo>
                <a:lnTo>
                  <a:pt x="1069" y="567"/>
                </a:lnTo>
                <a:lnTo>
                  <a:pt x="1084" y="575"/>
                </a:lnTo>
                <a:lnTo>
                  <a:pt x="1098" y="583"/>
                </a:lnTo>
                <a:lnTo>
                  <a:pt x="1113" y="590"/>
                </a:lnTo>
                <a:lnTo>
                  <a:pt x="1128" y="598"/>
                </a:lnTo>
                <a:lnTo>
                  <a:pt x="1143" y="606"/>
                </a:lnTo>
                <a:lnTo>
                  <a:pt x="1157" y="614"/>
                </a:lnTo>
                <a:lnTo>
                  <a:pt x="1165" y="621"/>
                </a:lnTo>
                <a:lnTo>
                  <a:pt x="1180" y="621"/>
                </a:lnTo>
                <a:lnTo>
                  <a:pt x="1187" y="629"/>
                </a:lnTo>
                <a:lnTo>
                  <a:pt x="1202" y="637"/>
                </a:lnTo>
                <a:lnTo>
                  <a:pt x="1209" y="645"/>
                </a:lnTo>
                <a:lnTo>
                  <a:pt x="1224" y="645"/>
                </a:lnTo>
                <a:lnTo>
                  <a:pt x="1231" y="652"/>
                </a:lnTo>
                <a:lnTo>
                  <a:pt x="1238" y="660"/>
                </a:lnTo>
                <a:lnTo>
                  <a:pt x="1253" y="660"/>
                </a:lnTo>
                <a:lnTo>
                  <a:pt x="1261" y="668"/>
                </a:lnTo>
                <a:lnTo>
                  <a:pt x="1268" y="668"/>
                </a:lnTo>
                <a:lnTo>
                  <a:pt x="1275" y="676"/>
                </a:lnTo>
                <a:lnTo>
                  <a:pt x="1283" y="676"/>
                </a:lnTo>
                <a:lnTo>
                  <a:pt x="1297" y="684"/>
                </a:lnTo>
                <a:lnTo>
                  <a:pt x="1305" y="684"/>
                </a:lnTo>
                <a:lnTo>
                  <a:pt x="1312" y="691"/>
                </a:lnTo>
                <a:lnTo>
                  <a:pt x="1320" y="691"/>
                </a:lnTo>
                <a:lnTo>
                  <a:pt x="1327" y="699"/>
                </a:lnTo>
                <a:lnTo>
                  <a:pt x="1334" y="699"/>
                </a:lnTo>
                <a:lnTo>
                  <a:pt x="1342" y="707"/>
                </a:lnTo>
                <a:lnTo>
                  <a:pt x="1349" y="707"/>
                </a:lnTo>
                <a:lnTo>
                  <a:pt x="1356" y="715"/>
                </a:lnTo>
                <a:lnTo>
                  <a:pt x="1364" y="715"/>
                </a:lnTo>
                <a:lnTo>
                  <a:pt x="1371" y="715"/>
                </a:lnTo>
                <a:lnTo>
                  <a:pt x="1379" y="722"/>
                </a:lnTo>
                <a:lnTo>
                  <a:pt x="1386" y="730"/>
                </a:lnTo>
                <a:lnTo>
                  <a:pt x="1393" y="730"/>
                </a:lnTo>
                <a:lnTo>
                  <a:pt x="1401" y="730"/>
                </a:lnTo>
                <a:lnTo>
                  <a:pt x="1408" y="738"/>
                </a:lnTo>
                <a:lnTo>
                  <a:pt x="1415" y="746"/>
                </a:lnTo>
                <a:lnTo>
                  <a:pt x="1423" y="746"/>
                </a:lnTo>
                <a:lnTo>
                  <a:pt x="1430" y="746"/>
                </a:lnTo>
                <a:lnTo>
                  <a:pt x="1438" y="754"/>
                </a:lnTo>
                <a:lnTo>
                  <a:pt x="1445" y="754"/>
                </a:lnTo>
                <a:lnTo>
                  <a:pt x="1452" y="754"/>
                </a:lnTo>
                <a:lnTo>
                  <a:pt x="1460" y="761"/>
                </a:lnTo>
                <a:lnTo>
                  <a:pt x="1467" y="761"/>
                </a:lnTo>
                <a:lnTo>
                  <a:pt x="1474" y="769"/>
                </a:lnTo>
                <a:lnTo>
                  <a:pt x="1482" y="769"/>
                </a:lnTo>
                <a:lnTo>
                  <a:pt x="1489" y="777"/>
                </a:lnTo>
                <a:lnTo>
                  <a:pt x="1496" y="777"/>
                </a:lnTo>
                <a:lnTo>
                  <a:pt x="1504" y="785"/>
                </a:lnTo>
                <a:lnTo>
                  <a:pt x="1511" y="785"/>
                </a:lnTo>
                <a:lnTo>
                  <a:pt x="1519" y="785"/>
                </a:lnTo>
                <a:lnTo>
                  <a:pt x="1526" y="792"/>
                </a:lnTo>
                <a:lnTo>
                  <a:pt x="1533" y="792"/>
                </a:lnTo>
                <a:lnTo>
                  <a:pt x="1541" y="800"/>
                </a:lnTo>
                <a:lnTo>
                  <a:pt x="1548" y="800"/>
                </a:lnTo>
                <a:lnTo>
                  <a:pt x="1555" y="800"/>
                </a:lnTo>
                <a:lnTo>
                  <a:pt x="1563" y="808"/>
                </a:lnTo>
                <a:lnTo>
                  <a:pt x="1570" y="808"/>
                </a:lnTo>
                <a:lnTo>
                  <a:pt x="1578" y="808"/>
                </a:lnTo>
                <a:lnTo>
                  <a:pt x="1585" y="816"/>
                </a:lnTo>
                <a:lnTo>
                  <a:pt x="1592" y="816"/>
                </a:lnTo>
                <a:lnTo>
                  <a:pt x="1600" y="823"/>
                </a:lnTo>
                <a:lnTo>
                  <a:pt x="1607" y="823"/>
                </a:lnTo>
                <a:lnTo>
                  <a:pt x="1614" y="823"/>
                </a:lnTo>
                <a:lnTo>
                  <a:pt x="1622" y="831"/>
                </a:lnTo>
                <a:lnTo>
                  <a:pt x="1629" y="831"/>
                </a:lnTo>
                <a:lnTo>
                  <a:pt x="1637" y="839"/>
                </a:lnTo>
                <a:lnTo>
                  <a:pt x="1644" y="839"/>
                </a:lnTo>
                <a:lnTo>
                  <a:pt x="1651" y="839"/>
                </a:lnTo>
                <a:lnTo>
                  <a:pt x="1659" y="847"/>
                </a:lnTo>
                <a:lnTo>
                  <a:pt x="1666" y="847"/>
                </a:lnTo>
                <a:lnTo>
                  <a:pt x="1673" y="847"/>
                </a:lnTo>
                <a:lnTo>
                  <a:pt x="1681" y="855"/>
                </a:lnTo>
                <a:lnTo>
                  <a:pt x="1688" y="855"/>
                </a:lnTo>
                <a:lnTo>
                  <a:pt x="1696" y="855"/>
                </a:lnTo>
                <a:lnTo>
                  <a:pt x="1703" y="862"/>
                </a:lnTo>
                <a:lnTo>
                  <a:pt x="1710" y="862"/>
                </a:lnTo>
                <a:lnTo>
                  <a:pt x="1718" y="862"/>
                </a:lnTo>
                <a:lnTo>
                  <a:pt x="1725" y="870"/>
                </a:lnTo>
                <a:lnTo>
                  <a:pt x="1732" y="870"/>
                </a:lnTo>
                <a:lnTo>
                  <a:pt x="1740" y="870"/>
                </a:lnTo>
                <a:lnTo>
                  <a:pt x="1747" y="878"/>
                </a:lnTo>
                <a:lnTo>
                  <a:pt x="1754" y="878"/>
                </a:lnTo>
                <a:lnTo>
                  <a:pt x="1762" y="878"/>
                </a:lnTo>
                <a:lnTo>
                  <a:pt x="1769" y="886"/>
                </a:lnTo>
                <a:lnTo>
                  <a:pt x="1777" y="886"/>
                </a:lnTo>
                <a:lnTo>
                  <a:pt x="1784" y="886"/>
                </a:lnTo>
                <a:lnTo>
                  <a:pt x="1791" y="893"/>
                </a:lnTo>
                <a:lnTo>
                  <a:pt x="1799" y="893"/>
                </a:lnTo>
                <a:lnTo>
                  <a:pt x="1806" y="893"/>
                </a:lnTo>
                <a:lnTo>
                  <a:pt x="1813" y="901"/>
                </a:lnTo>
                <a:lnTo>
                  <a:pt x="1821" y="901"/>
                </a:lnTo>
                <a:lnTo>
                  <a:pt x="1828" y="901"/>
                </a:lnTo>
                <a:lnTo>
                  <a:pt x="1836" y="909"/>
                </a:lnTo>
                <a:lnTo>
                  <a:pt x="1843" y="909"/>
                </a:lnTo>
                <a:lnTo>
                  <a:pt x="1850" y="909"/>
                </a:lnTo>
                <a:lnTo>
                  <a:pt x="1858" y="909"/>
                </a:lnTo>
                <a:lnTo>
                  <a:pt x="1865" y="917"/>
                </a:lnTo>
                <a:lnTo>
                  <a:pt x="1872" y="917"/>
                </a:lnTo>
                <a:lnTo>
                  <a:pt x="1880" y="917"/>
                </a:lnTo>
                <a:lnTo>
                  <a:pt x="1887" y="924"/>
                </a:lnTo>
                <a:lnTo>
                  <a:pt x="1895" y="924"/>
                </a:lnTo>
                <a:lnTo>
                  <a:pt x="1902" y="924"/>
                </a:lnTo>
                <a:lnTo>
                  <a:pt x="1909" y="924"/>
                </a:lnTo>
                <a:lnTo>
                  <a:pt x="1917" y="932"/>
                </a:lnTo>
                <a:lnTo>
                  <a:pt x="1924" y="932"/>
                </a:lnTo>
                <a:lnTo>
                  <a:pt x="1931" y="93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281640" y="3551400"/>
            <a:ext cx="1487520" cy="407880"/>
          </a:xfrm>
          <a:custGeom>
            <a:avLst/>
            <a:gdLst/>
            <a:ahLst/>
            <a:rect l="l" t="t" r="r" b="b"/>
            <a:pathLst>
              <a:path w="937" h="257">
                <a:moveTo>
                  <a:pt x="0" y="0"/>
                </a:moveTo>
                <a:lnTo>
                  <a:pt x="8" y="8"/>
                </a:lnTo>
                <a:lnTo>
                  <a:pt x="15" y="8"/>
                </a:lnTo>
                <a:lnTo>
                  <a:pt x="23" y="8"/>
                </a:lnTo>
                <a:lnTo>
                  <a:pt x="30" y="8"/>
                </a:lnTo>
                <a:lnTo>
                  <a:pt x="37" y="16"/>
                </a:lnTo>
                <a:lnTo>
                  <a:pt x="45" y="16"/>
                </a:lnTo>
                <a:lnTo>
                  <a:pt x="52" y="16"/>
                </a:lnTo>
                <a:lnTo>
                  <a:pt x="59" y="24"/>
                </a:lnTo>
                <a:lnTo>
                  <a:pt x="67" y="24"/>
                </a:lnTo>
                <a:lnTo>
                  <a:pt x="74" y="24"/>
                </a:lnTo>
                <a:lnTo>
                  <a:pt x="81" y="24"/>
                </a:lnTo>
                <a:lnTo>
                  <a:pt x="89" y="31"/>
                </a:lnTo>
                <a:lnTo>
                  <a:pt x="96" y="31"/>
                </a:lnTo>
                <a:lnTo>
                  <a:pt x="104" y="31"/>
                </a:lnTo>
                <a:lnTo>
                  <a:pt x="111" y="31"/>
                </a:lnTo>
                <a:lnTo>
                  <a:pt x="118" y="39"/>
                </a:lnTo>
                <a:lnTo>
                  <a:pt x="126" y="39"/>
                </a:lnTo>
                <a:lnTo>
                  <a:pt x="133" y="39"/>
                </a:lnTo>
                <a:lnTo>
                  <a:pt x="140" y="47"/>
                </a:lnTo>
                <a:lnTo>
                  <a:pt x="148" y="47"/>
                </a:lnTo>
                <a:lnTo>
                  <a:pt x="155" y="47"/>
                </a:lnTo>
                <a:lnTo>
                  <a:pt x="163" y="47"/>
                </a:lnTo>
                <a:lnTo>
                  <a:pt x="170" y="47"/>
                </a:lnTo>
                <a:lnTo>
                  <a:pt x="177" y="55"/>
                </a:lnTo>
                <a:lnTo>
                  <a:pt x="185" y="55"/>
                </a:lnTo>
                <a:lnTo>
                  <a:pt x="192" y="55"/>
                </a:lnTo>
                <a:lnTo>
                  <a:pt x="199" y="55"/>
                </a:lnTo>
                <a:lnTo>
                  <a:pt x="207" y="62"/>
                </a:lnTo>
                <a:lnTo>
                  <a:pt x="214" y="62"/>
                </a:lnTo>
                <a:lnTo>
                  <a:pt x="222" y="62"/>
                </a:lnTo>
                <a:lnTo>
                  <a:pt x="229" y="62"/>
                </a:lnTo>
                <a:lnTo>
                  <a:pt x="236" y="70"/>
                </a:lnTo>
                <a:lnTo>
                  <a:pt x="244" y="70"/>
                </a:lnTo>
                <a:lnTo>
                  <a:pt x="251" y="70"/>
                </a:lnTo>
                <a:lnTo>
                  <a:pt x="258" y="70"/>
                </a:lnTo>
                <a:lnTo>
                  <a:pt x="266" y="78"/>
                </a:lnTo>
                <a:lnTo>
                  <a:pt x="273" y="78"/>
                </a:lnTo>
                <a:lnTo>
                  <a:pt x="280" y="78"/>
                </a:lnTo>
                <a:lnTo>
                  <a:pt x="288" y="78"/>
                </a:lnTo>
                <a:lnTo>
                  <a:pt x="295" y="86"/>
                </a:lnTo>
                <a:lnTo>
                  <a:pt x="303" y="86"/>
                </a:lnTo>
                <a:lnTo>
                  <a:pt x="310" y="86"/>
                </a:lnTo>
                <a:lnTo>
                  <a:pt x="317" y="86"/>
                </a:lnTo>
                <a:lnTo>
                  <a:pt x="325" y="86"/>
                </a:lnTo>
                <a:lnTo>
                  <a:pt x="332" y="93"/>
                </a:lnTo>
                <a:lnTo>
                  <a:pt x="339" y="93"/>
                </a:lnTo>
                <a:lnTo>
                  <a:pt x="347" y="93"/>
                </a:lnTo>
                <a:lnTo>
                  <a:pt x="354" y="93"/>
                </a:lnTo>
                <a:lnTo>
                  <a:pt x="362" y="101"/>
                </a:lnTo>
                <a:lnTo>
                  <a:pt x="369" y="101"/>
                </a:lnTo>
                <a:lnTo>
                  <a:pt x="376" y="101"/>
                </a:lnTo>
                <a:lnTo>
                  <a:pt x="384" y="101"/>
                </a:lnTo>
                <a:lnTo>
                  <a:pt x="391" y="109"/>
                </a:lnTo>
                <a:lnTo>
                  <a:pt x="398" y="109"/>
                </a:lnTo>
                <a:lnTo>
                  <a:pt x="406" y="109"/>
                </a:lnTo>
                <a:lnTo>
                  <a:pt x="413" y="109"/>
                </a:lnTo>
                <a:lnTo>
                  <a:pt x="421" y="109"/>
                </a:lnTo>
                <a:lnTo>
                  <a:pt x="428" y="117"/>
                </a:lnTo>
                <a:lnTo>
                  <a:pt x="435" y="117"/>
                </a:lnTo>
                <a:lnTo>
                  <a:pt x="443" y="117"/>
                </a:lnTo>
                <a:lnTo>
                  <a:pt x="450" y="117"/>
                </a:lnTo>
                <a:lnTo>
                  <a:pt x="457" y="125"/>
                </a:lnTo>
                <a:lnTo>
                  <a:pt x="465" y="125"/>
                </a:lnTo>
                <a:lnTo>
                  <a:pt x="472" y="125"/>
                </a:lnTo>
                <a:lnTo>
                  <a:pt x="480" y="125"/>
                </a:lnTo>
                <a:lnTo>
                  <a:pt x="487" y="132"/>
                </a:lnTo>
                <a:lnTo>
                  <a:pt x="494" y="132"/>
                </a:lnTo>
                <a:lnTo>
                  <a:pt x="502" y="132"/>
                </a:lnTo>
                <a:lnTo>
                  <a:pt x="509" y="132"/>
                </a:lnTo>
                <a:lnTo>
                  <a:pt x="516" y="132"/>
                </a:lnTo>
                <a:lnTo>
                  <a:pt x="524" y="140"/>
                </a:lnTo>
                <a:lnTo>
                  <a:pt x="531" y="140"/>
                </a:lnTo>
                <a:lnTo>
                  <a:pt x="538" y="140"/>
                </a:lnTo>
                <a:lnTo>
                  <a:pt x="546" y="140"/>
                </a:lnTo>
                <a:lnTo>
                  <a:pt x="553" y="148"/>
                </a:lnTo>
                <a:lnTo>
                  <a:pt x="561" y="148"/>
                </a:lnTo>
                <a:lnTo>
                  <a:pt x="568" y="148"/>
                </a:lnTo>
                <a:lnTo>
                  <a:pt x="575" y="148"/>
                </a:lnTo>
                <a:lnTo>
                  <a:pt x="583" y="156"/>
                </a:lnTo>
                <a:lnTo>
                  <a:pt x="590" y="156"/>
                </a:lnTo>
                <a:lnTo>
                  <a:pt x="597" y="156"/>
                </a:lnTo>
                <a:lnTo>
                  <a:pt x="605" y="156"/>
                </a:lnTo>
                <a:lnTo>
                  <a:pt x="612" y="163"/>
                </a:lnTo>
                <a:lnTo>
                  <a:pt x="620" y="163"/>
                </a:lnTo>
                <a:lnTo>
                  <a:pt x="627" y="163"/>
                </a:lnTo>
                <a:lnTo>
                  <a:pt x="634" y="171"/>
                </a:lnTo>
                <a:lnTo>
                  <a:pt x="642" y="171"/>
                </a:lnTo>
                <a:lnTo>
                  <a:pt x="649" y="171"/>
                </a:lnTo>
                <a:lnTo>
                  <a:pt x="656" y="171"/>
                </a:lnTo>
                <a:lnTo>
                  <a:pt x="664" y="179"/>
                </a:lnTo>
                <a:lnTo>
                  <a:pt x="671" y="179"/>
                </a:lnTo>
                <a:lnTo>
                  <a:pt x="679" y="179"/>
                </a:lnTo>
                <a:lnTo>
                  <a:pt x="686" y="179"/>
                </a:lnTo>
                <a:lnTo>
                  <a:pt x="693" y="187"/>
                </a:lnTo>
                <a:lnTo>
                  <a:pt x="701" y="187"/>
                </a:lnTo>
                <a:lnTo>
                  <a:pt x="708" y="187"/>
                </a:lnTo>
                <a:lnTo>
                  <a:pt x="715" y="187"/>
                </a:lnTo>
                <a:lnTo>
                  <a:pt x="723" y="195"/>
                </a:lnTo>
                <a:lnTo>
                  <a:pt x="730" y="195"/>
                </a:lnTo>
                <a:lnTo>
                  <a:pt x="738" y="195"/>
                </a:lnTo>
                <a:lnTo>
                  <a:pt x="745" y="202"/>
                </a:lnTo>
                <a:lnTo>
                  <a:pt x="752" y="202"/>
                </a:lnTo>
                <a:lnTo>
                  <a:pt x="760" y="202"/>
                </a:lnTo>
                <a:lnTo>
                  <a:pt x="767" y="202"/>
                </a:lnTo>
                <a:lnTo>
                  <a:pt x="774" y="210"/>
                </a:lnTo>
                <a:lnTo>
                  <a:pt x="782" y="210"/>
                </a:lnTo>
                <a:lnTo>
                  <a:pt x="789" y="210"/>
                </a:lnTo>
                <a:lnTo>
                  <a:pt x="796" y="218"/>
                </a:lnTo>
                <a:lnTo>
                  <a:pt x="804" y="218"/>
                </a:lnTo>
                <a:lnTo>
                  <a:pt x="811" y="218"/>
                </a:lnTo>
                <a:lnTo>
                  <a:pt x="819" y="218"/>
                </a:lnTo>
                <a:lnTo>
                  <a:pt x="826" y="226"/>
                </a:lnTo>
                <a:lnTo>
                  <a:pt x="833" y="226"/>
                </a:lnTo>
                <a:lnTo>
                  <a:pt x="841" y="226"/>
                </a:lnTo>
                <a:lnTo>
                  <a:pt x="848" y="233"/>
                </a:lnTo>
                <a:lnTo>
                  <a:pt x="855" y="233"/>
                </a:lnTo>
                <a:lnTo>
                  <a:pt x="863" y="233"/>
                </a:lnTo>
                <a:lnTo>
                  <a:pt x="870" y="233"/>
                </a:lnTo>
                <a:lnTo>
                  <a:pt x="878" y="241"/>
                </a:lnTo>
                <a:lnTo>
                  <a:pt x="885" y="241"/>
                </a:lnTo>
                <a:lnTo>
                  <a:pt x="892" y="241"/>
                </a:lnTo>
                <a:lnTo>
                  <a:pt x="900" y="249"/>
                </a:lnTo>
                <a:lnTo>
                  <a:pt x="907" y="249"/>
                </a:lnTo>
                <a:lnTo>
                  <a:pt x="914" y="249"/>
                </a:lnTo>
                <a:lnTo>
                  <a:pt x="922" y="257"/>
                </a:lnTo>
                <a:lnTo>
                  <a:pt x="929" y="257"/>
                </a:lnTo>
                <a:lnTo>
                  <a:pt x="937" y="2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769160" y="3959280"/>
            <a:ext cx="525600" cy="183960"/>
          </a:xfrm>
          <a:custGeom>
            <a:avLst/>
            <a:gdLst/>
            <a:ahLst/>
            <a:rect l="l" t="t" r="r" b="b"/>
            <a:pathLst>
              <a:path w="331" h="116">
                <a:moveTo>
                  <a:pt x="0" y="0"/>
                </a:moveTo>
                <a:lnTo>
                  <a:pt x="7" y="0"/>
                </a:lnTo>
                <a:lnTo>
                  <a:pt x="14" y="7"/>
                </a:lnTo>
                <a:lnTo>
                  <a:pt x="22" y="7"/>
                </a:lnTo>
                <a:lnTo>
                  <a:pt x="29" y="7"/>
                </a:lnTo>
                <a:lnTo>
                  <a:pt x="36" y="15"/>
                </a:lnTo>
                <a:lnTo>
                  <a:pt x="44" y="15"/>
                </a:lnTo>
                <a:lnTo>
                  <a:pt x="51" y="15"/>
                </a:lnTo>
                <a:lnTo>
                  <a:pt x="59" y="23"/>
                </a:lnTo>
                <a:lnTo>
                  <a:pt x="66" y="23"/>
                </a:lnTo>
                <a:lnTo>
                  <a:pt x="73" y="23"/>
                </a:lnTo>
                <a:lnTo>
                  <a:pt x="81" y="23"/>
                </a:lnTo>
                <a:lnTo>
                  <a:pt x="88" y="31"/>
                </a:lnTo>
                <a:lnTo>
                  <a:pt x="95" y="31"/>
                </a:lnTo>
                <a:lnTo>
                  <a:pt x="103" y="31"/>
                </a:lnTo>
                <a:lnTo>
                  <a:pt x="110" y="39"/>
                </a:lnTo>
                <a:lnTo>
                  <a:pt x="117" y="39"/>
                </a:lnTo>
                <a:lnTo>
                  <a:pt x="125" y="39"/>
                </a:lnTo>
                <a:lnTo>
                  <a:pt x="132" y="46"/>
                </a:lnTo>
                <a:lnTo>
                  <a:pt x="140" y="46"/>
                </a:lnTo>
                <a:lnTo>
                  <a:pt x="147" y="46"/>
                </a:lnTo>
                <a:lnTo>
                  <a:pt x="154" y="54"/>
                </a:lnTo>
                <a:lnTo>
                  <a:pt x="162" y="54"/>
                </a:lnTo>
                <a:lnTo>
                  <a:pt x="169" y="54"/>
                </a:lnTo>
                <a:lnTo>
                  <a:pt x="176" y="62"/>
                </a:lnTo>
                <a:lnTo>
                  <a:pt x="184" y="62"/>
                </a:lnTo>
                <a:lnTo>
                  <a:pt x="191" y="70"/>
                </a:lnTo>
                <a:lnTo>
                  <a:pt x="199" y="70"/>
                </a:lnTo>
                <a:lnTo>
                  <a:pt x="206" y="70"/>
                </a:lnTo>
                <a:lnTo>
                  <a:pt x="213" y="77"/>
                </a:lnTo>
                <a:lnTo>
                  <a:pt x="221" y="77"/>
                </a:lnTo>
                <a:lnTo>
                  <a:pt x="228" y="77"/>
                </a:lnTo>
                <a:lnTo>
                  <a:pt x="235" y="85"/>
                </a:lnTo>
                <a:lnTo>
                  <a:pt x="243" y="85"/>
                </a:lnTo>
                <a:lnTo>
                  <a:pt x="250" y="85"/>
                </a:lnTo>
                <a:lnTo>
                  <a:pt x="258" y="93"/>
                </a:lnTo>
                <a:lnTo>
                  <a:pt x="265" y="93"/>
                </a:lnTo>
                <a:lnTo>
                  <a:pt x="272" y="101"/>
                </a:lnTo>
                <a:lnTo>
                  <a:pt x="280" y="101"/>
                </a:lnTo>
                <a:lnTo>
                  <a:pt x="287" y="101"/>
                </a:lnTo>
                <a:lnTo>
                  <a:pt x="294" y="108"/>
                </a:lnTo>
                <a:lnTo>
                  <a:pt x="302" y="108"/>
                </a:lnTo>
                <a:lnTo>
                  <a:pt x="309" y="116"/>
                </a:lnTo>
                <a:lnTo>
                  <a:pt x="317" y="116"/>
                </a:lnTo>
                <a:lnTo>
                  <a:pt x="324" y="116"/>
                </a:lnTo>
                <a:lnTo>
                  <a:pt x="331" y="1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3216240" y="2071800"/>
            <a:ext cx="3065400" cy="2133360"/>
          </a:xfrm>
          <a:custGeom>
            <a:avLst/>
            <a:gdLst/>
            <a:ahLst/>
            <a:rect l="l" t="t" r="r" b="b"/>
            <a:pathLst>
              <a:path w="1931" h="1344">
                <a:moveTo>
                  <a:pt x="0" y="0"/>
                </a:moveTo>
                <a:lnTo>
                  <a:pt x="236" y="163"/>
                </a:lnTo>
                <a:lnTo>
                  <a:pt x="376" y="264"/>
                </a:lnTo>
                <a:lnTo>
                  <a:pt x="479" y="334"/>
                </a:lnTo>
                <a:lnTo>
                  <a:pt x="553" y="388"/>
                </a:lnTo>
                <a:lnTo>
                  <a:pt x="619" y="427"/>
                </a:lnTo>
                <a:lnTo>
                  <a:pt x="671" y="466"/>
                </a:lnTo>
                <a:lnTo>
                  <a:pt x="715" y="497"/>
                </a:lnTo>
                <a:lnTo>
                  <a:pt x="759" y="528"/>
                </a:lnTo>
                <a:lnTo>
                  <a:pt x="796" y="551"/>
                </a:lnTo>
                <a:lnTo>
                  <a:pt x="826" y="575"/>
                </a:lnTo>
                <a:lnTo>
                  <a:pt x="863" y="598"/>
                </a:lnTo>
                <a:lnTo>
                  <a:pt x="885" y="614"/>
                </a:lnTo>
                <a:lnTo>
                  <a:pt x="914" y="637"/>
                </a:lnTo>
                <a:lnTo>
                  <a:pt x="936" y="652"/>
                </a:lnTo>
                <a:lnTo>
                  <a:pt x="958" y="668"/>
                </a:lnTo>
                <a:lnTo>
                  <a:pt x="981" y="684"/>
                </a:lnTo>
                <a:lnTo>
                  <a:pt x="1003" y="699"/>
                </a:lnTo>
                <a:lnTo>
                  <a:pt x="1017" y="707"/>
                </a:lnTo>
                <a:lnTo>
                  <a:pt x="1039" y="722"/>
                </a:lnTo>
                <a:lnTo>
                  <a:pt x="1054" y="730"/>
                </a:lnTo>
                <a:lnTo>
                  <a:pt x="1069" y="746"/>
                </a:lnTo>
                <a:lnTo>
                  <a:pt x="1084" y="754"/>
                </a:lnTo>
                <a:lnTo>
                  <a:pt x="1098" y="769"/>
                </a:lnTo>
                <a:lnTo>
                  <a:pt x="1113" y="777"/>
                </a:lnTo>
                <a:lnTo>
                  <a:pt x="1128" y="785"/>
                </a:lnTo>
                <a:lnTo>
                  <a:pt x="1143" y="792"/>
                </a:lnTo>
                <a:lnTo>
                  <a:pt x="1157" y="800"/>
                </a:lnTo>
                <a:lnTo>
                  <a:pt x="1165" y="808"/>
                </a:lnTo>
                <a:lnTo>
                  <a:pt x="1180" y="816"/>
                </a:lnTo>
                <a:lnTo>
                  <a:pt x="1187" y="831"/>
                </a:lnTo>
                <a:lnTo>
                  <a:pt x="1202" y="831"/>
                </a:lnTo>
                <a:lnTo>
                  <a:pt x="1209" y="839"/>
                </a:lnTo>
                <a:lnTo>
                  <a:pt x="1224" y="847"/>
                </a:lnTo>
                <a:lnTo>
                  <a:pt x="1231" y="855"/>
                </a:lnTo>
                <a:lnTo>
                  <a:pt x="1238" y="862"/>
                </a:lnTo>
                <a:lnTo>
                  <a:pt x="1253" y="870"/>
                </a:lnTo>
                <a:lnTo>
                  <a:pt x="1261" y="878"/>
                </a:lnTo>
                <a:lnTo>
                  <a:pt x="1268" y="886"/>
                </a:lnTo>
                <a:lnTo>
                  <a:pt x="1275" y="886"/>
                </a:lnTo>
                <a:lnTo>
                  <a:pt x="1283" y="893"/>
                </a:lnTo>
                <a:lnTo>
                  <a:pt x="1297" y="901"/>
                </a:lnTo>
                <a:lnTo>
                  <a:pt x="1305" y="909"/>
                </a:lnTo>
                <a:lnTo>
                  <a:pt x="1312" y="909"/>
                </a:lnTo>
                <a:lnTo>
                  <a:pt x="1320" y="917"/>
                </a:lnTo>
                <a:lnTo>
                  <a:pt x="1327" y="924"/>
                </a:lnTo>
                <a:lnTo>
                  <a:pt x="1334" y="924"/>
                </a:lnTo>
                <a:lnTo>
                  <a:pt x="1342" y="932"/>
                </a:lnTo>
                <a:lnTo>
                  <a:pt x="1349" y="940"/>
                </a:lnTo>
                <a:lnTo>
                  <a:pt x="1356" y="940"/>
                </a:lnTo>
                <a:lnTo>
                  <a:pt x="1364" y="948"/>
                </a:lnTo>
                <a:lnTo>
                  <a:pt x="1371" y="956"/>
                </a:lnTo>
                <a:lnTo>
                  <a:pt x="1379" y="963"/>
                </a:lnTo>
                <a:lnTo>
                  <a:pt x="1386" y="963"/>
                </a:lnTo>
                <a:lnTo>
                  <a:pt x="1393" y="971"/>
                </a:lnTo>
                <a:lnTo>
                  <a:pt x="1401" y="979"/>
                </a:lnTo>
                <a:lnTo>
                  <a:pt x="1408" y="979"/>
                </a:lnTo>
                <a:lnTo>
                  <a:pt x="1415" y="987"/>
                </a:lnTo>
                <a:lnTo>
                  <a:pt x="1423" y="994"/>
                </a:lnTo>
                <a:lnTo>
                  <a:pt x="1430" y="994"/>
                </a:lnTo>
                <a:lnTo>
                  <a:pt x="1438" y="1002"/>
                </a:lnTo>
                <a:lnTo>
                  <a:pt x="1445" y="1010"/>
                </a:lnTo>
                <a:lnTo>
                  <a:pt x="1452" y="1010"/>
                </a:lnTo>
                <a:lnTo>
                  <a:pt x="1460" y="1018"/>
                </a:lnTo>
                <a:lnTo>
                  <a:pt x="1467" y="1018"/>
                </a:lnTo>
                <a:lnTo>
                  <a:pt x="1474" y="1025"/>
                </a:lnTo>
                <a:lnTo>
                  <a:pt x="1482" y="1033"/>
                </a:lnTo>
                <a:lnTo>
                  <a:pt x="1489" y="1041"/>
                </a:lnTo>
                <a:lnTo>
                  <a:pt x="1496" y="1041"/>
                </a:lnTo>
                <a:lnTo>
                  <a:pt x="1504" y="1049"/>
                </a:lnTo>
                <a:lnTo>
                  <a:pt x="1511" y="1057"/>
                </a:lnTo>
                <a:lnTo>
                  <a:pt x="1519" y="1057"/>
                </a:lnTo>
                <a:lnTo>
                  <a:pt x="1526" y="1064"/>
                </a:lnTo>
                <a:lnTo>
                  <a:pt x="1533" y="1072"/>
                </a:lnTo>
                <a:lnTo>
                  <a:pt x="1541" y="1072"/>
                </a:lnTo>
                <a:lnTo>
                  <a:pt x="1548" y="1080"/>
                </a:lnTo>
                <a:lnTo>
                  <a:pt x="1555" y="1080"/>
                </a:lnTo>
                <a:lnTo>
                  <a:pt x="1563" y="1088"/>
                </a:lnTo>
                <a:lnTo>
                  <a:pt x="1570" y="1095"/>
                </a:lnTo>
                <a:lnTo>
                  <a:pt x="1578" y="1095"/>
                </a:lnTo>
                <a:lnTo>
                  <a:pt x="1585" y="1103"/>
                </a:lnTo>
                <a:lnTo>
                  <a:pt x="1592" y="1111"/>
                </a:lnTo>
                <a:lnTo>
                  <a:pt x="1600" y="1119"/>
                </a:lnTo>
                <a:lnTo>
                  <a:pt x="1607" y="1119"/>
                </a:lnTo>
                <a:lnTo>
                  <a:pt x="1614" y="1127"/>
                </a:lnTo>
                <a:lnTo>
                  <a:pt x="1622" y="1127"/>
                </a:lnTo>
                <a:lnTo>
                  <a:pt x="1629" y="1134"/>
                </a:lnTo>
                <a:lnTo>
                  <a:pt x="1637" y="1142"/>
                </a:lnTo>
                <a:lnTo>
                  <a:pt x="1644" y="1150"/>
                </a:lnTo>
                <a:lnTo>
                  <a:pt x="1651" y="1150"/>
                </a:lnTo>
                <a:lnTo>
                  <a:pt x="1659" y="1158"/>
                </a:lnTo>
                <a:lnTo>
                  <a:pt x="1666" y="1158"/>
                </a:lnTo>
                <a:lnTo>
                  <a:pt x="1673" y="1165"/>
                </a:lnTo>
                <a:lnTo>
                  <a:pt x="1681" y="1173"/>
                </a:lnTo>
                <a:lnTo>
                  <a:pt x="1688" y="1173"/>
                </a:lnTo>
                <a:lnTo>
                  <a:pt x="1696" y="1181"/>
                </a:lnTo>
                <a:lnTo>
                  <a:pt x="1703" y="1189"/>
                </a:lnTo>
                <a:lnTo>
                  <a:pt x="1710" y="1189"/>
                </a:lnTo>
                <a:lnTo>
                  <a:pt x="1718" y="1196"/>
                </a:lnTo>
                <a:lnTo>
                  <a:pt x="1725" y="1204"/>
                </a:lnTo>
                <a:lnTo>
                  <a:pt x="1732" y="1204"/>
                </a:lnTo>
                <a:lnTo>
                  <a:pt x="1740" y="1212"/>
                </a:lnTo>
                <a:lnTo>
                  <a:pt x="1747" y="1220"/>
                </a:lnTo>
                <a:lnTo>
                  <a:pt x="1754" y="1220"/>
                </a:lnTo>
                <a:lnTo>
                  <a:pt x="1762" y="1228"/>
                </a:lnTo>
                <a:lnTo>
                  <a:pt x="1769" y="1235"/>
                </a:lnTo>
                <a:lnTo>
                  <a:pt x="1777" y="1243"/>
                </a:lnTo>
                <a:lnTo>
                  <a:pt x="1784" y="1243"/>
                </a:lnTo>
                <a:lnTo>
                  <a:pt x="1791" y="1251"/>
                </a:lnTo>
                <a:lnTo>
                  <a:pt x="1799" y="1259"/>
                </a:lnTo>
                <a:lnTo>
                  <a:pt x="1806" y="1259"/>
                </a:lnTo>
                <a:lnTo>
                  <a:pt x="1813" y="1266"/>
                </a:lnTo>
                <a:lnTo>
                  <a:pt x="1821" y="1274"/>
                </a:lnTo>
                <a:lnTo>
                  <a:pt x="1828" y="1274"/>
                </a:lnTo>
                <a:lnTo>
                  <a:pt x="1836" y="1282"/>
                </a:lnTo>
                <a:lnTo>
                  <a:pt x="1843" y="1282"/>
                </a:lnTo>
                <a:lnTo>
                  <a:pt x="1850" y="1290"/>
                </a:lnTo>
                <a:lnTo>
                  <a:pt x="1858" y="1297"/>
                </a:lnTo>
                <a:lnTo>
                  <a:pt x="1865" y="1297"/>
                </a:lnTo>
                <a:lnTo>
                  <a:pt x="1872" y="1305"/>
                </a:lnTo>
                <a:lnTo>
                  <a:pt x="1880" y="1313"/>
                </a:lnTo>
                <a:lnTo>
                  <a:pt x="1887" y="1313"/>
                </a:lnTo>
                <a:lnTo>
                  <a:pt x="1895" y="1321"/>
                </a:lnTo>
                <a:lnTo>
                  <a:pt x="1902" y="1329"/>
                </a:lnTo>
                <a:lnTo>
                  <a:pt x="1909" y="1329"/>
                </a:lnTo>
                <a:lnTo>
                  <a:pt x="1917" y="1336"/>
                </a:lnTo>
                <a:lnTo>
                  <a:pt x="1924" y="1344"/>
                </a:lnTo>
                <a:lnTo>
                  <a:pt x="1931" y="13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281640" y="4205160"/>
            <a:ext cx="1487520" cy="1036800"/>
          </a:xfrm>
          <a:custGeom>
            <a:avLst/>
            <a:gdLst/>
            <a:ahLst/>
            <a:rect l="l" t="t" r="r" b="b"/>
            <a:pathLst>
              <a:path w="937" h="653">
                <a:moveTo>
                  <a:pt x="0" y="0"/>
                </a:moveTo>
                <a:lnTo>
                  <a:pt x="8" y="8"/>
                </a:lnTo>
                <a:lnTo>
                  <a:pt x="15" y="16"/>
                </a:lnTo>
                <a:lnTo>
                  <a:pt x="23" y="16"/>
                </a:lnTo>
                <a:lnTo>
                  <a:pt x="30" y="23"/>
                </a:lnTo>
                <a:lnTo>
                  <a:pt x="37" y="31"/>
                </a:lnTo>
                <a:lnTo>
                  <a:pt x="45" y="31"/>
                </a:lnTo>
                <a:lnTo>
                  <a:pt x="52" y="39"/>
                </a:lnTo>
                <a:lnTo>
                  <a:pt x="59" y="47"/>
                </a:lnTo>
                <a:lnTo>
                  <a:pt x="67" y="47"/>
                </a:lnTo>
                <a:lnTo>
                  <a:pt x="74" y="55"/>
                </a:lnTo>
                <a:lnTo>
                  <a:pt x="81" y="62"/>
                </a:lnTo>
                <a:lnTo>
                  <a:pt x="89" y="62"/>
                </a:lnTo>
                <a:lnTo>
                  <a:pt x="96" y="70"/>
                </a:lnTo>
                <a:lnTo>
                  <a:pt x="104" y="78"/>
                </a:lnTo>
                <a:lnTo>
                  <a:pt x="111" y="78"/>
                </a:lnTo>
                <a:lnTo>
                  <a:pt x="118" y="86"/>
                </a:lnTo>
                <a:lnTo>
                  <a:pt x="126" y="93"/>
                </a:lnTo>
                <a:lnTo>
                  <a:pt x="133" y="93"/>
                </a:lnTo>
                <a:lnTo>
                  <a:pt x="140" y="101"/>
                </a:lnTo>
                <a:lnTo>
                  <a:pt x="148" y="109"/>
                </a:lnTo>
                <a:lnTo>
                  <a:pt x="155" y="109"/>
                </a:lnTo>
                <a:lnTo>
                  <a:pt x="163" y="117"/>
                </a:lnTo>
                <a:lnTo>
                  <a:pt x="170" y="124"/>
                </a:lnTo>
                <a:lnTo>
                  <a:pt x="177" y="124"/>
                </a:lnTo>
                <a:lnTo>
                  <a:pt x="185" y="132"/>
                </a:lnTo>
                <a:lnTo>
                  <a:pt x="192" y="140"/>
                </a:lnTo>
                <a:lnTo>
                  <a:pt x="199" y="140"/>
                </a:lnTo>
                <a:lnTo>
                  <a:pt x="207" y="148"/>
                </a:lnTo>
                <a:lnTo>
                  <a:pt x="214" y="156"/>
                </a:lnTo>
                <a:lnTo>
                  <a:pt x="222" y="156"/>
                </a:lnTo>
                <a:lnTo>
                  <a:pt x="229" y="163"/>
                </a:lnTo>
                <a:lnTo>
                  <a:pt x="236" y="171"/>
                </a:lnTo>
                <a:lnTo>
                  <a:pt x="244" y="171"/>
                </a:lnTo>
                <a:lnTo>
                  <a:pt x="251" y="179"/>
                </a:lnTo>
                <a:lnTo>
                  <a:pt x="258" y="187"/>
                </a:lnTo>
                <a:lnTo>
                  <a:pt x="266" y="187"/>
                </a:lnTo>
                <a:lnTo>
                  <a:pt x="273" y="194"/>
                </a:lnTo>
                <a:lnTo>
                  <a:pt x="280" y="202"/>
                </a:lnTo>
                <a:lnTo>
                  <a:pt x="288" y="202"/>
                </a:lnTo>
                <a:lnTo>
                  <a:pt x="295" y="210"/>
                </a:lnTo>
                <a:lnTo>
                  <a:pt x="303" y="218"/>
                </a:lnTo>
                <a:lnTo>
                  <a:pt x="310" y="218"/>
                </a:lnTo>
                <a:lnTo>
                  <a:pt x="317" y="225"/>
                </a:lnTo>
                <a:lnTo>
                  <a:pt x="325" y="233"/>
                </a:lnTo>
                <a:lnTo>
                  <a:pt x="332" y="233"/>
                </a:lnTo>
                <a:lnTo>
                  <a:pt x="339" y="241"/>
                </a:lnTo>
                <a:lnTo>
                  <a:pt x="347" y="241"/>
                </a:lnTo>
                <a:lnTo>
                  <a:pt x="354" y="249"/>
                </a:lnTo>
                <a:lnTo>
                  <a:pt x="362" y="257"/>
                </a:lnTo>
                <a:lnTo>
                  <a:pt x="369" y="257"/>
                </a:lnTo>
                <a:lnTo>
                  <a:pt x="376" y="264"/>
                </a:lnTo>
                <a:lnTo>
                  <a:pt x="384" y="272"/>
                </a:lnTo>
                <a:lnTo>
                  <a:pt x="391" y="272"/>
                </a:lnTo>
                <a:lnTo>
                  <a:pt x="398" y="280"/>
                </a:lnTo>
                <a:lnTo>
                  <a:pt x="406" y="288"/>
                </a:lnTo>
                <a:lnTo>
                  <a:pt x="413" y="288"/>
                </a:lnTo>
                <a:lnTo>
                  <a:pt x="421" y="295"/>
                </a:lnTo>
                <a:lnTo>
                  <a:pt x="428" y="303"/>
                </a:lnTo>
                <a:lnTo>
                  <a:pt x="435" y="303"/>
                </a:lnTo>
                <a:lnTo>
                  <a:pt x="443" y="311"/>
                </a:lnTo>
                <a:lnTo>
                  <a:pt x="450" y="319"/>
                </a:lnTo>
                <a:lnTo>
                  <a:pt x="457" y="319"/>
                </a:lnTo>
                <a:lnTo>
                  <a:pt x="465" y="326"/>
                </a:lnTo>
                <a:lnTo>
                  <a:pt x="472" y="334"/>
                </a:lnTo>
                <a:lnTo>
                  <a:pt x="480" y="334"/>
                </a:lnTo>
                <a:lnTo>
                  <a:pt x="487" y="342"/>
                </a:lnTo>
                <a:lnTo>
                  <a:pt x="494" y="350"/>
                </a:lnTo>
                <a:lnTo>
                  <a:pt x="502" y="350"/>
                </a:lnTo>
                <a:lnTo>
                  <a:pt x="509" y="358"/>
                </a:lnTo>
                <a:lnTo>
                  <a:pt x="516" y="365"/>
                </a:lnTo>
                <a:lnTo>
                  <a:pt x="524" y="365"/>
                </a:lnTo>
                <a:lnTo>
                  <a:pt x="531" y="373"/>
                </a:lnTo>
                <a:lnTo>
                  <a:pt x="538" y="381"/>
                </a:lnTo>
                <a:lnTo>
                  <a:pt x="546" y="381"/>
                </a:lnTo>
                <a:lnTo>
                  <a:pt x="553" y="389"/>
                </a:lnTo>
                <a:lnTo>
                  <a:pt x="561" y="396"/>
                </a:lnTo>
                <a:lnTo>
                  <a:pt x="568" y="396"/>
                </a:lnTo>
                <a:lnTo>
                  <a:pt x="575" y="404"/>
                </a:lnTo>
                <a:lnTo>
                  <a:pt x="583" y="412"/>
                </a:lnTo>
                <a:lnTo>
                  <a:pt x="590" y="412"/>
                </a:lnTo>
                <a:lnTo>
                  <a:pt x="597" y="420"/>
                </a:lnTo>
                <a:lnTo>
                  <a:pt x="605" y="428"/>
                </a:lnTo>
                <a:lnTo>
                  <a:pt x="612" y="428"/>
                </a:lnTo>
                <a:lnTo>
                  <a:pt x="620" y="435"/>
                </a:lnTo>
                <a:lnTo>
                  <a:pt x="627" y="443"/>
                </a:lnTo>
                <a:lnTo>
                  <a:pt x="634" y="443"/>
                </a:lnTo>
                <a:lnTo>
                  <a:pt x="642" y="451"/>
                </a:lnTo>
                <a:lnTo>
                  <a:pt x="649" y="459"/>
                </a:lnTo>
                <a:lnTo>
                  <a:pt x="656" y="459"/>
                </a:lnTo>
                <a:lnTo>
                  <a:pt x="664" y="466"/>
                </a:lnTo>
                <a:lnTo>
                  <a:pt x="671" y="474"/>
                </a:lnTo>
                <a:lnTo>
                  <a:pt x="679" y="474"/>
                </a:lnTo>
                <a:lnTo>
                  <a:pt x="686" y="482"/>
                </a:lnTo>
                <a:lnTo>
                  <a:pt x="693" y="490"/>
                </a:lnTo>
                <a:lnTo>
                  <a:pt x="701" y="490"/>
                </a:lnTo>
                <a:lnTo>
                  <a:pt x="708" y="497"/>
                </a:lnTo>
                <a:lnTo>
                  <a:pt x="715" y="505"/>
                </a:lnTo>
                <a:lnTo>
                  <a:pt x="723" y="505"/>
                </a:lnTo>
                <a:lnTo>
                  <a:pt x="730" y="513"/>
                </a:lnTo>
                <a:lnTo>
                  <a:pt x="738" y="521"/>
                </a:lnTo>
                <a:lnTo>
                  <a:pt x="745" y="521"/>
                </a:lnTo>
                <a:lnTo>
                  <a:pt x="752" y="529"/>
                </a:lnTo>
                <a:lnTo>
                  <a:pt x="760" y="536"/>
                </a:lnTo>
                <a:lnTo>
                  <a:pt x="767" y="536"/>
                </a:lnTo>
                <a:lnTo>
                  <a:pt x="774" y="544"/>
                </a:lnTo>
                <a:lnTo>
                  <a:pt x="782" y="552"/>
                </a:lnTo>
                <a:lnTo>
                  <a:pt x="789" y="552"/>
                </a:lnTo>
                <a:lnTo>
                  <a:pt x="796" y="560"/>
                </a:lnTo>
                <a:lnTo>
                  <a:pt x="804" y="567"/>
                </a:lnTo>
                <a:lnTo>
                  <a:pt x="811" y="567"/>
                </a:lnTo>
                <a:lnTo>
                  <a:pt x="819" y="575"/>
                </a:lnTo>
                <a:lnTo>
                  <a:pt x="826" y="575"/>
                </a:lnTo>
                <a:lnTo>
                  <a:pt x="833" y="583"/>
                </a:lnTo>
                <a:lnTo>
                  <a:pt x="841" y="591"/>
                </a:lnTo>
                <a:lnTo>
                  <a:pt x="848" y="591"/>
                </a:lnTo>
                <a:lnTo>
                  <a:pt x="855" y="598"/>
                </a:lnTo>
                <a:lnTo>
                  <a:pt x="863" y="606"/>
                </a:lnTo>
                <a:lnTo>
                  <a:pt x="870" y="606"/>
                </a:lnTo>
                <a:lnTo>
                  <a:pt x="878" y="614"/>
                </a:lnTo>
                <a:lnTo>
                  <a:pt x="885" y="622"/>
                </a:lnTo>
                <a:lnTo>
                  <a:pt x="892" y="622"/>
                </a:lnTo>
                <a:lnTo>
                  <a:pt x="900" y="630"/>
                </a:lnTo>
                <a:lnTo>
                  <a:pt x="907" y="637"/>
                </a:lnTo>
                <a:lnTo>
                  <a:pt x="914" y="637"/>
                </a:lnTo>
                <a:lnTo>
                  <a:pt x="922" y="645"/>
                </a:lnTo>
                <a:lnTo>
                  <a:pt x="929" y="653"/>
                </a:lnTo>
                <a:lnTo>
                  <a:pt x="937" y="6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769160" y="5241960"/>
            <a:ext cx="525600" cy="369720"/>
          </a:xfrm>
          <a:custGeom>
            <a:avLst/>
            <a:gdLst/>
            <a:ahLst/>
            <a:rect l="l" t="t" r="r" b="b"/>
            <a:pathLst>
              <a:path w="331" h="233">
                <a:moveTo>
                  <a:pt x="0" y="0"/>
                </a:moveTo>
                <a:lnTo>
                  <a:pt x="7" y="8"/>
                </a:lnTo>
                <a:lnTo>
                  <a:pt x="14" y="15"/>
                </a:lnTo>
                <a:lnTo>
                  <a:pt x="22" y="15"/>
                </a:lnTo>
                <a:lnTo>
                  <a:pt x="29" y="23"/>
                </a:lnTo>
                <a:lnTo>
                  <a:pt x="36" y="31"/>
                </a:lnTo>
                <a:lnTo>
                  <a:pt x="44" y="31"/>
                </a:lnTo>
                <a:lnTo>
                  <a:pt x="51" y="39"/>
                </a:lnTo>
                <a:lnTo>
                  <a:pt x="59" y="47"/>
                </a:lnTo>
                <a:lnTo>
                  <a:pt x="66" y="47"/>
                </a:lnTo>
                <a:lnTo>
                  <a:pt x="73" y="54"/>
                </a:lnTo>
                <a:lnTo>
                  <a:pt x="81" y="62"/>
                </a:lnTo>
                <a:lnTo>
                  <a:pt x="88" y="62"/>
                </a:lnTo>
                <a:lnTo>
                  <a:pt x="95" y="70"/>
                </a:lnTo>
                <a:lnTo>
                  <a:pt x="103" y="78"/>
                </a:lnTo>
                <a:lnTo>
                  <a:pt x="110" y="78"/>
                </a:lnTo>
                <a:lnTo>
                  <a:pt x="117" y="85"/>
                </a:lnTo>
                <a:lnTo>
                  <a:pt x="125" y="93"/>
                </a:lnTo>
                <a:lnTo>
                  <a:pt x="132" y="93"/>
                </a:lnTo>
                <a:lnTo>
                  <a:pt x="140" y="101"/>
                </a:lnTo>
                <a:lnTo>
                  <a:pt x="147" y="109"/>
                </a:lnTo>
                <a:lnTo>
                  <a:pt x="154" y="109"/>
                </a:lnTo>
                <a:lnTo>
                  <a:pt x="162" y="116"/>
                </a:lnTo>
                <a:lnTo>
                  <a:pt x="169" y="124"/>
                </a:lnTo>
                <a:lnTo>
                  <a:pt x="176" y="124"/>
                </a:lnTo>
                <a:lnTo>
                  <a:pt x="184" y="132"/>
                </a:lnTo>
                <a:lnTo>
                  <a:pt x="191" y="140"/>
                </a:lnTo>
                <a:lnTo>
                  <a:pt x="199" y="140"/>
                </a:lnTo>
                <a:lnTo>
                  <a:pt x="206" y="148"/>
                </a:lnTo>
                <a:lnTo>
                  <a:pt x="213" y="155"/>
                </a:lnTo>
                <a:lnTo>
                  <a:pt x="221" y="155"/>
                </a:lnTo>
                <a:lnTo>
                  <a:pt x="228" y="163"/>
                </a:lnTo>
                <a:lnTo>
                  <a:pt x="235" y="171"/>
                </a:lnTo>
                <a:lnTo>
                  <a:pt x="243" y="171"/>
                </a:lnTo>
                <a:lnTo>
                  <a:pt x="250" y="179"/>
                </a:lnTo>
                <a:lnTo>
                  <a:pt x="258" y="186"/>
                </a:lnTo>
                <a:lnTo>
                  <a:pt x="265" y="186"/>
                </a:lnTo>
                <a:lnTo>
                  <a:pt x="272" y="194"/>
                </a:lnTo>
                <a:lnTo>
                  <a:pt x="280" y="202"/>
                </a:lnTo>
                <a:lnTo>
                  <a:pt x="287" y="202"/>
                </a:lnTo>
                <a:lnTo>
                  <a:pt x="294" y="210"/>
                </a:lnTo>
                <a:lnTo>
                  <a:pt x="302" y="217"/>
                </a:lnTo>
                <a:lnTo>
                  <a:pt x="309" y="217"/>
                </a:lnTo>
                <a:lnTo>
                  <a:pt x="317" y="225"/>
                </a:lnTo>
                <a:lnTo>
                  <a:pt x="324" y="233"/>
                </a:lnTo>
                <a:lnTo>
                  <a:pt x="331" y="2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216240" y="2071800"/>
            <a:ext cx="3065400" cy="1430280"/>
          </a:xfrm>
          <a:custGeom>
            <a:avLst/>
            <a:gdLst/>
            <a:ahLst/>
            <a:rect l="l" t="t" r="r" b="b"/>
            <a:pathLst>
              <a:path w="1931" h="901">
                <a:moveTo>
                  <a:pt x="0" y="0"/>
                </a:moveTo>
                <a:lnTo>
                  <a:pt x="236" y="155"/>
                </a:lnTo>
                <a:lnTo>
                  <a:pt x="376" y="233"/>
                </a:lnTo>
                <a:lnTo>
                  <a:pt x="479" y="295"/>
                </a:lnTo>
                <a:lnTo>
                  <a:pt x="553" y="334"/>
                </a:lnTo>
                <a:lnTo>
                  <a:pt x="619" y="365"/>
                </a:lnTo>
                <a:lnTo>
                  <a:pt x="671" y="388"/>
                </a:lnTo>
                <a:lnTo>
                  <a:pt x="715" y="412"/>
                </a:lnTo>
                <a:lnTo>
                  <a:pt x="759" y="435"/>
                </a:lnTo>
                <a:lnTo>
                  <a:pt x="796" y="450"/>
                </a:lnTo>
                <a:lnTo>
                  <a:pt x="826" y="466"/>
                </a:lnTo>
                <a:lnTo>
                  <a:pt x="863" y="482"/>
                </a:lnTo>
                <a:lnTo>
                  <a:pt x="885" y="497"/>
                </a:lnTo>
                <a:lnTo>
                  <a:pt x="914" y="513"/>
                </a:lnTo>
                <a:lnTo>
                  <a:pt x="936" y="520"/>
                </a:lnTo>
                <a:lnTo>
                  <a:pt x="958" y="536"/>
                </a:lnTo>
                <a:lnTo>
                  <a:pt x="981" y="544"/>
                </a:lnTo>
                <a:lnTo>
                  <a:pt x="1003" y="551"/>
                </a:lnTo>
                <a:lnTo>
                  <a:pt x="1017" y="559"/>
                </a:lnTo>
                <a:lnTo>
                  <a:pt x="1039" y="567"/>
                </a:lnTo>
                <a:lnTo>
                  <a:pt x="1054" y="575"/>
                </a:lnTo>
                <a:lnTo>
                  <a:pt x="1069" y="583"/>
                </a:lnTo>
                <a:lnTo>
                  <a:pt x="1084" y="590"/>
                </a:lnTo>
                <a:lnTo>
                  <a:pt x="1098" y="598"/>
                </a:lnTo>
                <a:lnTo>
                  <a:pt x="1113" y="606"/>
                </a:lnTo>
                <a:lnTo>
                  <a:pt x="1128" y="614"/>
                </a:lnTo>
                <a:lnTo>
                  <a:pt x="1143" y="621"/>
                </a:lnTo>
                <a:lnTo>
                  <a:pt x="1157" y="621"/>
                </a:lnTo>
                <a:lnTo>
                  <a:pt x="1165" y="629"/>
                </a:lnTo>
                <a:lnTo>
                  <a:pt x="1180" y="637"/>
                </a:lnTo>
                <a:lnTo>
                  <a:pt x="1187" y="637"/>
                </a:lnTo>
                <a:lnTo>
                  <a:pt x="1202" y="645"/>
                </a:lnTo>
                <a:lnTo>
                  <a:pt x="1209" y="652"/>
                </a:lnTo>
                <a:lnTo>
                  <a:pt x="1224" y="652"/>
                </a:lnTo>
                <a:lnTo>
                  <a:pt x="1231" y="660"/>
                </a:lnTo>
                <a:lnTo>
                  <a:pt x="1238" y="660"/>
                </a:lnTo>
                <a:lnTo>
                  <a:pt x="1253" y="668"/>
                </a:lnTo>
                <a:lnTo>
                  <a:pt x="1261" y="668"/>
                </a:lnTo>
                <a:lnTo>
                  <a:pt x="1268" y="676"/>
                </a:lnTo>
                <a:lnTo>
                  <a:pt x="1275" y="676"/>
                </a:lnTo>
                <a:lnTo>
                  <a:pt x="1283" y="684"/>
                </a:lnTo>
                <a:lnTo>
                  <a:pt x="1297" y="684"/>
                </a:lnTo>
                <a:lnTo>
                  <a:pt x="1305" y="691"/>
                </a:lnTo>
                <a:lnTo>
                  <a:pt x="1312" y="691"/>
                </a:lnTo>
                <a:lnTo>
                  <a:pt x="1320" y="699"/>
                </a:lnTo>
                <a:lnTo>
                  <a:pt x="1327" y="699"/>
                </a:lnTo>
                <a:lnTo>
                  <a:pt x="1334" y="699"/>
                </a:lnTo>
                <a:lnTo>
                  <a:pt x="1342" y="707"/>
                </a:lnTo>
                <a:lnTo>
                  <a:pt x="1349" y="707"/>
                </a:lnTo>
                <a:lnTo>
                  <a:pt x="1356" y="707"/>
                </a:lnTo>
                <a:lnTo>
                  <a:pt x="1364" y="715"/>
                </a:lnTo>
                <a:lnTo>
                  <a:pt x="1371" y="715"/>
                </a:lnTo>
                <a:lnTo>
                  <a:pt x="1379" y="722"/>
                </a:lnTo>
                <a:lnTo>
                  <a:pt x="1386" y="722"/>
                </a:lnTo>
                <a:lnTo>
                  <a:pt x="1393" y="730"/>
                </a:lnTo>
                <a:lnTo>
                  <a:pt x="1401" y="730"/>
                </a:lnTo>
                <a:lnTo>
                  <a:pt x="1408" y="730"/>
                </a:lnTo>
                <a:lnTo>
                  <a:pt x="1415" y="738"/>
                </a:lnTo>
                <a:lnTo>
                  <a:pt x="1423" y="738"/>
                </a:lnTo>
                <a:lnTo>
                  <a:pt x="1430" y="738"/>
                </a:lnTo>
                <a:lnTo>
                  <a:pt x="1438" y="746"/>
                </a:lnTo>
                <a:lnTo>
                  <a:pt x="1445" y="746"/>
                </a:lnTo>
                <a:lnTo>
                  <a:pt x="1452" y="746"/>
                </a:lnTo>
                <a:lnTo>
                  <a:pt x="1460" y="754"/>
                </a:lnTo>
                <a:lnTo>
                  <a:pt x="1467" y="754"/>
                </a:lnTo>
                <a:lnTo>
                  <a:pt x="1474" y="761"/>
                </a:lnTo>
                <a:lnTo>
                  <a:pt x="1482" y="761"/>
                </a:lnTo>
                <a:lnTo>
                  <a:pt x="1489" y="761"/>
                </a:lnTo>
                <a:lnTo>
                  <a:pt x="1496" y="769"/>
                </a:lnTo>
                <a:lnTo>
                  <a:pt x="1504" y="769"/>
                </a:lnTo>
                <a:lnTo>
                  <a:pt x="1511" y="777"/>
                </a:lnTo>
                <a:lnTo>
                  <a:pt x="1519" y="777"/>
                </a:lnTo>
                <a:lnTo>
                  <a:pt x="1526" y="777"/>
                </a:lnTo>
                <a:lnTo>
                  <a:pt x="1533" y="785"/>
                </a:lnTo>
                <a:lnTo>
                  <a:pt x="1541" y="785"/>
                </a:lnTo>
                <a:lnTo>
                  <a:pt x="1548" y="785"/>
                </a:lnTo>
                <a:lnTo>
                  <a:pt x="1555" y="792"/>
                </a:lnTo>
                <a:lnTo>
                  <a:pt x="1563" y="792"/>
                </a:lnTo>
                <a:lnTo>
                  <a:pt x="1570" y="792"/>
                </a:lnTo>
                <a:lnTo>
                  <a:pt x="1578" y="800"/>
                </a:lnTo>
                <a:lnTo>
                  <a:pt x="1585" y="800"/>
                </a:lnTo>
                <a:lnTo>
                  <a:pt x="1592" y="800"/>
                </a:lnTo>
                <a:lnTo>
                  <a:pt x="1600" y="808"/>
                </a:lnTo>
                <a:lnTo>
                  <a:pt x="1607" y="808"/>
                </a:lnTo>
                <a:lnTo>
                  <a:pt x="1614" y="808"/>
                </a:lnTo>
                <a:lnTo>
                  <a:pt x="1622" y="816"/>
                </a:lnTo>
                <a:lnTo>
                  <a:pt x="1629" y="816"/>
                </a:lnTo>
                <a:lnTo>
                  <a:pt x="1637" y="816"/>
                </a:lnTo>
                <a:lnTo>
                  <a:pt x="1644" y="823"/>
                </a:lnTo>
                <a:lnTo>
                  <a:pt x="1651" y="823"/>
                </a:lnTo>
                <a:lnTo>
                  <a:pt x="1659" y="823"/>
                </a:lnTo>
                <a:lnTo>
                  <a:pt x="1666" y="823"/>
                </a:lnTo>
                <a:lnTo>
                  <a:pt x="1673" y="831"/>
                </a:lnTo>
                <a:lnTo>
                  <a:pt x="1681" y="831"/>
                </a:lnTo>
                <a:lnTo>
                  <a:pt x="1688" y="831"/>
                </a:lnTo>
                <a:lnTo>
                  <a:pt x="1696" y="839"/>
                </a:lnTo>
                <a:lnTo>
                  <a:pt x="1703" y="839"/>
                </a:lnTo>
                <a:lnTo>
                  <a:pt x="1710" y="839"/>
                </a:lnTo>
                <a:lnTo>
                  <a:pt x="1718" y="847"/>
                </a:lnTo>
                <a:lnTo>
                  <a:pt x="1725" y="847"/>
                </a:lnTo>
                <a:lnTo>
                  <a:pt x="1732" y="847"/>
                </a:lnTo>
                <a:lnTo>
                  <a:pt x="1740" y="847"/>
                </a:lnTo>
                <a:lnTo>
                  <a:pt x="1747" y="855"/>
                </a:lnTo>
                <a:lnTo>
                  <a:pt x="1754" y="855"/>
                </a:lnTo>
                <a:lnTo>
                  <a:pt x="1762" y="855"/>
                </a:lnTo>
                <a:lnTo>
                  <a:pt x="1769" y="862"/>
                </a:lnTo>
                <a:lnTo>
                  <a:pt x="1777" y="862"/>
                </a:lnTo>
                <a:lnTo>
                  <a:pt x="1784" y="862"/>
                </a:lnTo>
                <a:lnTo>
                  <a:pt x="1791" y="870"/>
                </a:lnTo>
                <a:lnTo>
                  <a:pt x="1799" y="870"/>
                </a:lnTo>
                <a:lnTo>
                  <a:pt x="1806" y="870"/>
                </a:lnTo>
                <a:lnTo>
                  <a:pt x="1813" y="870"/>
                </a:lnTo>
                <a:lnTo>
                  <a:pt x="1821" y="878"/>
                </a:lnTo>
                <a:lnTo>
                  <a:pt x="1828" y="878"/>
                </a:lnTo>
                <a:lnTo>
                  <a:pt x="1836" y="878"/>
                </a:lnTo>
                <a:lnTo>
                  <a:pt x="1843" y="878"/>
                </a:lnTo>
                <a:lnTo>
                  <a:pt x="1850" y="886"/>
                </a:lnTo>
                <a:lnTo>
                  <a:pt x="1858" y="886"/>
                </a:lnTo>
                <a:lnTo>
                  <a:pt x="1865" y="886"/>
                </a:lnTo>
                <a:lnTo>
                  <a:pt x="1872" y="893"/>
                </a:lnTo>
                <a:lnTo>
                  <a:pt x="1880" y="893"/>
                </a:lnTo>
                <a:lnTo>
                  <a:pt x="1887" y="893"/>
                </a:lnTo>
                <a:lnTo>
                  <a:pt x="1895" y="893"/>
                </a:lnTo>
                <a:lnTo>
                  <a:pt x="1902" y="893"/>
                </a:lnTo>
                <a:lnTo>
                  <a:pt x="1909" y="901"/>
                </a:lnTo>
                <a:lnTo>
                  <a:pt x="1917" y="901"/>
                </a:lnTo>
                <a:lnTo>
                  <a:pt x="1924" y="901"/>
                </a:lnTo>
                <a:lnTo>
                  <a:pt x="1931" y="901"/>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281640" y="3505320"/>
            <a:ext cx="1487520" cy="293400"/>
          </a:xfrm>
          <a:custGeom>
            <a:avLst/>
            <a:gdLst/>
            <a:ahLst/>
            <a:rect l="l" t="t" r="r" b="b"/>
            <a:pathLst>
              <a:path w="937" h="187">
                <a:moveTo>
                  <a:pt x="0" y="0"/>
                </a:moveTo>
                <a:lnTo>
                  <a:pt x="8" y="8"/>
                </a:lnTo>
                <a:lnTo>
                  <a:pt x="15" y="8"/>
                </a:lnTo>
                <a:lnTo>
                  <a:pt x="23" y="8"/>
                </a:lnTo>
                <a:lnTo>
                  <a:pt x="30" y="8"/>
                </a:lnTo>
                <a:lnTo>
                  <a:pt x="37" y="16"/>
                </a:lnTo>
                <a:lnTo>
                  <a:pt x="45" y="16"/>
                </a:lnTo>
                <a:lnTo>
                  <a:pt x="52" y="16"/>
                </a:lnTo>
                <a:lnTo>
                  <a:pt x="59" y="16"/>
                </a:lnTo>
                <a:lnTo>
                  <a:pt x="67" y="23"/>
                </a:lnTo>
                <a:lnTo>
                  <a:pt x="74" y="23"/>
                </a:lnTo>
                <a:lnTo>
                  <a:pt x="81" y="23"/>
                </a:lnTo>
                <a:lnTo>
                  <a:pt x="89" y="23"/>
                </a:lnTo>
                <a:lnTo>
                  <a:pt x="96" y="23"/>
                </a:lnTo>
                <a:lnTo>
                  <a:pt x="104" y="31"/>
                </a:lnTo>
                <a:lnTo>
                  <a:pt x="111" y="31"/>
                </a:lnTo>
                <a:lnTo>
                  <a:pt x="118" y="31"/>
                </a:lnTo>
                <a:lnTo>
                  <a:pt x="126" y="31"/>
                </a:lnTo>
                <a:lnTo>
                  <a:pt x="133" y="31"/>
                </a:lnTo>
                <a:lnTo>
                  <a:pt x="140" y="39"/>
                </a:lnTo>
                <a:lnTo>
                  <a:pt x="148" y="39"/>
                </a:lnTo>
                <a:lnTo>
                  <a:pt x="155" y="39"/>
                </a:lnTo>
                <a:lnTo>
                  <a:pt x="163" y="39"/>
                </a:lnTo>
                <a:lnTo>
                  <a:pt x="170" y="47"/>
                </a:lnTo>
                <a:lnTo>
                  <a:pt x="177" y="47"/>
                </a:lnTo>
                <a:lnTo>
                  <a:pt x="185" y="47"/>
                </a:lnTo>
                <a:lnTo>
                  <a:pt x="192" y="47"/>
                </a:lnTo>
                <a:lnTo>
                  <a:pt x="199" y="47"/>
                </a:lnTo>
                <a:lnTo>
                  <a:pt x="207" y="55"/>
                </a:lnTo>
                <a:lnTo>
                  <a:pt x="214" y="55"/>
                </a:lnTo>
                <a:lnTo>
                  <a:pt x="222" y="55"/>
                </a:lnTo>
                <a:lnTo>
                  <a:pt x="229" y="55"/>
                </a:lnTo>
                <a:lnTo>
                  <a:pt x="236" y="55"/>
                </a:lnTo>
                <a:lnTo>
                  <a:pt x="244" y="62"/>
                </a:lnTo>
                <a:lnTo>
                  <a:pt x="251" y="62"/>
                </a:lnTo>
                <a:lnTo>
                  <a:pt x="258" y="62"/>
                </a:lnTo>
                <a:lnTo>
                  <a:pt x="266" y="62"/>
                </a:lnTo>
                <a:lnTo>
                  <a:pt x="273" y="62"/>
                </a:lnTo>
                <a:lnTo>
                  <a:pt x="280" y="70"/>
                </a:lnTo>
                <a:lnTo>
                  <a:pt x="288" y="70"/>
                </a:lnTo>
                <a:lnTo>
                  <a:pt x="295" y="70"/>
                </a:lnTo>
                <a:lnTo>
                  <a:pt x="303" y="70"/>
                </a:lnTo>
                <a:lnTo>
                  <a:pt x="310" y="70"/>
                </a:lnTo>
                <a:lnTo>
                  <a:pt x="317" y="78"/>
                </a:lnTo>
                <a:lnTo>
                  <a:pt x="325" y="78"/>
                </a:lnTo>
                <a:lnTo>
                  <a:pt x="332" y="78"/>
                </a:lnTo>
                <a:lnTo>
                  <a:pt x="339" y="78"/>
                </a:lnTo>
                <a:lnTo>
                  <a:pt x="347" y="78"/>
                </a:lnTo>
                <a:lnTo>
                  <a:pt x="354" y="86"/>
                </a:lnTo>
                <a:lnTo>
                  <a:pt x="362" y="86"/>
                </a:lnTo>
                <a:lnTo>
                  <a:pt x="369" y="86"/>
                </a:lnTo>
                <a:lnTo>
                  <a:pt x="376" y="86"/>
                </a:lnTo>
                <a:lnTo>
                  <a:pt x="384" y="86"/>
                </a:lnTo>
                <a:lnTo>
                  <a:pt x="391" y="86"/>
                </a:lnTo>
                <a:lnTo>
                  <a:pt x="398" y="93"/>
                </a:lnTo>
                <a:lnTo>
                  <a:pt x="406" y="93"/>
                </a:lnTo>
                <a:lnTo>
                  <a:pt x="413" y="93"/>
                </a:lnTo>
                <a:lnTo>
                  <a:pt x="421" y="93"/>
                </a:lnTo>
                <a:lnTo>
                  <a:pt x="428" y="93"/>
                </a:lnTo>
                <a:lnTo>
                  <a:pt x="435" y="101"/>
                </a:lnTo>
                <a:lnTo>
                  <a:pt x="443" y="101"/>
                </a:lnTo>
                <a:lnTo>
                  <a:pt x="450" y="101"/>
                </a:lnTo>
                <a:lnTo>
                  <a:pt x="457" y="101"/>
                </a:lnTo>
                <a:lnTo>
                  <a:pt x="465" y="101"/>
                </a:lnTo>
                <a:lnTo>
                  <a:pt x="472" y="101"/>
                </a:lnTo>
                <a:lnTo>
                  <a:pt x="480" y="109"/>
                </a:lnTo>
                <a:lnTo>
                  <a:pt x="487" y="109"/>
                </a:lnTo>
                <a:lnTo>
                  <a:pt x="494" y="109"/>
                </a:lnTo>
                <a:lnTo>
                  <a:pt x="502" y="109"/>
                </a:lnTo>
                <a:lnTo>
                  <a:pt x="509" y="109"/>
                </a:lnTo>
                <a:lnTo>
                  <a:pt x="516" y="117"/>
                </a:lnTo>
                <a:lnTo>
                  <a:pt x="524" y="117"/>
                </a:lnTo>
                <a:lnTo>
                  <a:pt x="531" y="117"/>
                </a:lnTo>
                <a:lnTo>
                  <a:pt x="538" y="117"/>
                </a:lnTo>
                <a:lnTo>
                  <a:pt x="546" y="117"/>
                </a:lnTo>
                <a:lnTo>
                  <a:pt x="553" y="117"/>
                </a:lnTo>
                <a:lnTo>
                  <a:pt x="561" y="124"/>
                </a:lnTo>
                <a:lnTo>
                  <a:pt x="568" y="124"/>
                </a:lnTo>
                <a:lnTo>
                  <a:pt x="575" y="124"/>
                </a:lnTo>
                <a:lnTo>
                  <a:pt x="583" y="124"/>
                </a:lnTo>
                <a:lnTo>
                  <a:pt x="590" y="124"/>
                </a:lnTo>
                <a:lnTo>
                  <a:pt x="597" y="124"/>
                </a:lnTo>
                <a:lnTo>
                  <a:pt x="605" y="132"/>
                </a:lnTo>
                <a:lnTo>
                  <a:pt x="612" y="132"/>
                </a:lnTo>
                <a:lnTo>
                  <a:pt x="620" y="132"/>
                </a:lnTo>
                <a:lnTo>
                  <a:pt x="627" y="132"/>
                </a:lnTo>
                <a:lnTo>
                  <a:pt x="634" y="132"/>
                </a:lnTo>
                <a:lnTo>
                  <a:pt x="642" y="132"/>
                </a:lnTo>
                <a:lnTo>
                  <a:pt x="649" y="140"/>
                </a:lnTo>
                <a:lnTo>
                  <a:pt x="656" y="140"/>
                </a:lnTo>
                <a:lnTo>
                  <a:pt x="664" y="140"/>
                </a:lnTo>
                <a:lnTo>
                  <a:pt x="671" y="140"/>
                </a:lnTo>
                <a:lnTo>
                  <a:pt x="679" y="140"/>
                </a:lnTo>
                <a:lnTo>
                  <a:pt x="686" y="140"/>
                </a:lnTo>
                <a:lnTo>
                  <a:pt x="693" y="148"/>
                </a:lnTo>
                <a:lnTo>
                  <a:pt x="701" y="148"/>
                </a:lnTo>
                <a:lnTo>
                  <a:pt x="708" y="148"/>
                </a:lnTo>
                <a:lnTo>
                  <a:pt x="715" y="148"/>
                </a:lnTo>
                <a:lnTo>
                  <a:pt x="723" y="148"/>
                </a:lnTo>
                <a:lnTo>
                  <a:pt x="730" y="148"/>
                </a:lnTo>
                <a:lnTo>
                  <a:pt x="738" y="156"/>
                </a:lnTo>
                <a:lnTo>
                  <a:pt x="745" y="156"/>
                </a:lnTo>
                <a:lnTo>
                  <a:pt x="752" y="156"/>
                </a:lnTo>
                <a:lnTo>
                  <a:pt x="760" y="156"/>
                </a:lnTo>
                <a:lnTo>
                  <a:pt x="767" y="156"/>
                </a:lnTo>
                <a:lnTo>
                  <a:pt x="774" y="156"/>
                </a:lnTo>
                <a:lnTo>
                  <a:pt x="782" y="156"/>
                </a:lnTo>
                <a:lnTo>
                  <a:pt x="789" y="163"/>
                </a:lnTo>
                <a:lnTo>
                  <a:pt x="796" y="163"/>
                </a:lnTo>
                <a:lnTo>
                  <a:pt x="804" y="163"/>
                </a:lnTo>
                <a:lnTo>
                  <a:pt x="811" y="163"/>
                </a:lnTo>
                <a:lnTo>
                  <a:pt x="819" y="163"/>
                </a:lnTo>
                <a:lnTo>
                  <a:pt x="826" y="163"/>
                </a:lnTo>
                <a:lnTo>
                  <a:pt x="833" y="171"/>
                </a:lnTo>
                <a:lnTo>
                  <a:pt x="841" y="171"/>
                </a:lnTo>
                <a:lnTo>
                  <a:pt x="848" y="171"/>
                </a:lnTo>
                <a:lnTo>
                  <a:pt x="855" y="171"/>
                </a:lnTo>
                <a:lnTo>
                  <a:pt x="863" y="171"/>
                </a:lnTo>
                <a:lnTo>
                  <a:pt x="870" y="171"/>
                </a:lnTo>
                <a:lnTo>
                  <a:pt x="878" y="179"/>
                </a:lnTo>
                <a:lnTo>
                  <a:pt x="885" y="179"/>
                </a:lnTo>
                <a:lnTo>
                  <a:pt x="892" y="179"/>
                </a:lnTo>
                <a:lnTo>
                  <a:pt x="900" y="179"/>
                </a:lnTo>
                <a:lnTo>
                  <a:pt x="907" y="179"/>
                </a:lnTo>
                <a:lnTo>
                  <a:pt x="914" y="179"/>
                </a:lnTo>
                <a:lnTo>
                  <a:pt x="922" y="187"/>
                </a:lnTo>
                <a:lnTo>
                  <a:pt x="929" y="187"/>
                </a:lnTo>
                <a:lnTo>
                  <a:pt x="937" y="187"/>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769160" y="3798720"/>
            <a:ext cx="525600" cy="98640"/>
          </a:xfrm>
          <a:custGeom>
            <a:avLst/>
            <a:gdLst/>
            <a:ahLst/>
            <a:rect l="l" t="t" r="r" b="b"/>
            <a:pathLst>
              <a:path w="331" h="62">
                <a:moveTo>
                  <a:pt x="0" y="0"/>
                </a:moveTo>
                <a:lnTo>
                  <a:pt x="7" y="0"/>
                </a:lnTo>
                <a:lnTo>
                  <a:pt x="14" y="0"/>
                </a:lnTo>
                <a:lnTo>
                  <a:pt x="22" y="0"/>
                </a:lnTo>
                <a:lnTo>
                  <a:pt x="29" y="7"/>
                </a:lnTo>
                <a:lnTo>
                  <a:pt x="36" y="7"/>
                </a:lnTo>
                <a:lnTo>
                  <a:pt x="44" y="7"/>
                </a:lnTo>
                <a:lnTo>
                  <a:pt x="51" y="7"/>
                </a:lnTo>
                <a:lnTo>
                  <a:pt x="59" y="7"/>
                </a:lnTo>
                <a:lnTo>
                  <a:pt x="66" y="7"/>
                </a:lnTo>
                <a:lnTo>
                  <a:pt x="73" y="15"/>
                </a:lnTo>
                <a:lnTo>
                  <a:pt x="81" y="15"/>
                </a:lnTo>
                <a:lnTo>
                  <a:pt x="88" y="15"/>
                </a:lnTo>
                <a:lnTo>
                  <a:pt x="95" y="15"/>
                </a:lnTo>
                <a:lnTo>
                  <a:pt x="103" y="15"/>
                </a:lnTo>
                <a:lnTo>
                  <a:pt x="110" y="15"/>
                </a:lnTo>
                <a:lnTo>
                  <a:pt x="117" y="23"/>
                </a:lnTo>
                <a:lnTo>
                  <a:pt x="125" y="23"/>
                </a:lnTo>
                <a:lnTo>
                  <a:pt x="132" y="23"/>
                </a:lnTo>
                <a:lnTo>
                  <a:pt x="140" y="23"/>
                </a:lnTo>
                <a:lnTo>
                  <a:pt x="147" y="23"/>
                </a:lnTo>
                <a:lnTo>
                  <a:pt x="154" y="23"/>
                </a:lnTo>
                <a:lnTo>
                  <a:pt x="162" y="31"/>
                </a:lnTo>
                <a:lnTo>
                  <a:pt x="169" y="31"/>
                </a:lnTo>
                <a:lnTo>
                  <a:pt x="176" y="31"/>
                </a:lnTo>
                <a:lnTo>
                  <a:pt x="184" y="31"/>
                </a:lnTo>
                <a:lnTo>
                  <a:pt x="191" y="31"/>
                </a:lnTo>
                <a:lnTo>
                  <a:pt x="199" y="39"/>
                </a:lnTo>
                <a:lnTo>
                  <a:pt x="206" y="39"/>
                </a:lnTo>
                <a:lnTo>
                  <a:pt x="213" y="39"/>
                </a:lnTo>
                <a:lnTo>
                  <a:pt x="221" y="39"/>
                </a:lnTo>
                <a:lnTo>
                  <a:pt x="228" y="39"/>
                </a:lnTo>
                <a:lnTo>
                  <a:pt x="235" y="46"/>
                </a:lnTo>
                <a:lnTo>
                  <a:pt x="243" y="46"/>
                </a:lnTo>
                <a:lnTo>
                  <a:pt x="250" y="46"/>
                </a:lnTo>
                <a:lnTo>
                  <a:pt x="258" y="46"/>
                </a:lnTo>
                <a:lnTo>
                  <a:pt x="265" y="46"/>
                </a:lnTo>
                <a:lnTo>
                  <a:pt x="272" y="54"/>
                </a:lnTo>
                <a:lnTo>
                  <a:pt x="280" y="54"/>
                </a:lnTo>
                <a:lnTo>
                  <a:pt x="287" y="54"/>
                </a:lnTo>
                <a:lnTo>
                  <a:pt x="294" y="54"/>
                </a:lnTo>
                <a:lnTo>
                  <a:pt x="302" y="54"/>
                </a:lnTo>
                <a:lnTo>
                  <a:pt x="309" y="62"/>
                </a:lnTo>
                <a:lnTo>
                  <a:pt x="317" y="62"/>
                </a:lnTo>
                <a:lnTo>
                  <a:pt x="324" y="62"/>
                </a:lnTo>
                <a:lnTo>
                  <a:pt x="331" y="62"/>
                </a:lnTo>
              </a:path>
            </a:pathLst>
          </a:custGeom>
          <a:noFill/>
          <a:ln w="0">
            <a:solidFill>
              <a:srgbClr val="000000"/>
            </a:solidFill>
            <a:prstDash val="sysDash"/>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216240" y="2071800"/>
            <a:ext cx="3065400" cy="2158920"/>
          </a:xfrm>
          <a:custGeom>
            <a:avLst/>
            <a:gdLst/>
            <a:ahLst/>
            <a:rect l="l" t="t" r="r" b="b"/>
            <a:pathLst>
              <a:path w="1931" h="1360">
                <a:moveTo>
                  <a:pt x="0" y="0"/>
                </a:moveTo>
                <a:lnTo>
                  <a:pt x="236" y="163"/>
                </a:lnTo>
                <a:lnTo>
                  <a:pt x="376" y="256"/>
                </a:lnTo>
                <a:lnTo>
                  <a:pt x="479" y="318"/>
                </a:lnTo>
                <a:lnTo>
                  <a:pt x="553" y="373"/>
                </a:lnTo>
                <a:lnTo>
                  <a:pt x="619" y="412"/>
                </a:lnTo>
                <a:lnTo>
                  <a:pt x="671" y="450"/>
                </a:lnTo>
                <a:lnTo>
                  <a:pt x="715" y="482"/>
                </a:lnTo>
                <a:lnTo>
                  <a:pt x="759" y="505"/>
                </a:lnTo>
                <a:lnTo>
                  <a:pt x="796" y="528"/>
                </a:lnTo>
                <a:lnTo>
                  <a:pt x="826" y="551"/>
                </a:lnTo>
                <a:lnTo>
                  <a:pt x="863" y="575"/>
                </a:lnTo>
                <a:lnTo>
                  <a:pt x="885" y="590"/>
                </a:lnTo>
                <a:lnTo>
                  <a:pt x="914" y="606"/>
                </a:lnTo>
                <a:lnTo>
                  <a:pt x="936" y="621"/>
                </a:lnTo>
                <a:lnTo>
                  <a:pt x="958" y="637"/>
                </a:lnTo>
                <a:lnTo>
                  <a:pt x="981" y="652"/>
                </a:lnTo>
                <a:lnTo>
                  <a:pt x="1003" y="668"/>
                </a:lnTo>
                <a:lnTo>
                  <a:pt x="1017" y="684"/>
                </a:lnTo>
                <a:lnTo>
                  <a:pt x="1039" y="691"/>
                </a:lnTo>
                <a:lnTo>
                  <a:pt x="1054" y="707"/>
                </a:lnTo>
                <a:lnTo>
                  <a:pt x="1069" y="722"/>
                </a:lnTo>
                <a:lnTo>
                  <a:pt x="1084" y="730"/>
                </a:lnTo>
                <a:lnTo>
                  <a:pt x="1098" y="738"/>
                </a:lnTo>
                <a:lnTo>
                  <a:pt x="1113" y="754"/>
                </a:lnTo>
                <a:lnTo>
                  <a:pt x="1128" y="761"/>
                </a:lnTo>
                <a:lnTo>
                  <a:pt x="1143" y="769"/>
                </a:lnTo>
                <a:lnTo>
                  <a:pt x="1157" y="777"/>
                </a:lnTo>
                <a:lnTo>
                  <a:pt x="1165" y="785"/>
                </a:lnTo>
                <a:lnTo>
                  <a:pt x="1180" y="792"/>
                </a:lnTo>
                <a:lnTo>
                  <a:pt x="1187" y="800"/>
                </a:lnTo>
                <a:lnTo>
                  <a:pt x="1202" y="808"/>
                </a:lnTo>
                <a:lnTo>
                  <a:pt x="1209" y="816"/>
                </a:lnTo>
                <a:lnTo>
                  <a:pt x="1224" y="823"/>
                </a:lnTo>
                <a:lnTo>
                  <a:pt x="1231" y="831"/>
                </a:lnTo>
                <a:lnTo>
                  <a:pt x="1238" y="839"/>
                </a:lnTo>
                <a:lnTo>
                  <a:pt x="1253" y="847"/>
                </a:lnTo>
                <a:lnTo>
                  <a:pt x="1261" y="855"/>
                </a:lnTo>
                <a:lnTo>
                  <a:pt x="1268" y="862"/>
                </a:lnTo>
                <a:lnTo>
                  <a:pt x="1275" y="870"/>
                </a:lnTo>
                <a:lnTo>
                  <a:pt x="1283" y="870"/>
                </a:lnTo>
                <a:lnTo>
                  <a:pt x="1297" y="878"/>
                </a:lnTo>
                <a:lnTo>
                  <a:pt x="1305" y="886"/>
                </a:lnTo>
                <a:lnTo>
                  <a:pt x="1312" y="893"/>
                </a:lnTo>
                <a:lnTo>
                  <a:pt x="1320" y="893"/>
                </a:lnTo>
                <a:lnTo>
                  <a:pt x="1327" y="901"/>
                </a:lnTo>
                <a:lnTo>
                  <a:pt x="1334" y="909"/>
                </a:lnTo>
                <a:lnTo>
                  <a:pt x="1342" y="917"/>
                </a:lnTo>
                <a:lnTo>
                  <a:pt x="1349" y="917"/>
                </a:lnTo>
                <a:lnTo>
                  <a:pt x="1356" y="924"/>
                </a:lnTo>
                <a:lnTo>
                  <a:pt x="1364" y="924"/>
                </a:lnTo>
                <a:lnTo>
                  <a:pt x="1371" y="932"/>
                </a:lnTo>
                <a:lnTo>
                  <a:pt x="1379" y="940"/>
                </a:lnTo>
                <a:lnTo>
                  <a:pt x="1386" y="948"/>
                </a:lnTo>
                <a:lnTo>
                  <a:pt x="1393" y="956"/>
                </a:lnTo>
                <a:lnTo>
                  <a:pt x="1401" y="956"/>
                </a:lnTo>
                <a:lnTo>
                  <a:pt x="1408" y="963"/>
                </a:lnTo>
                <a:lnTo>
                  <a:pt x="1415" y="971"/>
                </a:lnTo>
                <a:lnTo>
                  <a:pt x="1423" y="971"/>
                </a:lnTo>
                <a:lnTo>
                  <a:pt x="1430" y="979"/>
                </a:lnTo>
                <a:lnTo>
                  <a:pt x="1438" y="987"/>
                </a:lnTo>
                <a:lnTo>
                  <a:pt x="1445" y="987"/>
                </a:lnTo>
                <a:lnTo>
                  <a:pt x="1452" y="994"/>
                </a:lnTo>
                <a:lnTo>
                  <a:pt x="1460" y="1002"/>
                </a:lnTo>
                <a:lnTo>
                  <a:pt x="1467" y="1002"/>
                </a:lnTo>
                <a:lnTo>
                  <a:pt x="1474" y="1010"/>
                </a:lnTo>
                <a:lnTo>
                  <a:pt x="1482" y="1018"/>
                </a:lnTo>
                <a:lnTo>
                  <a:pt x="1489" y="1025"/>
                </a:lnTo>
                <a:lnTo>
                  <a:pt x="1496" y="1025"/>
                </a:lnTo>
                <a:lnTo>
                  <a:pt x="1504" y="1033"/>
                </a:lnTo>
                <a:lnTo>
                  <a:pt x="1511" y="1041"/>
                </a:lnTo>
                <a:lnTo>
                  <a:pt x="1519" y="1041"/>
                </a:lnTo>
                <a:lnTo>
                  <a:pt x="1526" y="1049"/>
                </a:lnTo>
                <a:lnTo>
                  <a:pt x="1533" y="1057"/>
                </a:lnTo>
                <a:lnTo>
                  <a:pt x="1541" y="1064"/>
                </a:lnTo>
                <a:lnTo>
                  <a:pt x="1548" y="1072"/>
                </a:lnTo>
                <a:lnTo>
                  <a:pt x="1555" y="1072"/>
                </a:lnTo>
                <a:lnTo>
                  <a:pt x="1563" y="1080"/>
                </a:lnTo>
                <a:lnTo>
                  <a:pt x="1570" y="1080"/>
                </a:lnTo>
                <a:lnTo>
                  <a:pt x="1578" y="1088"/>
                </a:lnTo>
                <a:lnTo>
                  <a:pt x="1585" y="1095"/>
                </a:lnTo>
                <a:lnTo>
                  <a:pt x="1592" y="1103"/>
                </a:lnTo>
                <a:lnTo>
                  <a:pt x="1600" y="1111"/>
                </a:lnTo>
                <a:lnTo>
                  <a:pt x="1607" y="1111"/>
                </a:lnTo>
                <a:lnTo>
                  <a:pt x="1614" y="1119"/>
                </a:lnTo>
                <a:lnTo>
                  <a:pt x="1622" y="1119"/>
                </a:lnTo>
                <a:lnTo>
                  <a:pt x="1629" y="1127"/>
                </a:lnTo>
                <a:lnTo>
                  <a:pt x="1637" y="1134"/>
                </a:lnTo>
                <a:lnTo>
                  <a:pt x="1644" y="1142"/>
                </a:lnTo>
                <a:lnTo>
                  <a:pt x="1651" y="1142"/>
                </a:lnTo>
                <a:lnTo>
                  <a:pt x="1659" y="1150"/>
                </a:lnTo>
                <a:lnTo>
                  <a:pt x="1666" y="1158"/>
                </a:lnTo>
                <a:lnTo>
                  <a:pt x="1673" y="1165"/>
                </a:lnTo>
                <a:lnTo>
                  <a:pt x="1681" y="1165"/>
                </a:lnTo>
                <a:lnTo>
                  <a:pt x="1688" y="1173"/>
                </a:lnTo>
                <a:lnTo>
                  <a:pt x="1696" y="1181"/>
                </a:lnTo>
                <a:lnTo>
                  <a:pt x="1703" y="1181"/>
                </a:lnTo>
                <a:lnTo>
                  <a:pt x="1710" y="1189"/>
                </a:lnTo>
                <a:lnTo>
                  <a:pt x="1718" y="1196"/>
                </a:lnTo>
                <a:lnTo>
                  <a:pt x="1725" y="1204"/>
                </a:lnTo>
                <a:lnTo>
                  <a:pt x="1732" y="1204"/>
                </a:lnTo>
                <a:lnTo>
                  <a:pt x="1740" y="1212"/>
                </a:lnTo>
                <a:lnTo>
                  <a:pt x="1747" y="1220"/>
                </a:lnTo>
                <a:lnTo>
                  <a:pt x="1754" y="1228"/>
                </a:lnTo>
                <a:lnTo>
                  <a:pt x="1762" y="1228"/>
                </a:lnTo>
                <a:lnTo>
                  <a:pt x="1769" y="1235"/>
                </a:lnTo>
                <a:lnTo>
                  <a:pt x="1777" y="1243"/>
                </a:lnTo>
                <a:lnTo>
                  <a:pt x="1784" y="1243"/>
                </a:lnTo>
                <a:lnTo>
                  <a:pt x="1791" y="1251"/>
                </a:lnTo>
                <a:lnTo>
                  <a:pt x="1799" y="1259"/>
                </a:lnTo>
                <a:lnTo>
                  <a:pt x="1806" y="1266"/>
                </a:lnTo>
                <a:lnTo>
                  <a:pt x="1813" y="1266"/>
                </a:lnTo>
                <a:lnTo>
                  <a:pt x="1821" y="1274"/>
                </a:lnTo>
                <a:lnTo>
                  <a:pt x="1828" y="1282"/>
                </a:lnTo>
                <a:lnTo>
                  <a:pt x="1836" y="1282"/>
                </a:lnTo>
                <a:lnTo>
                  <a:pt x="1843" y="1290"/>
                </a:lnTo>
                <a:lnTo>
                  <a:pt x="1850" y="1297"/>
                </a:lnTo>
                <a:lnTo>
                  <a:pt x="1858" y="1305"/>
                </a:lnTo>
                <a:lnTo>
                  <a:pt x="1865" y="1305"/>
                </a:lnTo>
                <a:lnTo>
                  <a:pt x="1872" y="1313"/>
                </a:lnTo>
                <a:lnTo>
                  <a:pt x="1880" y="1321"/>
                </a:lnTo>
                <a:lnTo>
                  <a:pt x="1887" y="1321"/>
                </a:lnTo>
                <a:lnTo>
                  <a:pt x="1895" y="1329"/>
                </a:lnTo>
                <a:lnTo>
                  <a:pt x="1902" y="1336"/>
                </a:lnTo>
                <a:lnTo>
                  <a:pt x="1909" y="1344"/>
                </a:lnTo>
                <a:lnTo>
                  <a:pt x="1917" y="1344"/>
                </a:lnTo>
                <a:lnTo>
                  <a:pt x="1924" y="1352"/>
                </a:lnTo>
                <a:lnTo>
                  <a:pt x="1931" y="1360"/>
                </a:lnTo>
              </a:path>
            </a:pathLst>
          </a:custGeom>
          <a:noFill/>
          <a:ln w="0">
            <a:solidFill>
              <a:srgbClr val="000000"/>
            </a:solidFill>
            <a:prstDash val="sys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81640" y="4230720"/>
            <a:ext cx="1487520" cy="1158840"/>
          </a:xfrm>
          <a:custGeom>
            <a:avLst/>
            <a:gdLst/>
            <a:ahLst/>
            <a:rect l="l" t="t" r="r" b="b"/>
            <a:pathLst>
              <a:path w="937" h="730">
                <a:moveTo>
                  <a:pt x="0" y="0"/>
                </a:moveTo>
                <a:lnTo>
                  <a:pt x="8" y="7"/>
                </a:lnTo>
                <a:lnTo>
                  <a:pt x="15" y="7"/>
                </a:lnTo>
                <a:lnTo>
                  <a:pt x="23" y="15"/>
                </a:lnTo>
                <a:lnTo>
                  <a:pt x="30" y="23"/>
                </a:lnTo>
                <a:lnTo>
                  <a:pt x="37" y="23"/>
                </a:lnTo>
                <a:lnTo>
                  <a:pt x="45" y="31"/>
                </a:lnTo>
                <a:lnTo>
                  <a:pt x="52" y="39"/>
                </a:lnTo>
                <a:lnTo>
                  <a:pt x="59" y="39"/>
                </a:lnTo>
                <a:lnTo>
                  <a:pt x="67" y="46"/>
                </a:lnTo>
                <a:lnTo>
                  <a:pt x="74" y="54"/>
                </a:lnTo>
                <a:lnTo>
                  <a:pt x="81" y="62"/>
                </a:lnTo>
                <a:lnTo>
                  <a:pt x="89" y="62"/>
                </a:lnTo>
                <a:lnTo>
                  <a:pt x="96" y="70"/>
                </a:lnTo>
                <a:lnTo>
                  <a:pt x="104" y="77"/>
                </a:lnTo>
                <a:lnTo>
                  <a:pt x="111" y="77"/>
                </a:lnTo>
                <a:lnTo>
                  <a:pt x="118" y="85"/>
                </a:lnTo>
                <a:lnTo>
                  <a:pt x="126" y="93"/>
                </a:lnTo>
                <a:lnTo>
                  <a:pt x="133" y="101"/>
                </a:lnTo>
                <a:lnTo>
                  <a:pt x="140" y="101"/>
                </a:lnTo>
                <a:lnTo>
                  <a:pt x="148" y="108"/>
                </a:lnTo>
                <a:lnTo>
                  <a:pt x="155" y="116"/>
                </a:lnTo>
                <a:lnTo>
                  <a:pt x="163" y="116"/>
                </a:lnTo>
                <a:lnTo>
                  <a:pt x="170" y="124"/>
                </a:lnTo>
                <a:lnTo>
                  <a:pt x="177" y="132"/>
                </a:lnTo>
                <a:lnTo>
                  <a:pt x="185" y="140"/>
                </a:lnTo>
                <a:lnTo>
                  <a:pt x="192" y="140"/>
                </a:lnTo>
                <a:lnTo>
                  <a:pt x="199" y="147"/>
                </a:lnTo>
                <a:lnTo>
                  <a:pt x="207" y="155"/>
                </a:lnTo>
                <a:lnTo>
                  <a:pt x="214" y="155"/>
                </a:lnTo>
                <a:lnTo>
                  <a:pt x="222" y="163"/>
                </a:lnTo>
                <a:lnTo>
                  <a:pt x="229" y="171"/>
                </a:lnTo>
                <a:lnTo>
                  <a:pt x="236" y="178"/>
                </a:lnTo>
                <a:lnTo>
                  <a:pt x="244" y="178"/>
                </a:lnTo>
                <a:lnTo>
                  <a:pt x="251" y="186"/>
                </a:lnTo>
                <a:lnTo>
                  <a:pt x="258" y="194"/>
                </a:lnTo>
                <a:lnTo>
                  <a:pt x="266" y="194"/>
                </a:lnTo>
                <a:lnTo>
                  <a:pt x="273" y="202"/>
                </a:lnTo>
                <a:lnTo>
                  <a:pt x="280" y="209"/>
                </a:lnTo>
                <a:lnTo>
                  <a:pt x="288" y="209"/>
                </a:lnTo>
                <a:lnTo>
                  <a:pt x="295" y="217"/>
                </a:lnTo>
                <a:lnTo>
                  <a:pt x="303" y="225"/>
                </a:lnTo>
                <a:lnTo>
                  <a:pt x="310" y="233"/>
                </a:lnTo>
                <a:lnTo>
                  <a:pt x="317" y="233"/>
                </a:lnTo>
                <a:lnTo>
                  <a:pt x="325" y="241"/>
                </a:lnTo>
                <a:lnTo>
                  <a:pt x="332" y="248"/>
                </a:lnTo>
                <a:lnTo>
                  <a:pt x="339" y="248"/>
                </a:lnTo>
                <a:lnTo>
                  <a:pt x="347" y="256"/>
                </a:lnTo>
                <a:lnTo>
                  <a:pt x="354" y="264"/>
                </a:lnTo>
                <a:lnTo>
                  <a:pt x="362" y="264"/>
                </a:lnTo>
                <a:lnTo>
                  <a:pt x="369" y="272"/>
                </a:lnTo>
                <a:lnTo>
                  <a:pt x="376" y="279"/>
                </a:lnTo>
                <a:lnTo>
                  <a:pt x="384" y="287"/>
                </a:lnTo>
                <a:lnTo>
                  <a:pt x="391" y="287"/>
                </a:lnTo>
                <a:lnTo>
                  <a:pt x="398" y="295"/>
                </a:lnTo>
                <a:lnTo>
                  <a:pt x="406" y="303"/>
                </a:lnTo>
                <a:lnTo>
                  <a:pt x="413" y="303"/>
                </a:lnTo>
                <a:lnTo>
                  <a:pt x="421" y="310"/>
                </a:lnTo>
                <a:lnTo>
                  <a:pt x="428" y="318"/>
                </a:lnTo>
                <a:lnTo>
                  <a:pt x="435" y="318"/>
                </a:lnTo>
                <a:lnTo>
                  <a:pt x="443" y="326"/>
                </a:lnTo>
                <a:lnTo>
                  <a:pt x="450" y="334"/>
                </a:lnTo>
                <a:lnTo>
                  <a:pt x="457" y="334"/>
                </a:lnTo>
                <a:lnTo>
                  <a:pt x="465" y="342"/>
                </a:lnTo>
                <a:lnTo>
                  <a:pt x="472" y="349"/>
                </a:lnTo>
                <a:lnTo>
                  <a:pt x="480" y="357"/>
                </a:lnTo>
                <a:lnTo>
                  <a:pt x="487" y="357"/>
                </a:lnTo>
                <a:lnTo>
                  <a:pt x="494" y="365"/>
                </a:lnTo>
                <a:lnTo>
                  <a:pt x="502" y="373"/>
                </a:lnTo>
                <a:lnTo>
                  <a:pt x="509" y="373"/>
                </a:lnTo>
                <a:lnTo>
                  <a:pt x="516" y="380"/>
                </a:lnTo>
                <a:lnTo>
                  <a:pt x="524" y="388"/>
                </a:lnTo>
                <a:lnTo>
                  <a:pt x="531" y="396"/>
                </a:lnTo>
                <a:lnTo>
                  <a:pt x="538" y="396"/>
                </a:lnTo>
                <a:lnTo>
                  <a:pt x="546" y="404"/>
                </a:lnTo>
                <a:lnTo>
                  <a:pt x="553" y="412"/>
                </a:lnTo>
                <a:lnTo>
                  <a:pt x="561" y="412"/>
                </a:lnTo>
                <a:lnTo>
                  <a:pt x="568" y="419"/>
                </a:lnTo>
                <a:lnTo>
                  <a:pt x="575" y="427"/>
                </a:lnTo>
                <a:lnTo>
                  <a:pt x="583" y="435"/>
                </a:lnTo>
                <a:lnTo>
                  <a:pt x="590" y="435"/>
                </a:lnTo>
                <a:lnTo>
                  <a:pt x="597" y="443"/>
                </a:lnTo>
                <a:lnTo>
                  <a:pt x="605" y="450"/>
                </a:lnTo>
                <a:lnTo>
                  <a:pt x="612" y="450"/>
                </a:lnTo>
                <a:lnTo>
                  <a:pt x="620" y="458"/>
                </a:lnTo>
                <a:lnTo>
                  <a:pt x="627" y="466"/>
                </a:lnTo>
                <a:lnTo>
                  <a:pt x="634" y="474"/>
                </a:lnTo>
                <a:lnTo>
                  <a:pt x="642" y="474"/>
                </a:lnTo>
                <a:lnTo>
                  <a:pt x="649" y="481"/>
                </a:lnTo>
                <a:lnTo>
                  <a:pt x="656" y="489"/>
                </a:lnTo>
                <a:lnTo>
                  <a:pt x="664" y="497"/>
                </a:lnTo>
                <a:lnTo>
                  <a:pt x="671" y="505"/>
                </a:lnTo>
                <a:lnTo>
                  <a:pt x="679" y="505"/>
                </a:lnTo>
                <a:lnTo>
                  <a:pt x="686" y="513"/>
                </a:lnTo>
                <a:lnTo>
                  <a:pt x="693" y="520"/>
                </a:lnTo>
                <a:lnTo>
                  <a:pt x="701" y="528"/>
                </a:lnTo>
                <a:lnTo>
                  <a:pt x="708" y="536"/>
                </a:lnTo>
                <a:lnTo>
                  <a:pt x="715" y="536"/>
                </a:lnTo>
                <a:lnTo>
                  <a:pt x="723" y="544"/>
                </a:lnTo>
                <a:lnTo>
                  <a:pt x="730" y="551"/>
                </a:lnTo>
                <a:lnTo>
                  <a:pt x="738" y="559"/>
                </a:lnTo>
                <a:lnTo>
                  <a:pt x="745" y="567"/>
                </a:lnTo>
                <a:lnTo>
                  <a:pt x="752" y="575"/>
                </a:lnTo>
                <a:lnTo>
                  <a:pt x="760" y="575"/>
                </a:lnTo>
                <a:lnTo>
                  <a:pt x="767" y="582"/>
                </a:lnTo>
                <a:lnTo>
                  <a:pt x="774" y="590"/>
                </a:lnTo>
                <a:lnTo>
                  <a:pt x="782" y="598"/>
                </a:lnTo>
                <a:lnTo>
                  <a:pt x="789" y="606"/>
                </a:lnTo>
                <a:lnTo>
                  <a:pt x="796" y="614"/>
                </a:lnTo>
                <a:lnTo>
                  <a:pt x="804" y="614"/>
                </a:lnTo>
                <a:lnTo>
                  <a:pt x="811" y="621"/>
                </a:lnTo>
                <a:lnTo>
                  <a:pt x="819" y="629"/>
                </a:lnTo>
                <a:lnTo>
                  <a:pt x="826" y="637"/>
                </a:lnTo>
                <a:lnTo>
                  <a:pt x="833" y="645"/>
                </a:lnTo>
                <a:lnTo>
                  <a:pt x="841" y="645"/>
                </a:lnTo>
                <a:lnTo>
                  <a:pt x="848" y="652"/>
                </a:lnTo>
                <a:lnTo>
                  <a:pt x="855" y="660"/>
                </a:lnTo>
                <a:lnTo>
                  <a:pt x="863" y="668"/>
                </a:lnTo>
                <a:lnTo>
                  <a:pt x="870" y="676"/>
                </a:lnTo>
                <a:lnTo>
                  <a:pt x="878" y="684"/>
                </a:lnTo>
                <a:lnTo>
                  <a:pt x="885" y="684"/>
                </a:lnTo>
                <a:lnTo>
                  <a:pt x="892" y="691"/>
                </a:lnTo>
                <a:lnTo>
                  <a:pt x="900" y="699"/>
                </a:lnTo>
                <a:lnTo>
                  <a:pt x="907" y="707"/>
                </a:lnTo>
                <a:lnTo>
                  <a:pt x="914" y="715"/>
                </a:lnTo>
                <a:lnTo>
                  <a:pt x="922" y="715"/>
                </a:lnTo>
                <a:lnTo>
                  <a:pt x="929" y="722"/>
                </a:lnTo>
                <a:lnTo>
                  <a:pt x="937" y="730"/>
                </a:lnTo>
              </a:path>
            </a:pathLst>
          </a:custGeom>
          <a:noFill/>
          <a:ln w="0">
            <a:solidFill>
              <a:srgbClr val="000000"/>
            </a:solidFill>
            <a:prstDash val="sys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769160" y="5389560"/>
            <a:ext cx="525600" cy="506520"/>
          </a:xfrm>
          <a:custGeom>
            <a:avLst/>
            <a:gdLst/>
            <a:ahLst/>
            <a:rect l="l" t="t" r="r" b="b"/>
            <a:pathLst>
              <a:path w="331" h="319">
                <a:moveTo>
                  <a:pt x="0" y="0"/>
                </a:moveTo>
                <a:lnTo>
                  <a:pt x="7" y="8"/>
                </a:lnTo>
                <a:lnTo>
                  <a:pt x="14" y="16"/>
                </a:lnTo>
                <a:lnTo>
                  <a:pt x="22" y="16"/>
                </a:lnTo>
                <a:lnTo>
                  <a:pt x="29" y="23"/>
                </a:lnTo>
                <a:lnTo>
                  <a:pt x="36" y="31"/>
                </a:lnTo>
                <a:lnTo>
                  <a:pt x="44" y="39"/>
                </a:lnTo>
                <a:lnTo>
                  <a:pt x="51" y="47"/>
                </a:lnTo>
                <a:lnTo>
                  <a:pt x="59" y="47"/>
                </a:lnTo>
                <a:lnTo>
                  <a:pt x="66" y="55"/>
                </a:lnTo>
                <a:lnTo>
                  <a:pt x="73" y="62"/>
                </a:lnTo>
                <a:lnTo>
                  <a:pt x="81" y="70"/>
                </a:lnTo>
                <a:lnTo>
                  <a:pt x="88" y="78"/>
                </a:lnTo>
                <a:lnTo>
                  <a:pt x="95" y="86"/>
                </a:lnTo>
                <a:lnTo>
                  <a:pt x="103" y="93"/>
                </a:lnTo>
                <a:lnTo>
                  <a:pt x="110" y="101"/>
                </a:lnTo>
                <a:lnTo>
                  <a:pt x="117" y="109"/>
                </a:lnTo>
                <a:lnTo>
                  <a:pt x="125" y="117"/>
                </a:lnTo>
                <a:lnTo>
                  <a:pt x="132" y="124"/>
                </a:lnTo>
                <a:lnTo>
                  <a:pt x="140" y="132"/>
                </a:lnTo>
                <a:lnTo>
                  <a:pt x="147" y="132"/>
                </a:lnTo>
                <a:lnTo>
                  <a:pt x="154" y="140"/>
                </a:lnTo>
                <a:lnTo>
                  <a:pt x="162" y="148"/>
                </a:lnTo>
                <a:lnTo>
                  <a:pt x="169" y="156"/>
                </a:lnTo>
                <a:lnTo>
                  <a:pt x="176" y="163"/>
                </a:lnTo>
                <a:lnTo>
                  <a:pt x="184" y="171"/>
                </a:lnTo>
                <a:lnTo>
                  <a:pt x="191" y="179"/>
                </a:lnTo>
                <a:lnTo>
                  <a:pt x="199" y="187"/>
                </a:lnTo>
                <a:lnTo>
                  <a:pt x="206" y="194"/>
                </a:lnTo>
                <a:lnTo>
                  <a:pt x="213" y="202"/>
                </a:lnTo>
                <a:lnTo>
                  <a:pt x="221" y="210"/>
                </a:lnTo>
                <a:lnTo>
                  <a:pt x="228" y="218"/>
                </a:lnTo>
                <a:lnTo>
                  <a:pt x="235" y="226"/>
                </a:lnTo>
                <a:lnTo>
                  <a:pt x="243" y="233"/>
                </a:lnTo>
                <a:lnTo>
                  <a:pt x="250" y="241"/>
                </a:lnTo>
                <a:lnTo>
                  <a:pt x="258" y="249"/>
                </a:lnTo>
                <a:lnTo>
                  <a:pt x="265" y="257"/>
                </a:lnTo>
                <a:lnTo>
                  <a:pt x="272" y="264"/>
                </a:lnTo>
                <a:lnTo>
                  <a:pt x="280" y="272"/>
                </a:lnTo>
                <a:lnTo>
                  <a:pt x="287" y="280"/>
                </a:lnTo>
                <a:lnTo>
                  <a:pt x="294" y="288"/>
                </a:lnTo>
                <a:lnTo>
                  <a:pt x="302" y="295"/>
                </a:lnTo>
                <a:lnTo>
                  <a:pt x="309" y="303"/>
                </a:lnTo>
                <a:lnTo>
                  <a:pt x="317" y="311"/>
                </a:lnTo>
                <a:lnTo>
                  <a:pt x="324" y="319"/>
                </a:lnTo>
                <a:lnTo>
                  <a:pt x="331" y="319"/>
                </a:lnTo>
              </a:path>
            </a:pathLst>
          </a:custGeom>
          <a:noFill/>
          <a:ln w="0">
            <a:solidFill>
              <a:srgbClr val="000000"/>
            </a:solidFill>
            <a:prstDash val="sysDash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216240" y="2071800"/>
            <a:ext cx="3065400" cy="1466640"/>
          </a:xfrm>
          <a:custGeom>
            <a:avLst/>
            <a:gdLst/>
            <a:ahLst/>
            <a:rect l="l" t="t" r="r" b="b"/>
            <a:pathLst>
              <a:path w="1931" h="924">
                <a:moveTo>
                  <a:pt x="0" y="0"/>
                </a:moveTo>
                <a:lnTo>
                  <a:pt x="236" y="147"/>
                </a:lnTo>
                <a:lnTo>
                  <a:pt x="376" y="225"/>
                </a:lnTo>
                <a:lnTo>
                  <a:pt x="479" y="279"/>
                </a:lnTo>
                <a:lnTo>
                  <a:pt x="553" y="318"/>
                </a:lnTo>
                <a:lnTo>
                  <a:pt x="619" y="349"/>
                </a:lnTo>
                <a:lnTo>
                  <a:pt x="671" y="380"/>
                </a:lnTo>
                <a:lnTo>
                  <a:pt x="715" y="404"/>
                </a:lnTo>
                <a:lnTo>
                  <a:pt x="759" y="419"/>
                </a:lnTo>
                <a:lnTo>
                  <a:pt x="796" y="443"/>
                </a:lnTo>
                <a:lnTo>
                  <a:pt x="826" y="458"/>
                </a:lnTo>
                <a:lnTo>
                  <a:pt x="863" y="474"/>
                </a:lnTo>
                <a:lnTo>
                  <a:pt x="885" y="489"/>
                </a:lnTo>
                <a:lnTo>
                  <a:pt x="914" y="497"/>
                </a:lnTo>
                <a:lnTo>
                  <a:pt x="936" y="513"/>
                </a:lnTo>
                <a:lnTo>
                  <a:pt x="958" y="520"/>
                </a:lnTo>
                <a:lnTo>
                  <a:pt x="981" y="536"/>
                </a:lnTo>
                <a:lnTo>
                  <a:pt x="1003" y="544"/>
                </a:lnTo>
                <a:lnTo>
                  <a:pt x="1017" y="551"/>
                </a:lnTo>
                <a:lnTo>
                  <a:pt x="1039" y="559"/>
                </a:lnTo>
                <a:lnTo>
                  <a:pt x="1054" y="567"/>
                </a:lnTo>
                <a:lnTo>
                  <a:pt x="1069" y="575"/>
                </a:lnTo>
                <a:lnTo>
                  <a:pt x="1084" y="583"/>
                </a:lnTo>
                <a:lnTo>
                  <a:pt x="1098" y="590"/>
                </a:lnTo>
                <a:lnTo>
                  <a:pt x="1113" y="598"/>
                </a:lnTo>
                <a:lnTo>
                  <a:pt x="1128" y="606"/>
                </a:lnTo>
                <a:lnTo>
                  <a:pt x="1143" y="614"/>
                </a:lnTo>
                <a:lnTo>
                  <a:pt x="1157" y="614"/>
                </a:lnTo>
                <a:lnTo>
                  <a:pt x="1165" y="621"/>
                </a:lnTo>
                <a:lnTo>
                  <a:pt x="1180" y="629"/>
                </a:lnTo>
                <a:lnTo>
                  <a:pt x="1187" y="637"/>
                </a:lnTo>
                <a:lnTo>
                  <a:pt x="1202" y="637"/>
                </a:lnTo>
                <a:lnTo>
                  <a:pt x="1209" y="645"/>
                </a:lnTo>
                <a:lnTo>
                  <a:pt x="1224" y="645"/>
                </a:lnTo>
                <a:lnTo>
                  <a:pt x="1231" y="652"/>
                </a:lnTo>
                <a:lnTo>
                  <a:pt x="1238" y="660"/>
                </a:lnTo>
                <a:lnTo>
                  <a:pt x="1253" y="660"/>
                </a:lnTo>
                <a:lnTo>
                  <a:pt x="1261" y="668"/>
                </a:lnTo>
                <a:lnTo>
                  <a:pt x="1268" y="668"/>
                </a:lnTo>
                <a:lnTo>
                  <a:pt x="1275" y="676"/>
                </a:lnTo>
                <a:lnTo>
                  <a:pt x="1283" y="676"/>
                </a:lnTo>
                <a:lnTo>
                  <a:pt x="1297" y="684"/>
                </a:lnTo>
                <a:lnTo>
                  <a:pt x="1305" y="684"/>
                </a:lnTo>
                <a:lnTo>
                  <a:pt x="1312" y="684"/>
                </a:lnTo>
                <a:lnTo>
                  <a:pt x="1320" y="691"/>
                </a:lnTo>
                <a:lnTo>
                  <a:pt x="1327" y="691"/>
                </a:lnTo>
                <a:lnTo>
                  <a:pt x="1334" y="699"/>
                </a:lnTo>
                <a:lnTo>
                  <a:pt x="1342" y="699"/>
                </a:lnTo>
                <a:lnTo>
                  <a:pt x="1349" y="707"/>
                </a:lnTo>
                <a:lnTo>
                  <a:pt x="1356" y="707"/>
                </a:lnTo>
                <a:lnTo>
                  <a:pt x="1364" y="707"/>
                </a:lnTo>
                <a:lnTo>
                  <a:pt x="1371" y="715"/>
                </a:lnTo>
                <a:lnTo>
                  <a:pt x="1379" y="715"/>
                </a:lnTo>
                <a:lnTo>
                  <a:pt x="1386" y="722"/>
                </a:lnTo>
                <a:lnTo>
                  <a:pt x="1393" y="722"/>
                </a:lnTo>
                <a:lnTo>
                  <a:pt x="1401" y="722"/>
                </a:lnTo>
                <a:lnTo>
                  <a:pt x="1408" y="730"/>
                </a:lnTo>
                <a:lnTo>
                  <a:pt x="1415" y="730"/>
                </a:lnTo>
                <a:lnTo>
                  <a:pt x="1423" y="738"/>
                </a:lnTo>
                <a:lnTo>
                  <a:pt x="1430" y="738"/>
                </a:lnTo>
                <a:lnTo>
                  <a:pt x="1438" y="746"/>
                </a:lnTo>
                <a:lnTo>
                  <a:pt x="1445" y="746"/>
                </a:lnTo>
                <a:lnTo>
                  <a:pt x="1452" y="746"/>
                </a:lnTo>
                <a:lnTo>
                  <a:pt x="1460" y="754"/>
                </a:lnTo>
                <a:lnTo>
                  <a:pt x="1467" y="754"/>
                </a:lnTo>
                <a:lnTo>
                  <a:pt x="1474" y="761"/>
                </a:lnTo>
                <a:lnTo>
                  <a:pt x="1482" y="761"/>
                </a:lnTo>
                <a:lnTo>
                  <a:pt x="1489" y="761"/>
                </a:lnTo>
                <a:lnTo>
                  <a:pt x="1496" y="769"/>
                </a:lnTo>
                <a:lnTo>
                  <a:pt x="1504" y="769"/>
                </a:lnTo>
                <a:lnTo>
                  <a:pt x="1511" y="777"/>
                </a:lnTo>
                <a:lnTo>
                  <a:pt x="1519" y="777"/>
                </a:lnTo>
                <a:lnTo>
                  <a:pt x="1526" y="777"/>
                </a:lnTo>
                <a:lnTo>
                  <a:pt x="1533" y="785"/>
                </a:lnTo>
                <a:lnTo>
                  <a:pt x="1541" y="785"/>
                </a:lnTo>
                <a:lnTo>
                  <a:pt x="1548" y="792"/>
                </a:lnTo>
                <a:lnTo>
                  <a:pt x="1555" y="792"/>
                </a:lnTo>
                <a:lnTo>
                  <a:pt x="1563" y="792"/>
                </a:lnTo>
                <a:lnTo>
                  <a:pt x="1570" y="800"/>
                </a:lnTo>
                <a:lnTo>
                  <a:pt x="1578" y="800"/>
                </a:lnTo>
                <a:lnTo>
                  <a:pt x="1585" y="800"/>
                </a:lnTo>
                <a:lnTo>
                  <a:pt x="1592" y="808"/>
                </a:lnTo>
                <a:lnTo>
                  <a:pt x="1600" y="808"/>
                </a:lnTo>
                <a:lnTo>
                  <a:pt x="1607" y="816"/>
                </a:lnTo>
                <a:lnTo>
                  <a:pt x="1614" y="816"/>
                </a:lnTo>
                <a:lnTo>
                  <a:pt x="1622" y="816"/>
                </a:lnTo>
                <a:lnTo>
                  <a:pt x="1629" y="823"/>
                </a:lnTo>
                <a:lnTo>
                  <a:pt x="1637" y="823"/>
                </a:lnTo>
                <a:lnTo>
                  <a:pt x="1644" y="831"/>
                </a:lnTo>
                <a:lnTo>
                  <a:pt x="1651" y="831"/>
                </a:lnTo>
                <a:lnTo>
                  <a:pt x="1659" y="831"/>
                </a:lnTo>
                <a:lnTo>
                  <a:pt x="1666" y="839"/>
                </a:lnTo>
                <a:lnTo>
                  <a:pt x="1673" y="839"/>
                </a:lnTo>
                <a:lnTo>
                  <a:pt x="1681" y="839"/>
                </a:lnTo>
                <a:lnTo>
                  <a:pt x="1688" y="847"/>
                </a:lnTo>
                <a:lnTo>
                  <a:pt x="1696" y="847"/>
                </a:lnTo>
                <a:lnTo>
                  <a:pt x="1703" y="855"/>
                </a:lnTo>
                <a:lnTo>
                  <a:pt x="1710" y="855"/>
                </a:lnTo>
                <a:lnTo>
                  <a:pt x="1718" y="855"/>
                </a:lnTo>
                <a:lnTo>
                  <a:pt x="1725" y="862"/>
                </a:lnTo>
                <a:lnTo>
                  <a:pt x="1732" y="862"/>
                </a:lnTo>
                <a:lnTo>
                  <a:pt x="1740" y="862"/>
                </a:lnTo>
                <a:lnTo>
                  <a:pt x="1747" y="870"/>
                </a:lnTo>
                <a:lnTo>
                  <a:pt x="1754" y="870"/>
                </a:lnTo>
                <a:lnTo>
                  <a:pt x="1762" y="870"/>
                </a:lnTo>
                <a:lnTo>
                  <a:pt x="1769" y="878"/>
                </a:lnTo>
                <a:lnTo>
                  <a:pt x="1777" y="878"/>
                </a:lnTo>
                <a:lnTo>
                  <a:pt x="1784" y="886"/>
                </a:lnTo>
                <a:lnTo>
                  <a:pt x="1791" y="886"/>
                </a:lnTo>
                <a:lnTo>
                  <a:pt x="1799" y="886"/>
                </a:lnTo>
                <a:lnTo>
                  <a:pt x="1806" y="893"/>
                </a:lnTo>
                <a:lnTo>
                  <a:pt x="1813" y="893"/>
                </a:lnTo>
                <a:lnTo>
                  <a:pt x="1821" y="893"/>
                </a:lnTo>
                <a:lnTo>
                  <a:pt x="1828" y="893"/>
                </a:lnTo>
                <a:lnTo>
                  <a:pt x="1836" y="901"/>
                </a:lnTo>
                <a:lnTo>
                  <a:pt x="1843" y="901"/>
                </a:lnTo>
                <a:lnTo>
                  <a:pt x="1850" y="901"/>
                </a:lnTo>
                <a:lnTo>
                  <a:pt x="1858" y="909"/>
                </a:lnTo>
                <a:lnTo>
                  <a:pt x="1865" y="909"/>
                </a:lnTo>
                <a:lnTo>
                  <a:pt x="1872" y="909"/>
                </a:lnTo>
                <a:lnTo>
                  <a:pt x="1880" y="909"/>
                </a:lnTo>
                <a:lnTo>
                  <a:pt x="1887" y="917"/>
                </a:lnTo>
                <a:lnTo>
                  <a:pt x="1895" y="917"/>
                </a:lnTo>
                <a:lnTo>
                  <a:pt x="1902" y="917"/>
                </a:lnTo>
                <a:lnTo>
                  <a:pt x="1909" y="924"/>
                </a:lnTo>
                <a:lnTo>
                  <a:pt x="1917" y="924"/>
                </a:lnTo>
                <a:lnTo>
                  <a:pt x="1924" y="924"/>
                </a:lnTo>
                <a:lnTo>
                  <a:pt x="1931" y="924"/>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281640" y="3538440"/>
            <a:ext cx="1487520" cy="581040"/>
          </a:xfrm>
          <a:custGeom>
            <a:avLst/>
            <a:gdLst/>
            <a:ahLst/>
            <a:rect l="l" t="t" r="r" b="b"/>
            <a:pathLst>
              <a:path w="937" h="366">
                <a:moveTo>
                  <a:pt x="0" y="0"/>
                </a:moveTo>
                <a:lnTo>
                  <a:pt x="8" y="8"/>
                </a:lnTo>
                <a:lnTo>
                  <a:pt x="15" y="8"/>
                </a:lnTo>
                <a:lnTo>
                  <a:pt x="23" y="8"/>
                </a:lnTo>
                <a:lnTo>
                  <a:pt x="30" y="16"/>
                </a:lnTo>
                <a:lnTo>
                  <a:pt x="37" y="16"/>
                </a:lnTo>
                <a:lnTo>
                  <a:pt x="45" y="16"/>
                </a:lnTo>
                <a:lnTo>
                  <a:pt x="52" y="16"/>
                </a:lnTo>
                <a:lnTo>
                  <a:pt x="59" y="24"/>
                </a:lnTo>
                <a:lnTo>
                  <a:pt x="67" y="24"/>
                </a:lnTo>
                <a:lnTo>
                  <a:pt x="74" y="24"/>
                </a:lnTo>
                <a:lnTo>
                  <a:pt x="81" y="32"/>
                </a:lnTo>
                <a:lnTo>
                  <a:pt x="89" y="32"/>
                </a:lnTo>
                <a:lnTo>
                  <a:pt x="96" y="32"/>
                </a:lnTo>
                <a:lnTo>
                  <a:pt x="104" y="32"/>
                </a:lnTo>
                <a:lnTo>
                  <a:pt x="111" y="39"/>
                </a:lnTo>
                <a:lnTo>
                  <a:pt x="118" y="39"/>
                </a:lnTo>
                <a:lnTo>
                  <a:pt x="126" y="39"/>
                </a:lnTo>
                <a:lnTo>
                  <a:pt x="133" y="47"/>
                </a:lnTo>
                <a:lnTo>
                  <a:pt x="140" y="47"/>
                </a:lnTo>
                <a:lnTo>
                  <a:pt x="148" y="47"/>
                </a:lnTo>
                <a:lnTo>
                  <a:pt x="155" y="47"/>
                </a:lnTo>
                <a:lnTo>
                  <a:pt x="163" y="55"/>
                </a:lnTo>
                <a:lnTo>
                  <a:pt x="170" y="55"/>
                </a:lnTo>
                <a:lnTo>
                  <a:pt x="177" y="55"/>
                </a:lnTo>
                <a:lnTo>
                  <a:pt x="185" y="63"/>
                </a:lnTo>
                <a:lnTo>
                  <a:pt x="192" y="63"/>
                </a:lnTo>
                <a:lnTo>
                  <a:pt x="199" y="63"/>
                </a:lnTo>
                <a:lnTo>
                  <a:pt x="207" y="63"/>
                </a:lnTo>
                <a:lnTo>
                  <a:pt x="214" y="70"/>
                </a:lnTo>
                <a:lnTo>
                  <a:pt x="222" y="70"/>
                </a:lnTo>
                <a:lnTo>
                  <a:pt x="229" y="70"/>
                </a:lnTo>
                <a:lnTo>
                  <a:pt x="236" y="78"/>
                </a:lnTo>
                <a:lnTo>
                  <a:pt x="244" y="78"/>
                </a:lnTo>
                <a:lnTo>
                  <a:pt x="251" y="78"/>
                </a:lnTo>
                <a:lnTo>
                  <a:pt x="258" y="86"/>
                </a:lnTo>
                <a:lnTo>
                  <a:pt x="266" y="86"/>
                </a:lnTo>
                <a:lnTo>
                  <a:pt x="273" y="94"/>
                </a:lnTo>
                <a:lnTo>
                  <a:pt x="280" y="94"/>
                </a:lnTo>
                <a:lnTo>
                  <a:pt x="288" y="94"/>
                </a:lnTo>
                <a:lnTo>
                  <a:pt x="295" y="101"/>
                </a:lnTo>
                <a:lnTo>
                  <a:pt x="303" y="101"/>
                </a:lnTo>
                <a:lnTo>
                  <a:pt x="310" y="101"/>
                </a:lnTo>
                <a:lnTo>
                  <a:pt x="317" y="109"/>
                </a:lnTo>
                <a:lnTo>
                  <a:pt x="325" y="109"/>
                </a:lnTo>
                <a:lnTo>
                  <a:pt x="332" y="109"/>
                </a:lnTo>
                <a:lnTo>
                  <a:pt x="339" y="117"/>
                </a:lnTo>
                <a:lnTo>
                  <a:pt x="347" y="117"/>
                </a:lnTo>
                <a:lnTo>
                  <a:pt x="354" y="117"/>
                </a:lnTo>
                <a:lnTo>
                  <a:pt x="362" y="125"/>
                </a:lnTo>
                <a:lnTo>
                  <a:pt x="369" y="125"/>
                </a:lnTo>
                <a:lnTo>
                  <a:pt x="376" y="125"/>
                </a:lnTo>
                <a:lnTo>
                  <a:pt x="384" y="133"/>
                </a:lnTo>
                <a:lnTo>
                  <a:pt x="391" y="133"/>
                </a:lnTo>
                <a:lnTo>
                  <a:pt x="398" y="133"/>
                </a:lnTo>
                <a:lnTo>
                  <a:pt x="406" y="140"/>
                </a:lnTo>
                <a:lnTo>
                  <a:pt x="413" y="140"/>
                </a:lnTo>
                <a:lnTo>
                  <a:pt x="421" y="148"/>
                </a:lnTo>
                <a:lnTo>
                  <a:pt x="428" y="148"/>
                </a:lnTo>
                <a:lnTo>
                  <a:pt x="435" y="148"/>
                </a:lnTo>
                <a:lnTo>
                  <a:pt x="443" y="156"/>
                </a:lnTo>
                <a:lnTo>
                  <a:pt x="450" y="156"/>
                </a:lnTo>
                <a:lnTo>
                  <a:pt x="457" y="156"/>
                </a:lnTo>
                <a:lnTo>
                  <a:pt x="465" y="164"/>
                </a:lnTo>
                <a:lnTo>
                  <a:pt x="472" y="164"/>
                </a:lnTo>
                <a:lnTo>
                  <a:pt x="480" y="171"/>
                </a:lnTo>
                <a:lnTo>
                  <a:pt x="487" y="171"/>
                </a:lnTo>
                <a:lnTo>
                  <a:pt x="494" y="171"/>
                </a:lnTo>
                <a:lnTo>
                  <a:pt x="502" y="179"/>
                </a:lnTo>
                <a:lnTo>
                  <a:pt x="509" y="179"/>
                </a:lnTo>
                <a:lnTo>
                  <a:pt x="516" y="179"/>
                </a:lnTo>
                <a:lnTo>
                  <a:pt x="524" y="187"/>
                </a:lnTo>
                <a:lnTo>
                  <a:pt x="531" y="187"/>
                </a:lnTo>
                <a:lnTo>
                  <a:pt x="538" y="195"/>
                </a:lnTo>
                <a:lnTo>
                  <a:pt x="546" y="195"/>
                </a:lnTo>
                <a:lnTo>
                  <a:pt x="553" y="195"/>
                </a:lnTo>
                <a:lnTo>
                  <a:pt x="561" y="203"/>
                </a:lnTo>
                <a:lnTo>
                  <a:pt x="568" y="203"/>
                </a:lnTo>
                <a:lnTo>
                  <a:pt x="575" y="210"/>
                </a:lnTo>
                <a:lnTo>
                  <a:pt x="583" y="210"/>
                </a:lnTo>
                <a:lnTo>
                  <a:pt x="590" y="210"/>
                </a:lnTo>
                <a:lnTo>
                  <a:pt x="597" y="218"/>
                </a:lnTo>
                <a:lnTo>
                  <a:pt x="605" y="218"/>
                </a:lnTo>
                <a:lnTo>
                  <a:pt x="612" y="226"/>
                </a:lnTo>
                <a:lnTo>
                  <a:pt x="620" y="226"/>
                </a:lnTo>
                <a:lnTo>
                  <a:pt x="627" y="226"/>
                </a:lnTo>
                <a:lnTo>
                  <a:pt x="634" y="234"/>
                </a:lnTo>
                <a:lnTo>
                  <a:pt x="642" y="234"/>
                </a:lnTo>
                <a:lnTo>
                  <a:pt x="649" y="241"/>
                </a:lnTo>
                <a:lnTo>
                  <a:pt x="656" y="241"/>
                </a:lnTo>
                <a:lnTo>
                  <a:pt x="664" y="249"/>
                </a:lnTo>
                <a:lnTo>
                  <a:pt x="671" y="249"/>
                </a:lnTo>
                <a:lnTo>
                  <a:pt x="679" y="257"/>
                </a:lnTo>
                <a:lnTo>
                  <a:pt x="686" y="257"/>
                </a:lnTo>
                <a:lnTo>
                  <a:pt x="693" y="257"/>
                </a:lnTo>
                <a:lnTo>
                  <a:pt x="701" y="265"/>
                </a:lnTo>
                <a:lnTo>
                  <a:pt x="708" y="265"/>
                </a:lnTo>
                <a:lnTo>
                  <a:pt x="715" y="272"/>
                </a:lnTo>
                <a:lnTo>
                  <a:pt x="723" y="272"/>
                </a:lnTo>
                <a:lnTo>
                  <a:pt x="730" y="280"/>
                </a:lnTo>
                <a:lnTo>
                  <a:pt x="738" y="280"/>
                </a:lnTo>
                <a:lnTo>
                  <a:pt x="745" y="288"/>
                </a:lnTo>
                <a:lnTo>
                  <a:pt x="752" y="288"/>
                </a:lnTo>
                <a:lnTo>
                  <a:pt x="760" y="296"/>
                </a:lnTo>
                <a:lnTo>
                  <a:pt x="767" y="296"/>
                </a:lnTo>
                <a:lnTo>
                  <a:pt x="774" y="304"/>
                </a:lnTo>
                <a:lnTo>
                  <a:pt x="782" y="304"/>
                </a:lnTo>
                <a:lnTo>
                  <a:pt x="789" y="311"/>
                </a:lnTo>
                <a:lnTo>
                  <a:pt x="796" y="311"/>
                </a:lnTo>
                <a:lnTo>
                  <a:pt x="804" y="311"/>
                </a:lnTo>
                <a:lnTo>
                  <a:pt x="811" y="319"/>
                </a:lnTo>
                <a:lnTo>
                  <a:pt x="819" y="319"/>
                </a:lnTo>
                <a:lnTo>
                  <a:pt x="826" y="327"/>
                </a:lnTo>
                <a:lnTo>
                  <a:pt x="833" y="327"/>
                </a:lnTo>
                <a:lnTo>
                  <a:pt x="841" y="327"/>
                </a:lnTo>
                <a:lnTo>
                  <a:pt x="848" y="335"/>
                </a:lnTo>
                <a:lnTo>
                  <a:pt x="855" y="335"/>
                </a:lnTo>
                <a:lnTo>
                  <a:pt x="863" y="342"/>
                </a:lnTo>
                <a:lnTo>
                  <a:pt x="870" y="342"/>
                </a:lnTo>
                <a:lnTo>
                  <a:pt x="878" y="342"/>
                </a:lnTo>
                <a:lnTo>
                  <a:pt x="885" y="350"/>
                </a:lnTo>
                <a:lnTo>
                  <a:pt x="892" y="350"/>
                </a:lnTo>
                <a:lnTo>
                  <a:pt x="900" y="350"/>
                </a:lnTo>
                <a:lnTo>
                  <a:pt x="907" y="358"/>
                </a:lnTo>
                <a:lnTo>
                  <a:pt x="914" y="358"/>
                </a:lnTo>
                <a:lnTo>
                  <a:pt x="922" y="366"/>
                </a:lnTo>
                <a:lnTo>
                  <a:pt x="929" y="366"/>
                </a:lnTo>
                <a:lnTo>
                  <a:pt x="937" y="366"/>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769160" y="4119480"/>
            <a:ext cx="525600" cy="271440"/>
          </a:xfrm>
          <a:custGeom>
            <a:avLst/>
            <a:gdLst/>
            <a:ahLst/>
            <a:rect l="l" t="t" r="r" b="b"/>
            <a:pathLst>
              <a:path w="331" h="171">
                <a:moveTo>
                  <a:pt x="0" y="0"/>
                </a:moveTo>
                <a:lnTo>
                  <a:pt x="7" y="7"/>
                </a:lnTo>
                <a:lnTo>
                  <a:pt x="14" y="7"/>
                </a:lnTo>
                <a:lnTo>
                  <a:pt x="22" y="15"/>
                </a:lnTo>
                <a:lnTo>
                  <a:pt x="29" y="15"/>
                </a:lnTo>
                <a:lnTo>
                  <a:pt x="36" y="23"/>
                </a:lnTo>
                <a:lnTo>
                  <a:pt x="44" y="23"/>
                </a:lnTo>
                <a:lnTo>
                  <a:pt x="51" y="31"/>
                </a:lnTo>
                <a:lnTo>
                  <a:pt x="59" y="31"/>
                </a:lnTo>
                <a:lnTo>
                  <a:pt x="66" y="39"/>
                </a:lnTo>
                <a:lnTo>
                  <a:pt x="73" y="39"/>
                </a:lnTo>
                <a:lnTo>
                  <a:pt x="81" y="46"/>
                </a:lnTo>
                <a:lnTo>
                  <a:pt x="88" y="46"/>
                </a:lnTo>
                <a:lnTo>
                  <a:pt x="95" y="46"/>
                </a:lnTo>
                <a:lnTo>
                  <a:pt x="103" y="54"/>
                </a:lnTo>
                <a:lnTo>
                  <a:pt x="110" y="54"/>
                </a:lnTo>
                <a:lnTo>
                  <a:pt x="117" y="62"/>
                </a:lnTo>
                <a:lnTo>
                  <a:pt x="125" y="62"/>
                </a:lnTo>
                <a:lnTo>
                  <a:pt x="132" y="62"/>
                </a:lnTo>
                <a:lnTo>
                  <a:pt x="140" y="70"/>
                </a:lnTo>
                <a:lnTo>
                  <a:pt x="147" y="70"/>
                </a:lnTo>
                <a:lnTo>
                  <a:pt x="154" y="77"/>
                </a:lnTo>
                <a:lnTo>
                  <a:pt x="162" y="77"/>
                </a:lnTo>
                <a:lnTo>
                  <a:pt x="169" y="85"/>
                </a:lnTo>
                <a:lnTo>
                  <a:pt x="176" y="85"/>
                </a:lnTo>
                <a:lnTo>
                  <a:pt x="184" y="93"/>
                </a:lnTo>
                <a:lnTo>
                  <a:pt x="191" y="93"/>
                </a:lnTo>
                <a:lnTo>
                  <a:pt x="199" y="101"/>
                </a:lnTo>
                <a:lnTo>
                  <a:pt x="206" y="101"/>
                </a:lnTo>
                <a:lnTo>
                  <a:pt x="213" y="109"/>
                </a:lnTo>
                <a:lnTo>
                  <a:pt x="221" y="109"/>
                </a:lnTo>
                <a:lnTo>
                  <a:pt x="228" y="116"/>
                </a:lnTo>
                <a:lnTo>
                  <a:pt x="235" y="116"/>
                </a:lnTo>
                <a:lnTo>
                  <a:pt x="243" y="124"/>
                </a:lnTo>
                <a:lnTo>
                  <a:pt x="250" y="124"/>
                </a:lnTo>
                <a:lnTo>
                  <a:pt x="258" y="124"/>
                </a:lnTo>
                <a:lnTo>
                  <a:pt x="265" y="132"/>
                </a:lnTo>
                <a:lnTo>
                  <a:pt x="272" y="140"/>
                </a:lnTo>
                <a:lnTo>
                  <a:pt x="280" y="140"/>
                </a:lnTo>
                <a:lnTo>
                  <a:pt x="287" y="147"/>
                </a:lnTo>
                <a:lnTo>
                  <a:pt x="294" y="147"/>
                </a:lnTo>
                <a:lnTo>
                  <a:pt x="302" y="155"/>
                </a:lnTo>
                <a:lnTo>
                  <a:pt x="309" y="163"/>
                </a:lnTo>
                <a:lnTo>
                  <a:pt x="317" y="171"/>
                </a:lnTo>
                <a:lnTo>
                  <a:pt x="324" y="171"/>
                </a:lnTo>
                <a:lnTo>
                  <a:pt x="331" y="171"/>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00600" y="6537240"/>
            <a:ext cx="1920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og10(multisample order r)</a:t>
            </a:r>
            <a:endParaRPr b="0" lang="en-US" sz="1300" spc="-1" strike="noStrike">
              <a:solidFill>
                <a:srgbClr val="000000"/>
              </a:solidFill>
              <a:latin typeface="Arial"/>
            </a:endParaRPr>
          </a:p>
        </p:txBody>
      </p:sp>
      <p:sp>
        <p:nvSpPr>
          <p:cNvPr id="256" name=""/>
          <p:cNvSpPr/>
          <p:nvPr/>
        </p:nvSpPr>
        <p:spPr>
          <a:xfrm rot="16200000">
            <a:off x="1648800" y="4053600"/>
            <a:ext cx="225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log10(varGr/r**2)/log10(varG1)</a:t>
            </a:r>
            <a:endParaRPr b="0" lang="en-US" sz="1300" spc="-1" strike="noStrike">
              <a:solidFill>
                <a:srgbClr val="000000"/>
              </a:solidFill>
              <a:latin typeface="Arial"/>
            </a:endParaRPr>
          </a:p>
        </p:txBody>
      </p:sp>
      <p:sp>
        <p:nvSpPr>
          <p:cNvPr id="257" name=""/>
          <p:cNvSpPr/>
          <p:nvPr/>
        </p:nvSpPr>
        <p:spPr>
          <a:xfrm>
            <a:off x="5715000" y="476100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58" name=""/>
          <p:cNvSpPr/>
          <p:nvPr/>
        </p:nvSpPr>
        <p:spPr>
          <a:xfrm>
            <a:off x="7164720" y="533412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M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457200"/>
            <a:ext cx="84582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 Network Traffic at campus level </a:t>
            </a:r>
            <a:r>
              <a:rPr b="0" lang="en-US" sz="2400" spc="-1" strike="noStrike">
                <a:solidFill>
                  <a:srgbClr val="000000"/>
                </a:solidFill>
                <a:latin typeface="Arial"/>
              </a:rPr>
              <a:t>(5)</a:t>
            </a:r>
            <a:br>
              <a:rPr sz="2400"/>
            </a:br>
            <a:r>
              <a:rPr b="1" lang="en-US" sz="3200" spc="-1" strike="noStrike">
                <a:solidFill>
                  <a:srgbClr val="000000"/>
                </a:solidFill>
                <a:latin typeface="Arial"/>
              </a:rPr>
              <a:t>Moving Autocovariance Functions</a:t>
            </a:r>
            <a:endParaRPr b="0" lang="en-US" sz="3200" spc="-1" strike="noStrike">
              <a:solidFill>
                <a:srgbClr val="000000"/>
              </a:solidFill>
              <a:latin typeface="Arial"/>
            </a:endParaRPr>
          </a:p>
        </p:txBody>
      </p:sp>
      <p:sp>
        <p:nvSpPr>
          <p:cNvPr id="260" name="PlaceHolder 2"/>
          <p:cNvSpPr>
            <a:spLocks noGrp="1"/>
          </p:cNvSpPr>
          <p:nvPr>
            <p:ph/>
          </p:nvPr>
        </p:nvSpPr>
        <p:spPr>
          <a:xfrm>
            <a:off x="151920" y="1980720"/>
            <a:ext cx="2514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Solid line: target; dots: chaos; HMM results are near coincident with target</a:t>
            </a:r>
            <a:r>
              <a:rPr b="0" lang="it-IT" sz="2800" spc="-1" strike="noStrike">
                <a:solidFill>
                  <a:srgbClr val="000000"/>
                </a:solidFill>
                <a:latin typeface="Arial"/>
              </a:rPr>
              <a:t> </a:t>
            </a:r>
            <a:endParaRPr b="0" lang="en-US" sz="2800" spc="-1" strike="noStrike">
              <a:solidFill>
                <a:srgbClr val="000000"/>
              </a:solidFill>
              <a:latin typeface="Arial"/>
            </a:endParaRPr>
          </a:p>
        </p:txBody>
      </p:sp>
      <p:pic>
        <p:nvPicPr>
          <p:cNvPr id="261" name="" descr=""/>
          <p:cNvPicPr/>
          <p:nvPr/>
        </p:nvPicPr>
        <p:blipFill>
          <a:blip r:embed="rId1"/>
          <a:stretch/>
        </p:blipFill>
        <p:spPr>
          <a:xfrm>
            <a:off x="2438280" y="1676520"/>
            <a:ext cx="655344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45720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w Internet Traffic</a:t>
            </a:r>
            <a:br>
              <a:rPr sz="4000"/>
            </a:br>
            <a:r>
              <a:rPr b="0" lang="en-US" sz="4000" spc="-1" strike="noStrike">
                <a:solidFill>
                  <a:srgbClr val="000000"/>
                </a:solidFill>
                <a:latin typeface="Arial"/>
              </a:rPr>
              <a:t> Long Sequences</a:t>
            </a:r>
            <a:r>
              <a:rPr b="0" lang="en-US" sz="2800" spc="-1" strike="noStrike">
                <a:solidFill>
                  <a:srgbClr val="000000"/>
                </a:solidFill>
                <a:latin typeface="Arial"/>
              </a:rPr>
              <a:t> </a:t>
            </a:r>
            <a:r>
              <a:rPr b="0" lang="en-US" sz="1800" spc="-1" strike="noStrike">
                <a:solidFill>
                  <a:srgbClr val="000000"/>
                </a:solidFill>
                <a:latin typeface="Arial"/>
              </a:rPr>
              <a:t>(1)</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263" name="PlaceHolder 2"/>
          <p:cNvSpPr>
            <a:spLocks noGrp="1"/>
          </p:cNvSpPr>
          <p:nvPr>
            <p:ph/>
          </p:nvPr>
        </p:nvSpPr>
        <p:spPr>
          <a:xfrm>
            <a:off x="380880" y="1752120"/>
            <a:ext cx="8305920" cy="4876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rther comparison is made in [10] for long sequences (500,000 samples for target and HMM, 50.000 samples for chaos) for packet sizes and interarrival limes at aggregate level and for www traffi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is made between results obtained using square functions or exponential functions as dynamic range expanding functions in the trajectory sample weighted sum.  The number of attractors is also investigated: it seem that 5 or 7 Lorenz attractors lead to similar results.  Duffing’s attractors somewhat wor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MM numbers of states and alphabet dimensions are discussed: good results with 4-10 states and 50 symbo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 Internet Traffic</a:t>
            </a:r>
            <a:br>
              <a:rPr sz="4000"/>
            </a:br>
            <a:r>
              <a:rPr b="0" lang="en-US" sz="4000" spc="-1" strike="noStrike">
                <a:solidFill>
                  <a:srgbClr val="000000"/>
                </a:solidFill>
                <a:latin typeface="Arial"/>
              </a:rPr>
              <a:t>Long Sequences</a:t>
            </a:r>
            <a:r>
              <a:rPr b="0" lang="en-US" sz="2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65" name="PlaceHolder 2"/>
          <p:cNvSpPr>
            <a:spLocks noGrp="1"/>
          </p:cNvSpPr>
          <p:nvPr>
            <p:ph/>
          </p:nvPr>
        </p:nvSpPr>
        <p:spPr>
          <a:xfrm>
            <a:off x="-360" y="1980720"/>
            <a:ext cx="304812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acket siz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ggregate le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xponentials better than square func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aos better than HMM for K(r) and T-V plots</a:t>
            </a:r>
            <a:endParaRPr b="0" lang="en-US" sz="2800" spc="-1" strike="noStrike">
              <a:solidFill>
                <a:srgbClr val="000000"/>
              </a:solidFill>
              <a:latin typeface="Arial"/>
            </a:endParaRPr>
          </a:p>
        </p:txBody>
      </p:sp>
      <p:pic>
        <p:nvPicPr>
          <p:cNvPr id="266" name="" descr=""/>
          <p:cNvPicPr/>
          <p:nvPr/>
        </p:nvPicPr>
        <p:blipFill>
          <a:blip r:embed="rId1"/>
          <a:stretch/>
        </p:blipFill>
        <p:spPr>
          <a:xfrm>
            <a:off x="2743200" y="1752480"/>
            <a:ext cx="6248520" cy="4724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45720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W Internet Traffic</a:t>
            </a:r>
            <a:br>
              <a:rPr sz="4000"/>
            </a:br>
            <a:r>
              <a:rPr b="0" lang="en-US" sz="4000" spc="-1" strike="noStrike">
                <a:solidFill>
                  <a:srgbClr val="000000"/>
                </a:solidFill>
                <a:latin typeface="Arial"/>
              </a:rPr>
              <a:t>Long Sequences</a:t>
            </a:r>
            <a:r>
              <a:rPr b="0" lang="en-US" sz="2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268" name="PlaceHolder 2"/>
          <p:cNvSpPr>
            <a:spLocks noGrp="1"/>
          </p:cNvSpPr>
          <p:nvPr>
            <p:ph/>
          </p:nvPr>
        </p:nvSpPr>
        <p:spPr>
          <a:xfrm>
            <a:off x="457200" y="1980720"/>
            <a:ext cx="2362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acket siz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ggregate le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xponentials better than square func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os better than HMM for K(r) and T-V plo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9" name="" descr=""/>
          <p:cNvPicPr/>
          <p:nvPr/>
        </p:nvPicPr>
        <p:blipFill>
          <a:blip r:embed="rId1"/>
          <a:stretch/>
        </p:blipFill>
        <p:spPr>
          <a:xfrm>
            <a:off x="3200400" y="1676520"/>
            <a:ext cx="579132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45720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W Internet Traffic</a:t>
            </a:r>
            <a:br>
              <a:rPr sz="4000"/>
            </a:br>
            <a:r>
              <a:rPr b="0" lang="en-US" sz="4000" spc="-1" strike="noStrike">
                <a:solidFill>
                  <a:srgbClr val="000000"/>
                </a:solidFill>
                <a:latin typeface="Arial"/>
              </a:rPr>
              <a:t>Long Sequences</a:t>
            </a:r>
            <a:r>
              <a:rPr b="0" lang="en-US" sz="2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271" name="PlaceHolder 2"/>
          <p:cNvSpPr>
            <a:spLocks noGrp="1"/>
          </p:cNvSpPr>
          <p:nvPr>
            <p:ph/>
          </p:nvPr>
        </p:nvSpPr>
        <p:spPr>
          <a:xfrm>
            <a:off x="151920" y="1980720"/>
            <a:ext cx="2590920" cy="38862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rarrival time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ggregate lev.</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gain exponentials better than square function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aos better than HMM for K(r) and T-V plot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2" name="" descr=""/>
          <p:cNvPicPr/>
          <p:nvPr/>
        </p:nvPicPr>
        <p:blipFill>
          <a:blip r:embed="rId1"/>
          <a:stretch/>
        </p:blipFill>
        <p:spPr>
          <a:xfrm>
            <a:off x="2895480" y="1752480"/>
            <a:ext cx="6096240" cy="4724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W Internet Traffic</a:t>
            </a:r>
            <a:br>
              <a:rPr sz="4000"/>
            </a:br>
            <a:r>
              <a:rPr b="0" lang="en-US" sz="4000" spc="-1" strike="noStrike">
                <a:solidFill>
                  <a:srgbClr val="000000"/>
                </a:solidFill>
                <a:latin typeface="Arial"/>
              </a:rPr>
              <a:t>Long Sequences</a:t>
            </a:r>
            <a:r>
              <a:rPr b="0" lang="en-US" sz="2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274" name="PlaceHolder 2"/>
          <p:cNvSpPr>
            <a:spLocks noGrp="1"/>
          </p:cNvSpPr>
          <p:nvPr>
            <p:ph/>
          </p:nvPr>
        </p:nvSpPr>
        <p:spPr>
          <a:xfrm>
            <a:off x="152280" y="2209320"/>
            <a:ext cx="23623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WWW traff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aos better than HMM for K(r) and T-V plo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
          <p:cNvSpPr/>
          <p:nvPr/>
        </p:nvSpPr>
        <p:spPr>
          <a:xfrm>
            <a:off x="325764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76" name="" descr=""/>
          <p:cNvPicPr/>
          <p:nvPr/>
        </p:nvPicPr>
        <p:blipFill>
          <a:blip r:embed="rId1"/>
          <a:stretch/>
        </p:blipFill>
        <p:spPr>
          <a:xfrm>
            <a:off x="2362320" y="1828800"/>
            <a:ext cx="6476760" cy="4876920"/>
          </a:xfrm>
          <a:prstGeom prst="rect">
            <a:avLst/>
          </a:prstGeom>
          <a:ln w="0">
            <a:noFill/>
          </a:ln>
        </p:spPr>
      </p:pic>
      <p:sp>
        <p:nvSpPr>
          <p:cNvPr id="277" name=""/>
          <p:cNvSpPr/>
          <p:nvPr/>
        </p:nvSpPr>
        <p:spPr>
          <a:xfrm>
            <a:off x="5929200" y="2550960"/>
            <a:ext cx="159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os, exps</a:t>
            </a:r>
            <a:r>
              <a:rPr b="0" lang="it-IT" sz="1800" spc="-1" strike="noStrike">
                <a:solidFill>
                  <a:srgbClr val="000000"/>
                </a:solidFill>
                <a:latin typeface="Arial"/>
              </a:rPr>
              <a:t>.</a:t>
            </a:r>
            <a:endParaRPr b="0" lang="en-US" sz="1800" spc="-1" strike="noStrike">
              <a:solidFill>
                <a:srgbClr val="000000"/>
              </a:solidFill>
              <a:latin typeface="Arial"/>
            </a:endParaRPr>
          </a:p>
        </p:txBody>
      </p:sp>
      <p:sp>
        <p:nvSpPr>
          <p:cNvPr id="278" name=""/>
          <p:cNvSpPr/>
          <p:nvPr/>
        </p:nvSpPr>
        <p:spPr>
          <a:xfrm>
            <a:off x="6936480" y="327672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279" name=""/>
          <p:cNvSpPr/>
          <p:nvPr/>
        </p:nvSpPr>
        <p:spPr>
          <a:xfrm>
            <a:off x="6996240" y="415116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M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457200"/>
            <a:ext cx="8534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gregate and WWW Internet Traffic</a:t>
            </a:r>
            <a:br>
              <a:rPr sz="4000"/>
            </a:br>
            <a:r>
              <a:rPr b="0" lang="en-US" sz="4000" spc="-1" strike="noStrike">
                <a:solidFill>
                  <a:srgbClr val="000000"/>
                </a:solidFill>
                <a:latin typeface="Arial"/>
              </a:rPr>
              <a:t>Long Sequences</a:t>
            </a:r>
            <a:r>
              <a:rPr b="0" lang="en-US" sz="2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281" name="PlaceHolder 2"/>
          <p:cNvSpPr>
            <a:spLocks noGrp="1"/>
          </p:cNvSpPr>
          <p:nvPr>
            <p:ph/>
          </p:nvPr>
        </p:nvSpPr>
        <p:spPr>
          <a:xfrm>
            <a:off x="152280" y="1980720"/>
            <a:ext cx="27432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WWW traff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umulative distribution func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l curve very satisfactory</a:t>
            </a:r>
            <a:endParaRPr b="0" lang="en-US" sz="3200" spc="-1" strike="noStrike">
              <a:solidFill>
                <a:srgbClr val="000000"/>
              </a:solidFill>
              <a:latin typeface="Arial"/>
            </a:endParaRPr>
          </a:p>
        </p:txBody>
      </p:sp>
      <p:sp>
        <p:nvSpPr>
          <p:cNvPr id="282" name=""/>
          <p:cNvSpPr/>
          <p:nvPr/>
        </p:nvSpPr>
        <p:spPr>
          <a:xfrm>
            <a:off x="3176640" y="23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2819520" y="1828800"/>
            <a:ext cx="5662440" cy="480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in Progress </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2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onclusion for the momen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and second order features of chaotic models seem to be well controlled, but the likelyhood functions involved in HMM seem to be able to capture the target behavior a little better when observing results at network lev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ly LRD behaviors are still not investigated.</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in Progress </a:t>
            </a: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287" name="PlaceHolder 2"/>
          <p:cNvSpPr>
            <a:spLocks noGrp="1"/>
          </p:cNvSpPr>
          <p:nvPr>
            <p:ph/>
          </p:nvPr>
        </p:nvSpPr>
        <p:spPr>
          <a:xfrm>
            <a:off x="457200" y="1980720"/>
            <a:ext cx="82296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arallel study of the error gap process we try to investigate LRD features implementing ARQ or similar transmission protocols, to force network behaviors depending on them.  Observing burst of bursts would be very useful, but to provide experimental traces is difficul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raffic, we try to learn the limits of time variation coefficient and time variance plot descriptions from experiments with long sequences. Perhaps, higher statistical moments are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otic Models Background</a:t>
            </a:r>
            <a:r>
              <a:rPr b="0" lang="it-IT" sz="4400" spc="-1" strike="noStrike">
                <a:solidFill>
                  <a:srgbClr val="000000"/>
                </a:solidFill>
                <a:latin typeface="Arial"/>
              </a:rPr>
              <a:t> </a:t>
            </a:r>
            <a:r>
              <a:rPr b="0" lang="it-IT" sz="2400" spc="-1" strike="noStrike">
                <a:solidFill>
                  <a:srgbClr val="000000"/>
                </a:solidFill>
                <a:latin typeface="Arial"/>
              </a:rPr>
              <a:t>(1)</a:t>
            </a:r>
            <a:endParaRPr b="0" lang="en-US" sz="2400" spc="-1" strike="noStrike">
              <a:solidFill>
                <a:srgbClr val="000000"/>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ed sums of vector point coordinates u</a:t>
            </a:r>
            <a:r>
              <a:rPr b="0" lang="en-US" sz="2800" spc="-1" strike="noStrike" baseline="-25000">
                <a:solidFill>
                  <a:srgbClr val="000000"/>
                </a:solidFill>
                <a:latin typeface="Arial"/>
              </a:rPr>
              <a:t>i</a:t>
            </a:r>
            <a:r>
              <a:rPr b="0" lang="en-US" sz="2800" spc="-1" strike="noStrike">
                <a:solidFill>
                  <a:srgbClr val="000000"/>
                </a:solidFill>
                <a:latin typeface="Arial"/>
              </a:rPr>
              <a:t> have been found suitable to control both short and long term statistics with suitable degrees of freedo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t>
            </a:r>
            <a:r>
              <a:rPr b="0" lang="en-US" sz="2800" spc="-1" strike="noStrike">
                <a:solidFill>
                  <a:srgbClr val="000000"/>
                </a:solidFill>
                <a:latin typeface="Arial"/>
                <a:ea typeface="Times New Roman"/>
              </a:rPr>
              <a:t>F[ f </a:t>
            </a:r>
            <a:r>
              <a:rPr b="0" lang="en-US" sz="2800" spc="-1" strike="noStrike">
                <a:solidFill>
                  <a:srgbClr val="000000"/>
                </a:solidFill>
                <a:latin typeface="Symbol"/>
                <a:ea typeface="Symbol"/>
              </a:rPr>
              <a:t></a:t>
            </a:r>
            <a:r>
              <a:rPr b="0" lang="en-US" sz="2800" spc="-1" strike="noStrike" baseline="-30000">
                <a:solidFill>
                  <a:srgbClr val="000000"/>
                </a:solidFill>
                <a:latin typeface="Arial"/>
                <a:ea typeface="Times New Roman"/>
              </a:rPr>
              <a:t>i</a:t>
            </a:r>
            <a:r>
              <a:rPr b="0" lang="en-US" sz="2800" spc="-1" strike="noStrike">
                <a:solidFill>
                  <a:srgbClr val="000000"/>
                </a:solidFill>
                <a:latin typeface="Arial"/>
                <a:ea typeface="Times New Roman"/>
              </a:rPr>
              <a:t> (k</a:t>
            </a:r>
            <a:r>
              <a:rPr b="0" lang="en-US" sz="2800" spc="-1" strike="noStrike" baseline="-30000">
                <a:solidFill>
                  <a:srgbClr val="000000"/>
                </a:solidFill>
                <a:latin typeface="Arial"/>
                <a:ea typeface="Times New Roman"/>
              </a:rPr>
              <a:t>i</a:t>
            </a:r>
            <a:r>
              <a:rPr b="0" lang="en-US" sz="2800" spc="-1" strike="noStrike">
                <a:solidFill>
                  <a:srgbClr val="000000"/>
                </a:solidFill>
                <a:latin typeface="Arial"/>
                <a:ea typeface="Times New Roman"/>
              </a:rPr>
              <a:t>u</a:t>
            </a:r>
            <a:r>
              <a:rPr b="0" lang="en-US" sz="2800" spc="-1" strike="noStrike" baseline="-30000">
                <a:solidFill>
                  <a:srgbClr val="000000"/>
                </a:solidFill>
                <a:latin typeface="Arial"/>
                <a:ea typeface="Times New Roman"/>
              </a:rPr>
              <a:t>i</a:t>
            </a:r>
            <a:r>
              <a:rPr b="0" lang="en-US" sz="2800" spc="-1" strike="noStrike">
                <a:solidFill>
                  <a:srgbClr val="000000"/>
                </a:solidFill>
                <a:latin typeface="Arial"/>
                <a:ea typeface="Times New Roman"/>
              </a:rPr>
              <a:t>)] , were f(</a:t>
            </a:r>
            <a:r>
              <a:rPr b="0" lang="en-US" sz="2800" spc="-1" strike="noStrike">
                <a:solidFill>
                  <a:srgbClr val="000000"/>
                </a:solidFill>
                <a:latin typeface="Arial"/>
                <a:ea typeface="Tahoma"/>
              </a:rPr>
              <a:t>•</a:t>
            </a:r>
            <a:r>
              <a:rPr b="0" lang="en-US" sz="2800" spc="-1" strike="noStrike">
                <a:solidFill>
                  <a:srgbClr val="000000"/>
                </a:solidFill>
                <a:latin typeface="Arial"/>
                <a:ea typeface="Times New Roman"/>
              </a:rPr>
              <a:t>) is a suitable polynomial or exponential function and F(</a:t>
            </a:r>
            <a:r>
              <a:rPr b="0" lang="en-US" sz="2800" spc="-1" strike="noStrike">
                <a:solidFill>
                  <a:srgbClr val="000000"/>
                </a:solidFill>
                <a:latin typeface="Arial"/>
                <a:ea typeface="Tahoma"/>
              </a:rPr>
              <a:t>•</a:t>
            </a:r>
            <a:r>
              <a:rPr b="0" lang="en-US" sz="2800" spc="-1" strike="noStrike">
                <a:solidFill>
                  <a:srgbClr val="000000"/>
                </a:solidFill>
                <a:latin typeface="Arial"/>
                <a:ea typeface="Times New Roman"/>
              </a:rPr>
              <a:t>) is a function shaping first order statistics, and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the weights k</a:t>
            </a:r>
            <a:r>
              <a:rPr b="0" lang="en-US" sz="2800" spc="-1" strike="noStrike" baseline="-25000">
                <a:solidFill>
                  <a:srgbClr val="000000"/>
                </a:solidFill>
                <a:latin typeface="Arial"/>
              </a:rPr>
              <a:t>i</a:t>
            </a:r>
            <a:r>
              <a:rPr b="0" lang="en-US" sz="2800" spc="-1" strike="noStrike">
                <a:solidFill>
                  <a:srgbClr val="000000"/>
                </a:solidFill>
                <a:latin typeface="Arial"/>
              </a:rPr>
              <a:t> and the sampling times</a:t>
            </a:r>
            <a:r>
              <a:rPr b="0" lang="it-IT"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in Progress </a:t>
            </a: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289" name="PlaceHolder 2"/>
          <p:cNvSpPr>
            <a:spLocks noGrp="1"/>
          </p:cNvSpPr>
          <p:nvPr>
            <p:ph/>
          </p:nvPr>
        </p:nvSpPr>
        <p:spPr>
          <a:xfrm>
            <a:off x="-360" y="1600200"/>
            <a:ext cx="89917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both gap and traffic processes, we start to study time-frequency characterization of the traces: we observe for the moment time-frequency plot full of feature for target and chaos sequences, and bare structures for Hmm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xpect some insight on links among HMM-Baum-Welch likelihood and other statistical features from considering Markov chains embedding chaotic dynamics, following for instance [11], but we are here at the very starting poin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 presented by Pisa and Milano units suggest joint development of some issues. </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Key References</a:t>
            </a:r>
            <a:endParaRPr b="0" lang="en-US" sz="4400" spc="-1" strike="noStrike">
              <a:solidFill>
                <a:srgbClr val="000000"/>
              </a:solidFill>
              <a:latin typeface="Arial"/>
            </a:endParaRPr>
          </a:p>
        </p:txBody>
      </p:sp>
      <p:sp>
        <p:nvSpPr>
          <p:cNvPr id="291" name="PlaceHolder 2"/>
          <p:cNvSpPr>
            <a:spLocks noGrp="1"/>
          </p:cNvSpPr>
          <p:nvPr>
            <p:ph/>
          </p:nvPr>
        </p:nvSpPr>
        <p:spPr>
          <a:xfrm>
            <a:off x="457200" y="1828800"/>
            <a:ext cx="8229600" cy="5029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1]</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W. Willinger, M.S.Taqqu, R.Sherman, and D.V. Wilson, “Self-Similarity through High-Variability: Statistical Analysis of Ethernet LAN Traffic at Source Level,” (Extended Version), IEEE/ACM Transactions on Networking Vol. 5, N. 1, pp.1-16, February 1997.</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2]</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K. Park, and W. Willinger, eds., </a:t>
            </a:r>
            <a:r>
              <a:rPr b="0" i="1" lang="it-IT" sz="1800" spc="-1" strike="noStrike">
                <a:solidFill>
                  <a:srgbClr val="000000"/>
                </a:solidFill>
                <a:latin typeface="Arial"/>
                <a:ea typeface="Times New Roman"/>
              </a:rPr>
              <a:t>Self-similar network traffic and performance evaluation.</a:t>
            </a:r>
            <a:r>
              <a:rPr b="0" lang="it-IT" sz="1800" spc="-1" strike="noStrike">
                <a:solidFill>
                  <a:srgbClr val="000000"/>
                </a:solidFill>
                <a:latin typeface="Arial"/>
                <a:ea typeface="Times New Roman"/>
              </a:rPr>
              <a:t> J. Wiley and Sons, 2000.</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3]</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E. Costamagna, L. Favalli, and P. Gamba, “Multipath Channel Modeling With Chaotic Attractors,” </a:t>
            </a:r>
            <a:r>
              <a:rPr b="0" i="1" lang="it-IT" sz="1800" spc="-1" strike="noStrike">
                <a:solidFill>
                  <a:srgbClr val="000000"/>
                </a:solidFill>
                <a:latin typeface="Arial"/>
                <a:ea typeface="Times New Roman"/>
              </a:rPr>
              <a:t>Proc. IEEE</a:t>
            </a:r>
            <a:r>
              <a:rPr b="0" lang="it-IT" sz="1800" spc="-1" strike="noStrike">
                <a:solidFill>
                  <a:srgbClr val="000000"/>
                </a:solidFill>
                <a:latin typeface="Arial"/>
                <a:ea typeface="Times New Roman"/>
              </a:rPr>
              <a:t>, Vol. 90 pp 842-859, May 2002.</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4]</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N. Kanal and A.R.K. Sastry, “Models for  channels with memory and their application to error control,” </a:t>
            </a:r>
            <a:r>
              <a:rPr b="0" i="1" lang="it-IT" sz="1800" spc="-1" strike="noStrike">
                <a:solidFill>
                  <a:srgbClr val="000000"/>
                </a:solidFill>
                <a:latin typeface="Arial"/>
                <a:ea typeface="Times New Roman"/>
              </a:rPr>
              <a:t>Proc. IEEE</a:t>
            </a:r>
            <a:r>
              <a:rPr b="0" lang="it-IT" sz="1800" spc="-1" strike="noStrike">
                <a:solidFill>
                  <a:srgbClr val="000000"/>
                </a:solidFill>
                <a:latin typeface="Arial"/>
                <a:ea typeface="Times New Roman"/>
              </a:rPr>
              <a:t>, vol. 66, pp. 724-744, July 1978.</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 Costamagna, L. Favalli, P. Gamba, and G. Iacovoni, </a:t>
            </a:r>
            <a:r>
              <a:rPr b="0" lang="en-US" sz="1800" spc="-1" strike="noStrike">
                <a:solidFill>
                  <a:srgbClr val="000000"/>
                </a:solidFill>
                <a:latin typeface="Arial"/>
                <a:ea typeface="Times New Roman"/>
              </a:rPr>
              <a:t>“A simple model for VBR video traffic based on chaotic maps: validation trough evaluation of ATM multiplexers QoS parameters,</a:t>
            </a:r>
            <a:r>
              <a:rPr b="0" lang="en-US" sz="1800" spc="-1" strike="noStrike">
                <a:solidFill>
                  <a:srgbClr val="000000"/>
                </a:solidFill>
                <a:latin typeface="Arial"/>
                <a:ea typeface="Times New Roman"/>
              </a:rPr>
              <a:t>” </a:t>
            </a:r>
            <a:r>
              <a:rPr b="0" i="1" lang="en-US" sz="1800" spc="-1" strike="noStrike">
                <a:solidFill>
                  <a:srgbClr val="000000"/>
                </a:solidFill>
                <a:latin typeface="Arial"/>
                <a:ea typeface="Times New Roman"/>
              </a:rPr>
              <a:t>ICC'98, 1998 IEEE International Conference on Communications</a:t>
            </a:r>
            <a:r>
              <a:rPr b="0" lang="en-US" sz="1800" spc="-1" strike="noStrike">
                <a:solidFill>
                  <a:srgbClr val="000000"/>
                </a:solidFill>
                <a:latin typeface="Arial"/>
                <a:ea typeface="Times New Roman"/>
              </a:rPr>
              <a:t>, 7-11 June 1998, Atlanta, Georgia, volume 1, pp. 568-572.</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Key References </a:t>
            </a:r>
            <a:r>
              <a:rPr b="0" lang="it-IT" sz="2400" spc="-1" strike="noStrike">
                <a:solidFill>
                  <a:srgbClr val="000000"/>
                </a:solidFill>
                <a:latin typeface="Arial"/>
              </a:rPr>
              <a:t>(cnd)</a:t>
            </a:r>
            <a:endParaRPr b="0" lang="en-US" sz="2400" spc="-1" strike="noStrike">
              <a:solidFill>
                <a:srgbClr val="000000"/>
              </a:solidFill>
              <a:latin typeface="Arial"/>
            </a:endParaRPr>
          </a:p>
        </p:txBody>
      </p:sp>
      <p:sp>
        <p:nvSpPr>
          <p:cNvPr id="293" name="PlaceHolder 2"/>
          <p:cNvSpPr>
            <a:spLocks noGrp="1"/>
          </p:cNvSpPr>
          <p:nvPr>
            <p:ph/>
          </p:nvPr>
        </p:nvSpPr>
        <p:spPr>
          <a:xfrm>
            <a:off x="533160" y="1523880"/>
            <a:ext cx="8458200" cy="51055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 Costamagna, L. Favalli, P. Gamba, and G. Iacovoni, “The impact of the    Hurst parameter on queuing performances using chaotic sequences,” in G. De Marchis and R. Sabella, Eds., </a:t>
            </a:r>
            <a:r>
              <a:rPr b="0" i="1" lang="en-US" sz="1800" spc="-1" strike="noStrike">
                <a:solidFill>
                  <a:srgbClr val="000000"/>
                </a:solidFill>
                <a:latin typeface="Arial"/>
                <a:ea typeface="Times New Roman"/>
              </a:rPr>
              <a:t>Optical Networks: Design and Modelling</a:t>
            </a:r>
            <a:r>
              <a:rPr b="0" lang="en-US" sz="1800" spc="-1" strike="noStrike">
                <a:solidFill>
                  <a:srgbClr val="000000"/>
                </a:solidFill>
                <a:latin typeface="Arial"/>
                <a:ea typeface="Times New Roman"/>
              </a:rPr>
              <a:t>, Kluwer Academic Publishers, 1999, pp. 131-138.</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 Costamagna, L. Favalli, and F. Tarantola, “Video traffic modeling in IP networks with hidden Markov models and chaotic attractors,” </a:t>
            </a:r>
            <a:r>
              <a:rPr b="0" i="1" lang="en-US" sz="1800" spc="-1" strike="noStrike">
                <a:solidFill>
                  <a:srgbClr val="000000"/>
                </a:solidFill>
                <a:latin typeface="Arial"/>
                <a:ea typeface="Times New Roman"/>
              </a:rPr>
              <a:t>Proc. of</a:t>
            </a:r>
            <a:r>
              <a:rPr b="0" lang="en-US" sz="1800" spc="-1" strike="noStrike">
                <a:solidFill>
                  <a:srgbClr val="000000"/>
                </a:solidFill>
                <a:latin typeface="Arial"/>
                <a:ea typeface="Times New Roman"/>
              </a:rPr>
              <a:t> the</a:t>
            </a:r>
            <a:r>
              <a:rPr b="0" i="1" lang="en-US" sz="1800" spc="-1" strike="noStrike">
                <a:solidFill>
                  <a:srgbClr val="000000"/>
                </a:solidFill>
                <a:latin typeface="Arial"/>
                <a:ea typeface="Times New Roman"/>
              </a:rPr>
              <a:t>12</a:t>
            </a:r>
            <a:r>
              <a:rPr b="0" i="1" lang="en-US" sz="1800" spc="-1" strike="noStrike" baseline="30000">
                <a:solidFill>
                  <a:srgbClr val="000000"/>
                </a:solidFill>
                <a:latin typeface="Arial"/>
                <a:ea typeface="Times New Roman"/>
              </a:rPr>
              <a:t>th</a:t>
            </a:r>
            <a:r>
              <a:rPr b="0" i="1" lang="en-US" sz="1800" spc="-1" strike="noStrike">
                <a:solidFill>
                  <a:srgbClr val="000000"/>
                </a:solidFill>
                <a:latin typeface="Arial"/>
                <a:ea typeface="Times New Roman"/>
              </a:rPr>
              <a:t> international Packetvideo Workshop</a:t>
            </a:r>
            <a:r>
              <a:rPr b="0" lang="en-US" sz="1800" spc="-1" strike="noStrike">
                <a:solidFill>
                  <a:srgbClr val="000000"/>
                </a:solidFill>
                <a:latin typeface="Arial"/>
                <a:ea typeface="Times New Roman"/>
              </a:rPr>
              <a:t>, April 24-26, 2002, Pittsburg, PA.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8]</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E. Costamagna, L. Favalli, and F. Tarantola: “Chaos equation and hidden Markov models for packet video traffic simulation”. In E. Del Re, Ed., </a:t>
            </a:r>
            <a:r>
              <a:rPr b="0" i="1" lang="it-IT" sz="1800" spc="-1" strike="noStrike">
                <a:solidFill>
                  <a:srgbClr val="000000"/>
                </a:solidFill>
                <a:latin typeface="Arial"/>
                <a:ea typeface="Times New Roman"/>
              </a:rPr>
              <a:t>EMPS 2002, Proc. of the Fifth European Workshop on Mobile/Personal Satcoms</a:t>
            </a:r>
            <a:r>
              <a:rPr b="0" lang="it-IT" sz="1800" spc="-1" strike="noStrike">
                <a:solidFill>
                  <a:srgbClr val="000000"/>
                </a:solidFill>
                <a:latin typeface="Arial"/>
                <a:ea typeface="Times New Roman"/>
              </a:rPr>
              <a:t>, pp.97-104.</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9]</a:t>
            </a: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E. Costamagna, L. Favalli, and F. Tarantola: “Characterization and modeling of campus.level IP network traffic,” to be presented at ICME, Baltimora, July 6-9, 2003.</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10]E. Costamagna, L. Favalli, and F. Tarantola: “Modeling and analysis of aggregate and www internet traffic,” to be presented at Globecom 2003, San Francisco, Dec. 1-5, 2003.</a:t>
            </a:r>
            <a:endParaRPr b="0" lang="en-US" sz="18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11]T. Kohda: “Information sources using chaotic dynamics,” </a:t>
            </a:r>
            <a:r>
              <a:rPr b="1" i="1" lang="it-IT" sz="1600" spc="-1" strike="noStrike">
                <a:solidFill>
                  <a:srgbClr val="000000"/>
                </a:solidFill>
                <a:latin typeface="Arial"/>
                <a:ea typeface="Times New Roman"/>
              </a:rPr>
              <a:t>Proc. IEEE</a:t>
            </a:r>
            <a:r>
              <a:rPr b="1" lang="it-IT" sz="1600" spc="-1" strike="noStrike">
                <a:solidFill>
                  <a:srgbClr val="000000"/>
                </a:solidFill>
                <a:latin typeface="Arial"/>
                <a:ea typeface="Times New Roman"/>
              </a:rPr>
              <a:t>, Vol. 90 pp 641-661, May 2002.</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otic Models Background</a:t>
            </a:r>
            <a:r>
              <a:rPr b="0" lang="it-IT" sz="4400" spc="-1" strike="noStrike">
                <a:solidFill>
                  <a:srgbClr val="000000"/>
                </a:solidFill>
                <a:latin typeface="Arial"/>
              </a:rPr>
              <a:t> </a:t>
            </a:r>
            <a:r>
              <a:rPr b="0" lang="it-IT" sz="2400" spc="-1" strike="noStrike">
                <a:solidFill>
                  <a:srgbClr val="000000"/>
                </a:solidFill>
                <a:latin typeface="Arial"/>
              </a:rPr>
              <a:t>(2)</a:t>
            </a:r>
            <a:endParaRPr b="0" lang="en-US" sz="2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ment and shaping are performed at any step of a suitable optimization procedur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der and Mead simplex and Tabu Search procedures have been found effectiv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function have to be tailored to the actual problem. For the error gap process we introduced statistics of well recognized significance.   For traffic processes useful statistics are not so recogniz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Gap Series</a:t>
            </a:r>
            <a:r>
              <a:rPr b="0" lang="it-IT" sz="4400" spc="-1" strike="noStrike">
                <a:solidFill>
                  <a:srgbClr val="000000"/>
                </a:solidFill>
                <a:latin typeface="Arial"/>
              </a:rPr>
              <a:t> </a:t>
            </a:r>
            <a:r>
              <a:rPr b="0" lang="it-IT" sz="2400" spc="-1" strike="noStrike">
                <a:solidFill>
                  <a:srgbClr val="000000"/>
                </a:solidFill>
                <a:latin typeface="Arial"/>
              </a:rPr>
              <a:t>(1)</a:t>
            </a:r>
            <a:endParaRPr b="0" lang="en-US" sz="2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order statistics: no problem</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term behavior: correlation, error bur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similarity: bursts of burs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nge attractors show attractive features of long term correlation, yet  periodicity is avoided: this was the basic idea we used</a:t>
            </a:r>
            <a:r>
              <a:rPr b="0" lang="it-IT" sz="2800" spc="-1" strike="noStrike">
                <a:solidFill>
                  <a:srgbClr val="000000"/>
                </a:solidFill>
                <a:latin typeface="Arial"/>
              </a:rPr>
              <a:t>,</a:t>
            </a:r>
            <a:r>
              <a:rPr b="0" lang="en-US" sz="2800" spc="-1" strike="noStrike">
                <a:solidFill>
                  <a:srgbClr val="000000"/>
                </a:solidFill>
                <a:latin typeface="Arial"/>
              </a:rPr>
              <a:t> without </a:t>
            </a:r>
            <a:r>
              <a:rPr b="0" lang="it-IT" sz="2800" spc="-1" strike="noStrike">
                <a:solidFill>
                  <a:srgbClr val="000000"/>
                </a:solidFill>
                <a:latin typeface="Arial"/>
              </a:rPr>
              <a:t>introducing </a:t>
            </a:r>
            <a:r>
              <a:rPr b="0" lang="en-US" sz="2800" spc="-1" strike="noStrike">
                <a:solidFill>
                  <a:srgbClr val="000000"/>
                </a:solidFill>
                <a:latin typeface="Arial"/>
              </a:rPr>
              <a:t>any random noise</a:t>
            </a:r>
            <a:r>
              <a:rPr b="0" lang="it-IT" sz="2800" spc="-1" strike="noStrike">
                <a:solidFill>
                  <a:srgbClr val="000000"/>
                </a:solidFill>
                <a:latin typeface="Arial"/>
              </a:rPr>
              <a:t> contribu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Gap Series</a:t>
            </a:r>
            <a:r>
              <a:rPr b="0" lang="it-IT" sz="4400" spc="-1" strike="noStrike">
                <a:solidFill>
                  <a:srgbClr val="000000"/>
                </a:solidFill>
                <a:latin typeface="Arial"/>
              </a:rPr>
              <a:t> </a:t>
            </a:r>
            <a:r>
              <a:rPr b="0" lang="it-IT" sz="2400" spc="-1" strike="noStrike">
                <a:solidFill>
                  <a:srgbClr val="000000"/>
                </a:solidFill>
                <a:latin typeface="Arial"/>
              </a:rPr>
              <a:t>(2)</a:t>
            </a:r>
            <a:endParaRPr b="0" lang="en-US" sz="2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Features (e.g.: Kanal &amp; Sastry [4]):</a:t>
            </a:r>
            <a:endParaRPr b="0" lang="en-US" sz="2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pdf, i.e., Error Gap distribution (EGD) or Error Free Run (EFR) distribu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ck Error probabilities P(m,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on and moving correlation func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tion Coefficients, defined for the multigaps of order r obtained summing up r consecutive gaps and accounting for renewal/non renewal behavi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K(r) = Var(G </a:t>
            </a:r>
            <a:r>
              <a:rPr b="0" i="1" lang="en-US" sz="2400" spc="-1" strike="noStrike" baseline="30000">
                <a:solidFill>
                  <a:srgbClr val="000000"/>
                </a:solidFill>
                <a:latin typeface="Arial"/>
                <a:ea typeface="Times New Roman"/>
              </a:rPr>
              <a:t>r</a:t>
            </a:r>
            <a:r>
              <a:rPr b="0" i="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C</a:t>
            </a:r>
            <a:r>
              <a:rPr b="0" i="1" lang="en-US" sz="2400" spc="-1" strike="noStrike">
                <a:solidFill>
                  <a:srgbClr val="000000"/>
                </a:solidFill>
                <a:latin typeface="Arial"/>
                <a:ea typeface="Times New Roman"/>
              </a:rPr>
              <a:t>) / Var(G </a:t>
            </a:r>
            <a:r>
              <a:rPr b="0" i="1" lang="en-US" sz="2400" spc="-1" strike="noStrike" baseline="30000">
                <a:solidFill>
                  <a:srgbClr val="000000"/>
                </a:solidFill>
                <a:latin typeface="Arial"/>
                <a:ea typeface="Times New Roman"/>
              </a:rPr>
              <a:t>r</a:t>
            </a:r>
            <a:r>
              <a:rPr b="0" i="1"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BSC</a:t>
            </a:r>
            <a:r>
              <a:rPr b="0" i="1"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raffic Models </a:t>
            </a:r>
            <a:r>
              <a:rPr b="0" lang="it-IT" sz="2400" spc="-1" strike="noStrike">
                <a:solidFill>
                  <a:srgbClr val="000000"/>
                </a:solidFill>
                <a:latin typeface="Arial"/>
              </a:rPr>
              <a:t>(2)</a:t>
            </a:r>
            <a:endParaRPr b="0" lang="en-US" sz="2400" spc="-1" strike="noStrike">
              <a:solidFill>
                <a:srgbClr val="000000"/>
              </a:solidFill>
              <a:latin typeface="Arial"/>
            </a:endParaRPr>
          </a:p>
        </p:txBody>
      </p:sp>
      <p:sp>
        <p:nvSpPr>
          <p:cNvPr id="119" name="PlaceHolder 2"/>
          <p:cNvSpPr>
            <a:spLocks noGrp="1"/>
          </p:cNvSpPr>
          <p:nvPr>
            <p:ph/>
          </p:nvPr>
        </p:nvSpPr>
        <p:spPr>
          <a:xfrm>
            <a:off x="151920" y="1676520"/>
            <a:ext cx="853452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The new chaotic models were introduced in [5] and [6].  In [5], good results obtained for queue lengths and buffer were discussed with reference to the target traces, sampled at ATM multiplexers. The chaotic models were optimized observing the global autocorrelation functions of the trac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6] the time-variance plot, the Hurst parameter, and cross-over behaviors between simulated and target cumulative distributions were observed. Traffic was MPEG video traces sampled at GOPs.</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Traffic Models </a:t>
            </a:r>
            <a:r>
              <a:rPr b="0" lang="it-IT" sz="2400" spc="-1" strike="noStrike">
                <a:solidFill>
                  <a:srgbClr val="000000"/>
                </a:solidFill>
                <a:latin typeface="Arial"/>
              </a:rPr>
              <a:t>(3)</a:t>
            </a:r>
            <a:endParaRPr b="0" lang="en-US" sz="2400" spc="-1" strike="noStrike">
              <a:solidFill>
                <a:srgbClr val="000000"/>
              </a:solidFill>
              <a:latin typeface="Arial"/>
            </a:endParaRPr>
          </a:p>
        </p:txBody>
      </p:sp>
      <p:sp>
        <p:nvSpPr>
          <p:cNvPr id="121" name="PlaceHolder 2"/>
          <p:cNvSpPr>
            <a:spLocks noGrp="1"/>
          </p:cNvSpPr>
          <p:nvPr>
            <p:ph/>
          </p:nvPr>
        </p:nvSpPr>
        <p:spPr>
          <a:xfrm>
            <a:off x="228600" y="1828800"/>
            <a:ext cx="8686800" cy="4572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In [7], aggregate video traces over IP networks were mimicked, optimizing variation coefficient and averaged moving histograms and covariance functions. Comparison was made with traces derived from hidden Markov models (HMM) optimized by means of the Baum-Welch procedure. As  for network performances, cumulative distributions of interarrival times were good, although a bit worse than HMM results, even when the optimized features were similar or bet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Models</a:t>
            </a:r>
            <a:r>
              <a:rPr b="0" lang="it-IT" sz="4400" spc="-1" strike="noStrike">
                <a:solidFill>
                  <a:srgbClr val="000000"/>
                </a:solidFill>
                <a:latin typeface="Arial"/>
              </a:rPr>
              <a:t> </a:t>
            </a:r>
            <a:r>
              <a:rPr b="0" lang="it-IT" sz="2400" spc="-1" strike="noStrike">
                <a:solidFill>
                  <a:srgbClr val="000000"/>
                </a:solidFill>
                <a:latin typeface="Arial"/>
              </a:rPr>
              <a:t>(4)</a:t>
            </a:r>
            <a:endParaRPr b="0" lang="en-US" sz="2400" spc="-1" strike="noStrike">
              <a:solidFill>
                <a:srgbClr val="000000"/>
              </a:solidFill>
              <a:latin typeface="Arial"/>
            </a:endParaRPr>
          </a:p>
        </p:txBody>
      </p:sp>
      <p:sp>
        <p:nvSpPr>
          <p:cNvPr id="123" name="PlaceHolder 2"/>
          <p:cNvSpPr>
            <a:spLocks noGrp="1"/>
          </p:cNvSpPr>
          <p:nvPr>
            <p:ph/>
          </p:nvPr>
        </p:nvSpPr>
        <p:spPr>
          <a:xfrm>
            <a:off x="457200" y="1752480"/>
            <a:ext cx="815328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en-US" sz="2800" spc="-1" strike="noStrike">
                <a:solidFill>
                  <a:srgbClr val="000000"/>
                </a:solidFill>
                <a:latin typeface="Arial"/>
              </a:rPr>
              <a:t>In [8], the comparison with HMMs was continued, deeply investigating the influence of the variation coefficients, wich were in fact the only long term feature imposed to our chaotic models.  Very long video traces were utiliz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lexibility of the chaotic models, which allows us to optimize separately different trace features was utilized to mimic the different behaviors of the target and HMM variation coefficients, all other things being equ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1T14:54:06Z</dcterms:created>
  <dc:creator>Your User Name</dc:creator>
  <dc:description/>
  <dc:language>en-US</dc:language>
  <cp:lastModifiedBy>Università di Catania</cp:lastModifiedBy>
  <dcterms:modified xsi:type="dcterms:W3CDTF">2003-09-15T15:38:29Z</dcterms:modified>
  <cp:revision>20</cp:revision>
  <dc:subject/>
  <dc:title>Diapositiva 1</dc:title>
</cp:coreProperties>
</file>