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BC4-0CF3-45D1-85B7-F47B3C00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BEE-9CA2-48CF-BE9F-6B0B7798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9BF7-F4A2-4979-86AF-306C9CF9A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DB7-8E17-4203-95AF-C110C91B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191E-99DA-4EC6-8C95-730C84D16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F204-BCB7-4283-AEC0-6F175DD5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C0A6-5372-4AB9-AD08-6617F5E2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12CE-AF57-4179-9DC0-A17DB162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076C-9499-4664-BA77-A76DA834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BDB0-A1C4-440E-BCED-40374847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C59A-1319-4C4E-96F8-3DB00FF4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EC8-78E2-4A19-8240-A9C66431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3FB0-54DA-4868-8003-1E60E65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E019-59A7-400F-8C51-BD3AA5B9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4F96-87EB-4F40-A6D9-92E6B085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FC5E-A40A-49E9-9026-7E5988E8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60D-F65F-4ACC-9C35-04BCFCE25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44F5-E551-4F7D-AA95-F554C782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381-5E8E-4358-BBBC-3144F561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90D7-F61A-45F5-9EFE-7F054504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C56-8513-4EC8-AC1A-368FD13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A717-131D-4812-B2D5-F3804FD5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3F0-EFB2-4DE4-9E24-BD596A90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F9AD-B1E5-4EE9-9FBE-574522F6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F75-3762-4FC1-AD69-D75F990C430E}" type="slidenum">
              <a:rPr b="0" lang="it-IT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13CA6-2E01-4EBD-8CA4-2C6FEEAC0C90}" type="slidenum">
              <a:rPr b="0" lang="it-IT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diit.unict.it/arti/NS2-modules.htm" TargetMode="External"/><Relationship Id="rId2" Type="http://schemas.openxmlformats.org/officeDocument/2006/relationships/hyperlink" Target="http://www.diit.unict.it/arti/NS2-modules.htm" TargetMode="External"/><Relationship Id="rId3" Type="http://schemas.openxmlformats.org/officeDocument/2006/relationships/hyperlink" Target="http://www.diit.unict.it/arti/NS2-modules.htm" TargetMode="External"/><Relationship Id="rId4" Type="http://schemas.openxmlformats.org/officeDocument/2006/relationships/hyperlink" Target="http://www.diit.unict.it/arti/NS2-modules.htm" TargetMode="External"/><Relationship Id="rId5" Type="http://schemas.openxmlformats.org/officeDocument/2006/relationships/hyperlink" Target="http://www.diit.unict.it/arti/NS2-modules.htm" TargetMode="External"/><Relationship Id="rId6" Type="http://schemas.openxmlformats.org/officeDocument/2006/relationships/hyperlink" Target="http://www.diit.unict.it/arti/NS2-modules.htm" TargetMode="External"/><Relationship Id="rId7" Type="http://schemas.openxmlformats.org/officeDocument/2006/relationships/hyperlink" Target="http://www.diit.unict.it/arti/NS2-modules.htm" TargetMode="External"/><Relationship Id="rId8" Type="http://schemas.openxmlformats.org/officeDocument/2006/relationships/hyperlink" Target="http://www.diit.unict.it/arti/NS2-modules.htm" TargetMode="External"/><Relationship Id="rId9" Type="http://schemas.openxmlformats.org/officeDocument/2006/relationships/hyperlink" Target="http://www.diit.unict.it/arti/NS2-modules.htm" TargetMode="External"/><Relationship Id="rId10" Type="http://schemas.openxmlformats.org/officeDocument/2006/relationships/hyperlink" Target="http://www.diit.unict.it/arti/NS2-modules.htm" TargetMode="External"/><Relationship Id="rId11" Type="http://schemas.openxmlformats.org/officeDocument/2006/relationships/hyperlink" Target="http://www.diit.unict.it/arti/NS2-modules.htm" TargetMode="External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0520" y="1023840"/>
            <a:ext cx="856296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PROGETTO TAN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WP2</a:t>
            </a:r>
            <a:br>
              <a:rPr sz="3600"/>
            </a:b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imes New Roman"/>
              </a:rPr>
              <a:t>Modelli avanzati per il traffico IP e loro uso nella valutazione delle prestazioni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63640" y="5078160"/>
            <a:ext cx="741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ario Barbera, Alfio Lombardo,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Giovanni Schembra, Andrea Trecarich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573120" y="3460680"/>
            <a:ext cx="799776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Attività svolte e attività previste per il futu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UdR di Cat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AABC-C6F8-4167-A78C-5600DC1C08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 di N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3 equazioni differenzial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 qualche approssimazione il sistema vale anche per i valori medi delle grandezze conside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ossibilità di raggruppare le sorgenti che seguono lo stesso path e si avviano in un intervallo di tempo trascurabile rispetto al RT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SORGENTE-CONSIDERAZIONI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43000" y="4829040"/>
            <a:ext cx="7607160" cy="1966320"/>
            <a:chOff x="1143000" y="4829040"/>
            <a:chExt cx="7607160" cy="1966320"/>
          </a:xfrm>
        </p:grpSpPr>
        <p:sp>
          <p:nvSpPr>
            <p:cNvPr id="171" name=""/>
            <p:cNvSpPr/>
            <p:nvPr/>
          </p:nvSpPr>
          <p:spPr>
            <a:xfrm>
              <a:off x="1143000" y="4829040"/>
              <a:ext cx="7607160" cy="19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Il sistema di equazioni differenziali non è 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ompleto, mancano le equazioni relative ai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cessi        e           che deriveranno dal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odello della re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894040" y="5437080"/>
              <a:ext cx="1765440" cy="469800"/>
              <a:chOff x="2894040" y="5437080"/>
              <a:chExt cx="1765440" cy="469800"/>
            </a:xfrm>
          </p:grpSpPr>
          <mc:AlternateContent>
            <mc:Choice xmlns:a14="http://schemas.microsoft.com/office/drawing/2010/main" Requires="a14">
              <p:sp>
                <p:nvSpPr>
                  <p:cNvPr id="173" name=""/>
                  <p:cNvSpPr txBox="1"/>
                  <p:nvPr/>
                </p:nvSpPr>
                <p:spPr>
                  <a:xfrm>
                    <a:off x="2894040" y="5465880"/>
                    <a:ext cx="60012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3808440" y="5437080"/>
                    <a:ext cx="851040" cy="469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C5F-FAD5-4A45-A54B-A1AAA5F0054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5040" y="2044800"/>
            <a:ext cx="8166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E’ necessario calcolare il rate di arrivo dei pacchetti ad og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buff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RET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982880" y="2835360"/>
                <a:ext cx="56196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l</m:t>
                    </m:r>
                    <m:r>
                      <m:t xml:space="preserve">∈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8" name=""/>
          <p:cNvGrpSpPr/>
          <p:nvPr/>
        </p:nvGrpSpPr>
        <p:grpSpPr>
          <a:xfrm>
            <a:off x="406440" y="3295800"/>
            <a:ext cx="3282840" cy="1962000"/>
            <a:chOff x="406440" y="3295800"/>
            <a:chExt cx="3282840" cy="1962000"/>
          </a:xfrm>
        </p:grpSpPr>
        <p:sp>
          <p:nvSpPr>
            <p:cNvPr id="179" name=""/>
            <p:cNvSpPr/>
            <p:nvPr/>
          </p:nvSpPr>
          <p:spPr>
            <a:xfrm flipH="1" rot="16200000">
              <a:off x="2832120" y="3213360"/>
              <a:ext cx="774720" cy="939600"/>
            </a:xfrm>
            <a:custGeom>
              <a:avLst/>
              <a:gdLst>
                <a:gd name="textAreaLeft" fmla="*/ 415080 w 774720"/>
                <a:gd name="textAreaRight" fmla="*/ 644760 w 774720"/>
                <a:gd name="textAreaTop" fmla="*/ 661680 h 939600"/>
                <a:gd name="textAreaBottom" fmla="*/ 78192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836"/>
                  </a:moveTo>
                  <a:lnTo>
                    <a:pt x="15206" y="18836"/>
                  </a:lnTo>
                  <a:lnTo>
                    <a:pt x="15206" y="11576"/>
                  </a:lnTo>
                  <a:lnTo>
                    <a:pt x="11576" y="11576"/>
                  </a:lnTo>
                  <a:lnTo>
                    <a:pt x="16588" y="0"/>
                  </a:lnTo>
                  <a:lnTo>
                    <a:pt x="21600" y="11576"/>
                  </a:lnTo>
                  <a:lnTo>
                    <a:pt x="17970" y="11576"/>
                  </a:lnTo>
                  <a:lnTo>
                    <a:pt x="179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440" y="3378240"/>
              <a:ext cx="2336760" cy="1618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te delle sorgenti direttamente connesse al buf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84200" y="4394160"/>
              <a:ext cx="355680" cy="863640"/>
            </a:xfrm>
            <a:prstGeom prst="downArrow">
              <a:avLst>
                <a:gd name="adj1" fmla="val 50000"/>
                <a:gd name="adj2" fmla="val 607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77720" y="5259240"/>
                <a:ext cx="275112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3" name=""/>
          <p:cNvGrpSpPr/>
          <p:nvPr/>
        </p:nvGrpSpPr>
        <p:grpSpPr>
          <a:xfrm>
            <a:off x="4762080" y="3282840"/>
            <a:ext cx="3282840" cy="1962000"/>
            <a:chOff x="4762080" y="3282840"/>
            <a:chExt cx="3282840" cy="1962000"/>
          </a:xfrm>
        </p:grpSpPr>
        <p:sp>
          <p:nvSpPr>
            <p:cNvPr id="184" name=""/>
            <p:cNvSpPr/>
            <p:nvPr/>
          </p:nvSpPr>
          <p:spPr>
            <a:xfrm rot="5400000">
              <a:off x="4844520" y="3200400"/>
              <a:ext cx="774720" cy="939600"/>
            </a:xfrm>
            <a:custGeom>
              <a:avLst/>
              <a:gdLst>
                <a:gd name="textAreaLeft" fmla="*/ 415080 w 774720"/>
                <a:gd name="textAreaRight" fmla="*/ 644760 w 774720"/>
                <a:gd name="textAreaTop" fmla="*/ 661680 h 939600"/>
                <a:gd name="textAreaBottom" fmla="*/ 781920 h 93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836"/>
                  </a:moveTo>
                  <a:lnTo>
                    <a:pt x="15206" y="18836"/>
                  </a:lnTo>
                  <a:lnTo>
                    <a:pt x="15206" y="11576"/>
                  </a:lnTo>
                  <a:lnTo>
                    <a:pt x="11576" y="11576"/>
                  </a:lnTo>
                  <a:lnTo>
                    <a:pt x="16588" y="0"/>
                  </a:lnTo>
                  <a:lnTo>
                    <a:pt x="21600" y="11576"/>
                  </a:lnTo>
                  <a:lnTo>
                    <a:pt x="17970" y="11576"/>
                  </a:lnTo>
                  <a:lnTo>
                    <a:pt x="1797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707800" y="3365280"/>
              <a:ext cx="233676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te dei pacchetti provenienti da altri buff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711480" y="4381200"/>
              <a:ext cx="355680" cy="863640"/>
            </a:xfrm>
            <a:prstGeom prst="downArrow">
              <a:avLst>
                <a:gd name="adj1" fmla="val 50000"/>
                <a:gd name="adj2" fmla="val 6070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19640" y="5199120"/>
                <a:ext cx="465300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sub>
                          <m:sup/>
                          <m:e/>
                        </m:nary>
                        <m:r>
                          <m:t xml:space="preserve">k</m:t>
                        </m:r>
                        <m:r>
                          <m:t xml:space="preserve">∈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NC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32A-5ABF-4ACD-8ED6-CED7001A597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35040" y="2044800"/>
            <a:ext cx="81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 il RED le equazioni dei due processi          e             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RETE - RED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145200" y="2049480"/>
                <a:ext cx="60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059600" y="2021040"/>
                <a:ext cx="8510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38440" y="2595600"/>
                <a:ext cx="56671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B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+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l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B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e>
                                      </m:d>
                                      <m:r>
                                        <m:t xml:space="preserve">⋅</m:t>
                                      </m:r>
                                      <m:sSubSup>
                                        <m:e>
                                          <m:r>
                                            <m:t xml:space="preserve">λ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  <m:sup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Q</m:t>
                                          </m:r>
                                          <m:r>
                                            <m:t xml:space="preserve">)</m:t>
                                          </m:r>
                                        </m:sup>
                                      </m:sSubSup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+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92360" y="3724200"/>
                <a:ext cx="575784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in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in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</m:sub>
                                  </m:sSub>
                                </m:den>
                              </m:f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sub>
                              </m:sSub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647720" y="5451480"/>
                <a:ext cx="58500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Q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n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⋅</m:t>
                              </m:r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BA1-872B-4E45-8BF8-581AE5C43E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CASE STUDY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170000" y="1844640"/>
          <a:ext cx="4313160" cy="23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844640"/>
                    <a:ext cx="431316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0" y="20289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541840" y="1714680"/>
            <a:ext cx="3424320" cy="2423160"/>
            <a:chOff x="5541840" y="1714680"/>
            <a:chExt cx="3424320" cy="2423160"/>
          </a:xfrm>
        </p:grpSpPr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5904000" y="2558880"/>
                  <a:ext cx="228600" cy="29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6858000" y="3182760"/>
                  <a:ext cx="179064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5894280" y="2863800"/>
                  <a:ext cx="2494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039080" y="2878200"/>
                  <a:ext cx="14032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5900760" y="3195720"/>
                  <a:ext cx="23652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6794640" y="2560680"/>
                  <a:ext cx="181584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894280" y="3513240"/>
                  <a:ext cx="2494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039080" y="3513240"/>
                  <a:ext cx="140328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5894280" y="3817800"/>
                  <a:ext cx="249480" cy="29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7026120" y="3830760"/>
                  <a:ext cx="1428840" cy="29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D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210" name=""/>
            <p:cNvGrpSpPr/>
            <p:nvPr/>
          </p:nvGrpSpPr>
          <p:grpSpPr>
            <a:xfrm>
              <a:off x="5541840" y="2021040"/>
              <a:ext cx="1018800" cy="527040"/>
              <a:chOff x="5541840" y="2021040"/>
              <a:chExt cx="1018800" cy="527040"/>
            </a:xfrm>
          </p:grpSpPr>
          <p:sp>
            <p:nvSpPr>
              <p:cNvPr id="211" name=""/>
              <p:cNvSpPr/>
              <p:nvPr/>
            </p:nvSpPr>
            <p:spPr>
              <a:xfrm>
                <a:off x="5591880" y="2021040"/>
                <a:ext cx="9180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ath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41840" y="2021040"/>
                <a:ext cx="101880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6561000" y="2021040"/>
              <a:ext cx="2400120" cy="527040"/>
              <a:chOff x="6561000" y="2021040"/>
              <a:chExt cx="2400120" cy="527040"/>
            </a:xfrm>
          </p:grpSpPr>
          <p:sp>
            <p:nvSpPr>
              <p:cNvPr id="214" name=""/>
              <p:cNvSpPr/>
              <p:nvPr/>
            </p:nvSpPr>
            <p:spPr>
              <a:xfrm>
                <a:off x="6611040" y="2021040"/>
                <a:ext cx="229932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ource-Routers-Destin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61000" y="2021040"/>
                <a:ext cx="2400120" cy="5270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541840" y="2548080"/>
              <a:ext cx="3419280" cy="320040"/>
              <a:chOff x="5541840" y="2548080"/>
              <a:chExt cx="3419280" cy="3200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5541840" y="2548080"/>
                <a:ext cx="1018800" cy="320040"/>
                <a:chOff x="5541840" y="2548080"/>
                <a:chExt cx="1018800" cy="3200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91880" y="2548080"/>
                  <a:ext cx="9180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41840" y="2548080"/>
                  <a:ext cx="10188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6561000" y="2548080"/>
                <a:ext cx="2400120" cy="320040"/>
                <a:chOff x="6561000" y="2548080"/>
                <a:chExt cx="2400120" cy="3200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611040" y="2548080"/>
                  <a:ext cx="22993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61000" y="2548080"/>
                  <a:ext cx="24001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541840" y="2865600"/>
              <a:ext cx="3419280" cy="320040"/>
              <a:chOff x="5541840" y="2865600"/>
              <a:chExt cx="3419280" cy="32004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541840" y="2865600"/>
                <a:ext cx="1018800" cy="320040"/>
                <a:chOff x="5541840" y="2865600"/>
                <a:chExt cx="1018800" cy="3200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591880" y="2865600"/>
                  <a:ext cx="9180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541840" y="2865600"/>
                  <a:ext cx="10188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561000" y="2865600"/>
                <a:ext cx="2400120" cy="320040"/>
                <a:chOff x="6561000" y="2865600"/>
                <a:chExt cx="2400120" cy="3200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611040" y="2865600"/>
                  <a:ext cx="22993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561000" y="2865600"/>
                  <a:ext cx="24001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" name=""/>
            <p:cNvGrpSpPr/>
            <p:nvPr/>
          </p:nvGrpSpPr>
          <p:grpSpPr>
            <a:xfrm>
              <a:off x="5541840" y="3182760"/>
              <a:ext cx="3419280" cy="320040"/>
              <a:chOff x="5541840" y="3182760"/>
              <a:chExt cx="3419280" cy="3200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5541840" y="3182760"/>
                <a:ext cx="1018800" cy="320040"/>
                <a:chOff x="5541840" y="3182760"/>
                <a:chExt cx="1018800" cy="3200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591880" y="3182760"/>
                  <a:ext cx="9180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541840" y="3182760"/>
                  <a:ext cx="10188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561000" y="3182760"/>
                <a:ext cx="2400120" cy="320040"/>
                <a:chOff x="6561000" y="3182760"/>
                <a:chExt cx="2400120" cy="3200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611040" y="3182760"/>
                  <a:ext cx="22993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561000" y="3182760"/>
                  <a:ext cx="24001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"/>
            <p:cNvGrpSpPr/>
            <p:nvPr/>
          </p:nvGrpSpPr>
          <p:grpSpPr>
            <a:xfrm>
              <a:off x="5541840" y="3500280"/>
              <a:ext cx="3419280" cy="320040"/>
              <a:chOff x="5541840" y="3500280"/>
              <a:chExt cx="3419280" cy="32004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41840" y="3500280"/>
                <a:ext cx="1018800" cy="320040"/>
                <a:chOff x="5541840" y="3500280"/>
                <a:chExt cx="1018800" cy="3200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5591880" y="3500280"/>
                  <a:ext cx="9180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541840" y="3500280"/>
                  <a:ext cx="10188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561000" y="3500280"/>
                <a:ext cx="2400120" cy="320040"/>
                <a:chOff x="6561000" y="3500280"/>
                <a:chExt cx="2400120" cy="3200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611040" y="3500280"/>
                  <a:ext cx="22993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61000" y="3500280"/>
                  <a:ext cx="24001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" name=""/>
            <p:cNvGrpSpPr/>
            <p:nvPr/>
          </p:nvGrpSpPr>
          <p:grpSpPr>
            <a:xfrm>
              <a:off x="5541840" y="3817800"/>
              <a:ext cx="3419280" cy="320040"/>
              <a:chOff x="5541840" y="3817800"/>
              <a:chExt cx="3419280" cy="3200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541840" y="3817800"/>
                <a:ext cx="1018800" cy="320040"/>
                <a:chOff x="5541840" y="3817800"/>
                <a:chExt cx="1018800" cy="3200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591880" y="3817800"/>
                  <a:ext cx="9180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541840" y="3817800"/>
                  <a:ext cx="10188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561000" y="3817800"/>
                <a:ext cx="2400120" cy="320040"/>
                <a:chOff x="6561000" y="3817800"/>
                <a:chExt cx="2400120" cy="32004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611040" y="3817800"/>
                  <a:ext cx="229932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561000" y="3817800"/>
                  <a:ext cx="24001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5562720" y="1714680"/>
              <a:ext cx="340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Tab.1 Path consider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39760" y="4191120"/>
            <a:ext cx="7763040" cy="2514240"/>
            <a:chOff x="1139760" y="4191120"/>
            <a:chExt cx="7763040" cy="2514240"/>
          </a:xfrm>
        </p:grpSpPr>
        <p:grpSp>
          <p:nvGrpSpPr>
            <p:cNvPr id="253" name=""/>
            <p:cNvGrpSpPr/>
            <p:nvPr/>
          </p:nvGrpSpPr>
          <p:grpSpPr>
            <a:xfrm>
              <a:off x="1139760" y="4525920"/>
              <a:ext cx="7762320" cy="2179440"/>
              <a:chOff x="1139760" y="4525920"/>
              <a:chExt cx="7762320" cy="2179440"/>
            </a:xfrm>
          </p:grpSpPr>
          <mc:AlternateContent>
            <mc:Choice xmlns:a14="http://schemas.microsoft.com/office/drawing/2010/main" Requires="a14">
              <p:sp>
                <p:nvSpPr>
                  <p:cNvPr id="254" name=""/>
                  <p:cNvSpPr txBox="1"/>
                  <p:nvPr/>
                </p:nvSpPr>
                <p:spPr>
                  <a:xfrm>
                    <a:off x="4921200" y="4880520"/>
                    <a:ext cx="228600" cy="27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4910040" y="5247000"/>
                    <a:ext cx="249120" cy="277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"/>
                  <p:cNvSpPr txBox="1"/>
                  <p:nvPr/>
                </p:nvSpPr>
                <p:spPr>
                  <a:xfrm>
                    <a:off x="4916520" y="5625360"/>
                    <a:ext cx="236520" cy="27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"/>
                  <p:cNvSpPr txBox="1"/>
                  <p:nvPr/>
                </p:nvSpPr>
                <p:spPr>
                  <a:xfrm>
                    <a:off x="4910040" y="5997960"/>
                    <a:ext cx="249120" cy="27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8" name=""/>
                  <p:cNvSpPr txBox="1"/>
                  <p:nvPr/>
                </p:nvSpPr>
                <p:spPr>
                  <a:xfrm>
                    <a:off x="4910040" y="6368760"/>
                    <a:ext cx="249120" cy="278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59" name=""/>
              <p:cNvGrpSpPr/>
              <p:nvPr/>
            </p:nvGrpSpPr>
            <p:grpSpPr>
              <a:xfrm>
                <a:off x="1139760" y="4525920"/>
                <a:ext cx="1431360" cy="303840"/>
                <a:chOff x="1139760" y="4525920"/>
                <a:chExt cx="1431360" cy="303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1182600" y="4525920"/>
                  <a:ext cx="134640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dex of grou</a:t>
                  </a: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139760" y="4525920"/>
                  <a:ext cx="1431360" cy="30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2571840" y="4525920"/>
                <a:ext cx="1796040" cy="303840"/>
                <a:chOff x="2571840" y="4525920"/>
                <a:chExt cx="1796040" cy="3038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14320" y="4525920"/>
                  <a:ext cx="171036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flow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571840" y="4525920"/>
                  <a:ext cx="1796040" cy="30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4368600" y="4525920"/>
                <a:ext cx="1396440" cy="303840"/>
                <a:chOff x="4368600" y="4525920"/>
                <a:chExt cx="1396440" cy="3038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410360" y="4525920"/>
                  <a:ext cx="131256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follow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368600" y="4525920"/>
                  <a:ext cx="1396440" cy="30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5765760" y="4525920"/>
                <a:ext cx="1396440" cy="303840"/>
                <a:chOff x="5765760" y="4525920"/>
                <a:chExt cx="1396440" cy="3038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808600" y="4525920"/>
                  <a:ext cx="131076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</a:t>
                  </a:r>
                  <a:r>
                    <a:rPr b="1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le size</a:t>
                  </a: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packet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765760" y="4525920"/>
                  <a:ext cx="1396440" cy="30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7162920" y="4525920"/>
                <a:ext cx="1739160" cy="303840"/>
                <a:chOff x="7162920" y="4525920"/>
                <a:chExt cx="1739160" cy="3038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7204680" y="4525920"/>
                  <a:ext cx="165528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000000"/>
                      </a:solidFill>
                      <a:latin typeface="Times New Roman"/>
                    </a:rPr>
                    <a:t>Starting time (sec.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162920" y="4525920"/>
                  <a:ext cx="1739160" cy="30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1139760" y="4829760"/>
                <a:ext cx="1431360" cy="164880"/>
                <a:chOff x="1139760" y="4829760"/>
                <a:chExt cx="1431360" cy="16488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1182600" y="4829760"/>
                  <a:ext cx="134640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139760" y="4829760"/>
                  <a:ext cx="143136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571840" y="4829760"/>
                <a:ext cx="1796040" cy="164880"/>
                <a:chOff x="2571840" y="4829760"/>
                <a:chExt cx="1796040" cy="164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614320" y="4829760"/>
                  <a:ext cx="17103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571840" y="4829760"/>
                  <a:ext cx="179604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5765760" y="4829760"/>
                <a:ext cx="1396440" cy="164880"/>
                <a:chOff x="5765760" y="4829760"/>
                <a:chExt cx="1396440" cy="164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808600" y="4829760"/>
                  <a:ext cx="1310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765760" y="4829760"/>
                  <a:ext cx="139644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7162920" y="4829760"/>
                <a:ext cx="1739160" cy="164880"/>
                <a:chOff x="7162920" y="4829760"/>
                <a:chExt cx="1739160" cy="164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7204680" y="4829760"/>
                  <a:ext cx="16552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162920" y="4829760"/>
                  <a:ext cx="173916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139760" y="4994640"/>
                <a:ext cx="1431360" cy="210600"/>
                <a:chOff x="1139760" y="4994640"/>
                <a:chExt cx="1431360" cy="2106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182600" y="4994640"/>
                  <a:ext cx="1346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139760" y="4994640"/>
                  <a:ext cx="14313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571840" y="4994640"/>
                <a:ext cx="1796040" cy="210600"/>
                <a:chOff x="2571840" y="4994640"/>
                <a:chExt cx="1796040" cy="2106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614320" y="4994640"/>
                  <a:ext cx="1710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71840" y="4994640"/>
                  <a:ext cx="17960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765760" y="4994640"/>
                <a:ext cx="1396440" cy="210600"/>
                <a:chOff x="5765760" y="4994640"/>
                <a:chExt cx="1396440" cy="21060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808600" y="4994640"/>
                  <a:ext cx="13107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d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765760" y="4994640"/>
                  <a:ext cx="13964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7162920" y="4994640"/>
                <a:ext cx="1739160" cy="210600"/>
                <a:chOff x="7162920" y="4994640"/>
                <a:chExt cx="1739160" cy="210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204680" y="4994640"/>
                  <a:ext cx="165528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162920" y="4994640"/>
                  <a:ext cx="17391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139760" y="5205600"/>
                <a:ext cx="1431360" cy="164520"/>
                <a:chOff x="1139760" y="5205600"/>
                <a:chExt cx="1431360" cy="164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182600" y="5205600"/>
                  <a:ext cx="134640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139760" y="5205600"/>
                  <a:ext cx="1431360" cy="16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2571840" y="5205600"/>
                <a:ext cx="1796040" cy="164520"/>
                <a:chOff x="2571840" y="5205600"/>
                <a:chExt cx="1796040" cy="1645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2614320" y="5205600"/>
                  <a:ext cx="17103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71840" y="5205600"/>
                  <a:ext cx="1796040" cy="16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368600" y="4829760"/>
                <a:ext cx="1396440" cy="378360"/>
                <a:chOff x="4368600" y="4829760"/>
                <a:chExt cx="1396440" cy="3783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4410360" y="4829760"/>
                  <a:ext cx="1312560" cy="37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368600" y="4829760"/>
                  <a:ext cx="1396440" cy="37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765760" y="5205600"/>
                <a:ext cx="1396440" cy="164520"/>
                <a:chOff x="5765760" y="5205600"/>
                <a:chExt cx="1396440" cy="1645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5808600" y="5205600"/>
                  <a:ext cx="13107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765760" y="5205600"/>
                  <a:ext cx="1396440" cy="16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7162920" y="5205600"/>
                <a:ext cx="1739160" cy="164520"/>
                <a:chOff x="7162920" y="5205600"/>
                <a:chExt cx="1739160" cy="1645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7204680" y="5205600"/>
                  <a:ext cx="165528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62920" y="5205600"/>
                  <a:ext cx="1739160" cy="16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1139760" y="5370120"/>
                <a:ext cx="1431360" cy="210600"/>
                <a:chOff x="1139760" y="5370120"/>
                <a:chExt cx="1431360" cy="2106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1182600" y="5370120"/>
                  <a:ext cx="1346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139760" y="5370120"/>
                  <a:ext cx="14313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2571840" y="5370120"/>
                <a:ext cx="1796040" cy="210600"/>
                <a:chOff x="2571840" y="5370120"/>
                <a:chExt cx="1796040" cy="2106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2614320" y="5370120"/>
                  <a:ext cx="1710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71840" y="5370120"/>
                  <a:ext cx="17960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765760" y="5370120"/>
                <a:ext cx="1396440" cy="210600"/>
                <a:chOff x="5765760" y="5370120"/>
                <a:chExt cx="1396440" cy="2106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5808600" y="5370120"/>
                  <a:ext cx="13107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d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765760" y="5370120"/>
                  <a:ext cx="13964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162920" y="5370120"/>
                <a:ext cx="1739160" cy="210600"/>
                <a:chOff x="7162920" y="5370120"/>
                <a:chExt cx="1739160" cy="2106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204680" y="5370120"/>
                  <a:ext cx="165528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62920" y="5370120"/>
                  <a:ext cx="17391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139760" y="5580720"/>
                <a:ext cx="1431360" cy="163080"/>
                <a:chOff x="1139760" y="5580720"/>
                <a:chExt cx="1431360" cy="16308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182600" y="5580720"/>
                  <a:ext cx="13464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139760" y="5580720"/>
                  <a:ext cx="143136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2571840" y="5580720"/>
                <a:ext cx="1796040" cy="163080"/>
                <a:chOff x="2571840" y="5580720"/>
                <a:chExt cx="1796040" cy="1630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2614320" y="5580720"/>
                  <a:ext cx="17103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2571840" y="5580720"/>
                  <a:ext cx="179604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765760" y="5580720"/>
                <a:ext cx="1396440" cy="163080"/>
                <a:chOff x="5765760" y="5580720"/>
                <a:chExt cx="1396440" cy="1630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808600" y="5580720"/>
                  <a:ext cx="13107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765760" y="5580720"/>
                  <a:ext cx="139644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162920" y="5580720"/>
                <a:ext cx="1739160" cy="163080"/>
                <a:chOff x="7162920" y="5580720"/>
                <a:chExt cx="1739160" cy="16308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204680" y="5580720"/>
                  <a:ext cx="16552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162920" y="5580720"/>
                  <a:ext cx="173916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139760" y="5743800"/>
                <a:ext cx="1431360" cy="212040"/>
                <a:chOff x="1139760" y="5743800"/>
                <a:chExt cx="1431360" cy="2120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182600" y="5743800"/>
                  <a:ext cx="13464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139760" y="5743800"/>
                  <a:ext cx="143136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2571840" y="5743800"/>
                <a:ext cx="1796040" cy="212040"/>
                <a:chOff x="2571840" y="5743800"/>
                <a:chExt cx="1796040" cy="2120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2614320" y="5743800"/>
                  <a:ext cx="171036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571840" y="5743800"/>
                  <a:ext cx="17960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368600" y="5577840"/>
                <a:ext cx="1396440" cy="378000"/>
                <a:chOff x="4368600" y="5577840"/>
                <a:chExt cx="1396440" cy="37800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410360" y="5577840"/>
                  <a:ext cx="1312560" cy="378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368600" y="5577840"/>
                  <a:ext cx="1396440" cy="378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765760" y="5743800"/>
                <a:ext cx="1396440" cy="212040"/>
                <a:chOff x="5765760" y="5743800"/>
                <a:chExt cx="1396440" cy="212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808600" y="5743800"/>
                  <a:ext cx="131076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d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765760" y="5743800"/>
                  <a:ext cx="1396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7162920" y="5743800"/>
                <a:ext cx="1739160" cy="212040"/>
                <a:chOff x="7162920" y="5743800"/>
                <a:chExt cx="1739160" cy="21204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7204680" y="5743800"/>
                  <a:ext cx="165528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162920" y="5743800"/>
                  <a:ext cx="173916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1139760" y="5956200"/>
                <a:ext cx="1431360" cy="163080"/>
                <a:chOff x="1139760" y="5956200"/>
                <a:chExt cx="1431360" cy="1630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182600" y="5956200"/>
                  <a:ext cx="134640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139760" y="5956200"/>
                  <a:ext cx="143136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2571840" y="5956200"/>
                <a:ext cx="1796040" cy="163080"/>
                <a:chOff x="2571840" y="5956200"/>
                <a:chExt cx="1796040" cy="1630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2614320" y="5956200"/>
                  <a:ext cx="17103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2571840" y="5956200"/>
                  <a:ext cx="179604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765760" y="5956200"/>
                <a:ext cx="1396440" cy="163080"/>
                <a:chOff x="5765760" y="5956200"/>
                <a:chExt cx="1396440" cy="1630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5808600" y="5956200"/>
                  <a:ext cx="131076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65760" y="5956200"/>
                  <a:ext cx="139644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162920" y="5956200"/>
                <a:ext cx="1739160" cy="163080"/>
                <a:chOff x="7162920" y="5956200"/>
                <a:chExt cx="1739160" cy="1630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204680" y="5956200"/>
                  <a:ext cx="1655280" cy="1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162920" y="5956200"/>
                  <a:ext cx="1739160" cy="163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139760" y="6119280"/>
                <a:ext cx="1431360" cy="210600"/>
                <a:chOff x="1139760" y="6119280"/>
                <a:chExt cx="1431360" cy="2106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182600" y="6119280"/>
                  <a:ext cx="1346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139760" y="6119280"/>
                  <a:ext cx="14313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571840" y="6119280"/>
                <a:ext cx="1796040" cy="210600"/>
                <a:chOff x="2571840" y="6119280"/>
                <a:chExt cx="1796040" cy="2106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614320" y="6119280"/>
                  <a:ext cx="1710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571840" y="6119280"/>
                  <a:ext cx="17960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765760" y="6119280"/>
                <a:ext cx="1396440" cy="210600"/>
                <a:chOff x="5765760" y="6119280"/>
                <a:chExt cx="1396440" cy="2106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5808600" y="6119280"/>
                  <a:ext cx="13107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d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765760" y="6119280"/>
                  <a:ext cx="13964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162920" y="6119280"/>
                <a:ext cx="1739160" cy="210600"/>
                <a:chOff x="7162920" y="6119280"/>
                <a:chExt cx="1739160" cy="2106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204680" y="6119280"/>
                  <a:ext cx="165528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162920" y="6119280"/>
                  <a:ext cx="17391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139760" y="6329880"/>
                <a:ext cx="1431360" cy="164880"/>
                <a:chOff x="1139760" y="6329880"/>
                <a:chExt cx="1431360" cy="1648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182600" y="6329880"/>
                  <a:ext cx="134640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139760" y="6329880"/>
                  <a:ext cx="143136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571840" y="6329880"/>
                <a:ext cx="1796040" cy="164880"/>
                <a:chOff x="2571840" y="6329880"/>
                <a:chExt cx="1796040" cy="1648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614320" y="6329880"/>
                  <a:ext cx="17103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571840" y="6329880"/>
                  <a:ext cx="179604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765760" y="6329880"/>
                <a:ext cx="1396440" cy="164880"/>
                <a:chOff x="5765760" y="6329880"/>
                <a:chExt cx="1396440" cy="164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5808600" y="6329880"/>
                  <a:ext cx="131076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765760" y="6329880"/>
                  <a:ext cx="139644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7162920" y="6329880"/>
                <a:ext cx="1739160" cy="164880"/>
                <a:chOff x="7162920" y="6329880"/>
                <a:chExt cx="1739160" cy="164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204680" y="6329880"/>
                  <a:ext cx="1655280" cy="16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7162920" y="6329880"/>
                  <a:ext cx="1739160" cy="16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139760" y="6494760"/>
                <a:ext cx="1431360" cy="210600"/>
                <a:chOff x="1139760" y="6494760"/>
                <a:chExt cx="1431360" cy="2106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182600" y="6494760"/>
                  <a:ext cx="134640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139760" y="6494760"/>
                  <a:ext cx="14313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571840" y="6494760"/>
                <a:ext cx="1796040" cy="210600"/>
                <a:chOff x="2571840" y="6494760"/>
                <a:chExt cx="1796040" cy="2106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614320" y="6494760"/>
                  <a:ext cx="17103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571840" y="6494760"/>
                  <a:ext cx="17960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4368600" y="6340320"/>
                <a:ext cx="1396440" cy="365040"/>
                <a:chOff x="4368600" y="6340320"/>
                <a:chExt cx="1396440" cy="3650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4410360" y="6340320"/>
                  <a:ext cx="13125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368600" y="6340320"/>
                  <a:ext cx="1396440" cy="36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765760" y="6494760"/>
                <a:ext cx="1396440" cy="210600"/>
                <a:chOff x="5765760" y="6494760"/>
                <a:chExt cx="1396440" cy="2106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808600" y="6494760"/>
                  <a:ext cx="131076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eed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765760" y="6494760"/>
                  <a:ext cx="139644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162920" y="6494760"/>
                <a:ext cx="1739160" cy="210600"/>
                <a:chOff x="7162920" y="6494760"/>
                <a:chExt cx="1739160" cy="2106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204680" y="6494760"/>
                  <a:ext cx="1655280" cy="21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162920" y="6494760"/>
                  <a:ext cx="1739160" cy="210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1143000" y="4191120"/>
              <a:ext cx="775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Tab.2 Informazioni sui gruppi di flus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294-55A1-4E06-BC34-C501FA4AAE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SULTATI (1/3)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29574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910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52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288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574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04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14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16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4624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0621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621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403200" y="2278080"/>
          <a:ext cx="406260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2278080"/>
                    <a:ext cx="40626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"/>
          <p:cNvGraphicFramePr/>
          <p:nvPr/>
        </p:nvGraphicFramePr>
        <p:xfrm>
          <a:off x="4632480" y="2278080"/>
          <a:ext cx="406224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2480" y="2278080"/>
                    <a:ext cx="406224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812880" y="5549760"/>
            <a:ext cx="35049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della coda sul buffer del router B verso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ar-SA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889520" y="5549760"/>
            <a:ext cx="38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della coda sul buffer del router B verso il router 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9BB-3A06-42FC-B41A-FC39F1C5E7E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SULTATI (2/3)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29574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910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52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288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574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104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514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716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624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621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621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12880" y="5549760"/>
            <a:ext cx="3504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stimata dal RED della coda sul buffer del router B verso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ar-SA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67360" y="5549760"/>
            <a:ext cx="34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stimata dal RED della coda sul buffer del router B verso il router 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860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519120" y="2278080"/>
          <a:ext cx="3990960" cy="31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8080"/>
                    <a:ext cx="3990960" cy="31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31860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4773600" y="2262240"/>
          <a:ext cx="4038480" cy="31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3600" y="2262240"/>
                    <a:ext cx="403848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125-E3B5-49B1-982B-3B5801F7140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SULTATI (3/3)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29574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6910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5288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7288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574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00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049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7525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7168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62160" y="26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12880" y="5549760"/>
            <a:ext cx="35049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della finestra di trasmissione per le sorgenti non greedy sul path p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860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18600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20040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85800" y="2244600"/>
          <a:ext cx="399420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44600"/>
                    <a:ext cx="399420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"/>
          <p:cNvSpPr/>
          <p:nvPr/>
        </p:nvSpPr>
        <p:spPr>
          <a:xfrm>
            <a:off x="320508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754520" y="2244600"/>
          <a:ext cx="3984840" cy="317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54520" y="2244600"/>
                    <a:ext cx="398484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5041800" y="5549760"/>
            <a:ext cx="35053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hezza media della finestra di trasmissione per le sorgenti greedy sul path p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983-665A-4D76-A70C-E3B126CB838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O (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D WITH 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I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N/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O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UT)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1480" y="2044800"/>
            <a:ext cx="7772400" cy="33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’algoritmo RIO è un meccanismo di AQM che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ituisce un’estensione del 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usa il controllo della congestione per realizzare la differenziazione dei servizi offer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5000"/>
              </a:lnSpc>
              <a:spcBef>
                <a:spcPts val="499"/>
              </a:spcBef>
              <a:buClr>
                <a:srgbClr val="3333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esupposti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ili di servizio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er le sorg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5000"/>
              </a:lnSpc>
              <a:spcBef>
                <a:spcPts val="451"/>
              </a:spcBef>
              <a:buClr>
                <a:srgbClr val="ff0000"/>
              </a:buClr>
              <a:buSzPct val="9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so di un </a:t>
            </a:r>
            <a:r>
              <a:rPr b="1" i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ile met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, che esegue misure e marca i pacchetti come: </a:t>
            </a:r>
            <a:r>
              <a:rPr b="1" lang="it-IT" sz="1800" spc="-1" strike="noStrike">
                <a:solidFill>
                  <a:srgbClr val="006600"/>
                </a:solidFill>
                <a:latin typeface="Tahoma"/>
                <a:ea typeface="Times New Roman"/>
              </a:rPr>
              <a:t>IN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se “in-profile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OUT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se “out-of-profile”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886200" y="5638680"/>
            <a:ext cx="2209680" cy="838080"/>
            <a:chOff x="3886200" y="5638680"/>
            <a:chExt cx="2209680" cy="838080"/>
          </a:xfrm>
        </p:grpSpPr>
        <p:sp>
          <p:nvSpPr>
            <p:cNvPr id="474" name=""/>
            <p:cNvSpPr/>
            <p:nvPr/>
          </p:nvSpPr>
          <p:spPr>
            <a:xfrm>
              <a:off x="3886200" y="5638680"/>
              <a:ext cx="2209680" cy="8380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99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38480" y="5867280"/>
              <a:ext cx="1981080" cy="336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ff66"/>
                  </a:solidFill>
                  <a:latin typeface="Tahoma"/>
                </a:rPr>
                <a:t>Profile 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990720" y="5638680"/>
            <a:ext cx="2818800" cy="609480"/>
            <a:chOff x="990720" y="5638680"/>
            <a:chExt cx="2818800" cy="609480"/>
          </a:xfrm>
        </p:grpSpPr>
        <p:grpSp>
          <p:nvGrpSpPr>
            <p:cNvPr id="477" name=""/>
            <p:cNvGrpSpPr/>
            <p:nvPr/>
          </p:nvGrpSpPr>
          <p:grpSpPr>
            <a:xfrm>
              <a:off x="1371240" y="5943600"/>
              <a:ext cx="2438280" cy="304560"/>
              <a:chOff x="1371240" y="5943600"/>
              <a:chExt cx="243828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3200040" y="6095880"/>
                <a:ext cx="6094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371240" y="5943600"/>
                <a:ext cx="1675800" cy="304560"/>
                <a:chOff x="1371240" y="5943600"/>
                <a:chExt cx="1675800" cy="304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980360" y="5943600"/>
                  <a:ext cx="45684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371240" y="5943600"/>
                  <a:ext cx="45684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590200" y="5943600"/>
                  <a:ext cx="456840" cy="304560"/>
                </a:xfrm>
                <a:prstGeom prst="ellipse">
                  <a:avLst/>
                </a:prstGeom>
                <a:solidFill>
                  <a:srgbClr val="b2b2b2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" name=""/>
            <p:cNvSpPr/>
            <p:nvPr/>
          </p:nvSpPr>
          <p:spPr>
            <a:xfrm>
              <a:off x="990720" y="5638680"/>
              <a:ext cx="251424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lusso di pacchet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6095880" y="5638680"/>
            <a:ext cx="2895480" cy="609480"/>
            <a:chOff x="6095880" y="5638680"/>
            <a:chExt cx="2895480" cy="609480"/>
          </a:xfrm>
        </p:grpSpPr>
        <p:grpSp>
          <p:nvGrpSpPr>
            <p:cNvPr id="485" name=""/>
            <p:cNvGrpSpPr/>
            <p:nvPr/>
          </p:nvGrpSpPr>
          <p:grpSpPr>
            <a:xfrm>
              <a:off x="6095880" y="5943600"/>
              <a:ext cx="2437920" cy="304560"/>
              <a:chOff x="6095880" y="5943600"/>
              <a:chExt cx="2437920" cy="304560"/>
            </a:xfrm>
          </p:grpSpPr>
          <p:grpSp>
            <p:nvGrpSpPr>
              <p:cNvPr id="486" name=""/>
              <p:cNvGrpSpPr/>
              <p:nvPr/>
            </p:nvGrpSpPr>
            <p:grpSpPr>
              <a:xfrm>
                <a:off x="6858000" y="5943600"/>
                <a:ext cx="1675800" cy="304560"/>
                <a:chOff x="6858000" y="5943600"/>
                <a:chExt cx="1675800" cy="3045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7467120" y="5943600"/>
                  <a:ext cx="456840" cy="3045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858000" y="5943600"/>
                  <a:ext cx="456840" cy="3045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8076960" y="5943600"/>
                  <a:ext cx="456840" cy="304560"/>
                </a:xfrm>
                <a:prstGeom prst="ellipse">
                  <a:avLst/>
                </a:prstGeom>
                <a:solidFill>
                  <a:srgbClr val="008000"/>
                </a:solidFill>
                <a:ln w="93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0" name=""/>
              <p:cNvSpPr/>
              <p:nvPr/>
            </p:nvSpPr>
            <p:spPr>
              <a:xfrm>
                <a:off x="6095880" y="6095880"/>
                <a:ext cx="60948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6324480" y="5638680"/>
              <a:ext cx="2666880" cy="2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lusso di pacchetti  marca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FA2-0225-46C7-BC91-11D137199BFB}" type="slidenum">
              <a:t>17</a:t>
            </a:fld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1816200" y="3251160"/>
            <a:ext cx="6032520" cy="3428640"/>
            <a:chOff x="1816200" y="3251160"/>
            <a:chExt cx="6032520" cy="3428640"/>
          </a:xfrm>
        </p:grpSpPr>
        <p:sp>
          <p:nvSpPr>
            <p:cNvPr id="493" name=""/>
            <p:cNvSpPr/>
            <p:nvPr/>
          </p:nvSpPr>
          <p:spPr>
            <a:xfrm>
              <a:off x="1816200" y="3251160"/>
              <a:ext cx="6020280" cy="3386880"/>
            </a:xfrm>
            <a:prstGeom prst="rect">
              <a:avLst/>
            </a:pr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4" name="" descr=""/>
            <p:cNvPicPr/>
            <p:nvPr/>
          </p:nvPicPr>
          <p:blipFill>
            <a:blip r:embed="rId1"/>
            <a:stretch/>
          </p:blipFill>
          <p:spPr>
            <a:xfrm>
              <a:off x="1816200" y="3333240"/>
              <a:ext cx="6032520" cy="33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5" name=""/>
          <p:cNvGrpSpPr/>
          <p:nvPr/>
        </p:nvGrpSpPr>
        <p:grpSpPr>
          <a:xfrm>
            <a:off x="1892160" y="3257640"/>
            <a:ext cx="5435280" cy="711360"/>
            <a:chOff x="1892160" y="3257640"/>
            <a:chExt cx="5435280" cy="711360"/>
          </a:xfrm>
        </p:grpSpPr>
        <p:sp>
          <p:nvSpPr>
            <p:cNvPr id="496" name=""/>
            <p:cNvSpPr/>
            <p:nvPr/>
          </p:nvSpPr>
          <p:spPr>
            <a:xfrm>
              <a:off x="1892160" y="3257640"/>
              <a:ext cx="895680" cy="52524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2787480" y="3520080"/>
              <a:ext cx="6570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43760" y="3389040"/>
              <a:ext cx="3883680" cy="57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9933"/>
                  </a:solidFill>
                  <a:latin typeface="Tahoma"/>
                </a:rPr>
                <a:t>Probabilità di scarto dei pacchetti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095880" y="4483080"/>
            <a:ext cx="1765440" cy="2126880"/>
            <a:chOff x="6095880" y="4483080"/>
            <a:chExt cx="1765440" cy="2126880"/>
          </a:xfrm>
        </p:grpSpPr>
        <p:sp>
          <p:nvSpPr>
            <p:cNvPr id="500" name=""/>
            <p:cNvSpPr/>
            <p:nvPr/>
          </p:nvSpPr>
          <p:spPr>
            <a:xfrm>
              <a:off x="7174800" y="6105960"/>
              <a:ext cx="588240" cy="50400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076520" y="5428440"/>
              <a:ext cx="392040" cy="6300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95880" y="4483080"/>
              <a:ext cx="1765440" cy="10674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9933"/>
                  </a:solidFill>
                  <a:latin typeface="Tahoma"/>
                </a:rPr>
                <a:t>Lunghezza media della coda dei pacchetti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O: Funzione di scarto per i pacchetti IN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"/>
          <p:cNvSpPr/>
          <p:nvPr/>
        </p:nvSpPr>
        <p:spPr>
          <a:xfrm>
            <a:off x="1117440" y="2044800"/>
            <a:ext cx="738360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 valore medio stimato della lunghezza della c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irtuale dei pacchetti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= (1-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) m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q</a:t>
            </a:r>
            <a:r>
              <a:rPr b="0" i="1" lang="it-IT" sz="1400" spc="-1" strike="noStrike" baseline="-25000">
                <a:solidFill>
                  <a:srgbClr val="000000"/>
                </a:solidFill>
                <a:latin typeface="Tahoma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670-7169-4E43-83D4-1D7CE59537C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2031840" y="3073320"/>
            <a:ext cx="5702400" cy="3517560"/>
            <a:chOff x="2031840" y="3073320"/>
            <a:chExt cx="5702400" cy="3517560"/>
          </a:xfrm>
        </p:grpSpPr>
        <p:sp>
          <p:nvSpPr>
            <p:cNvPr id="506" name=""/>
            <p:cNvSpPr/>
            <p:nvPr/>
          </p:nvSpPr>
          <p:spPr>
            <a:xfrm>
              <a:off x="2043360" y="3073320"/>
              <a:ext cx="5690880" cy="34747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7" name="" descr=""/>
            <p:cNvPicPr/>
            <p:nvPr/>
          </p:nvPicPr>
          <p:blipFill>
            <a:blip r:embed="rId1"/>
            <a:stretch/>
          </p:blipFill>
          <p:spPr>
            <a:xfrm>
              <a:off x="2031840" y="3157560"/>
              <a:ext cx="5702400" cy="34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8" name=""/>
          <p:cNvGrpSpPr/>
          <p:nvPr/>
        </p:nvGrpSpPr>
        <p:grpSpPr>
          <a:xfrm>
            <a:off x="2120760" y="3105000"/>
            <a:ext cx="5046480" cy="687960"/>
            <a:chOff x="2120760" y="3105000"/>
            <a:chExt cx="5046480" cy="687960"/>
          </a:xfrm>
        </p:grpSpPr>
        <p:sp>
          <p:nvSpPr>
            <p:cNvPr id="509" name=""/>
            <p:cNvSpPr/>
            <p:nvPr/>
          </p:nvSpPr>
          <p:spPr>
            <a:xfrm>
              <a:off x="2120760" y="3105000"/>
              <a:ext cx="817200" cy="43308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2937600" y="3321360"/>
              <a:ext cx="599400" cy="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15760" y="3213000"/>
              <a:ext cx="3651480" cy="57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9933"/>
                  </a:solidFill>
                  <a:latin typeface="Tahoma"/>
                </a:rPr>
                <a:t>Probabilità di scarto dei pacchetti 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5956200" y="5029200"/>
            <a:ext cx="1689120" cy="1481040"/>
            <a:chOff x="5956200" y="5029200"/>
            <a:chExt cx="1689120" cy="1481040"/>
          </a:xfrm>
        </p:grpSpPr>
        <p:sp>
          <p:nvSpPr>
            <p:cNvPr id="513" name=""/>
            <p:cNvSpPr/>
            <p:nvPr/>
          </p:nvSpPr>
          <p:spPr>
            <a:xfrm>
              <a:off x="7073280" y="6077520"/>
              <a:ext cx="490320" cy="432720"/>
            </a:xfrm>
            <a:prstGeom prst="ellipse">
              <a:avLst/>
            </a:prstGeom>
            <a:noFill/>
            <a:ln w="28440">
              <a:solidFill>
                <a:srgbClr val="ff9933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91200" y="5495760"/>
              <a:ext cx="326880" cy="5407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56200" y="5029200"/>
              <a:ext cx="1689120" cy="823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9933"/>
                  </a:solidFill>
                  <a:latin typeface="Tahoma"/>
                </a:rPr>
                <a:t>Lunghezza media della co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2828880" y="5454720"/>
            <a:ext cx="2452680" cy="811080"/>
            <a:chOff x="2828880" y="5454720"/>
            <a:chExt cx="2452680" cy="811080"/>
          </a:xfrm>
        </p:grpSpPr>
        <p:sp>
          <p:nvSpPr>
            <p:cNvPr id="517" name=""/>
            <p:cNvSpPr/>
            <p:nvPr/>
          </p:nvSpPr>
          <p:spPr>
            <a:xfrm>
              <a:off x="3646440" y="6049440"/>
              <a:ext cx="0" cy="216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5281560" y="6049080"/>
              <a:ext cx="0" cy="21636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8880" y="5454720"/>
              <a:ext cx="2178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046320" y="4858920"/>
            <a:ext cx="2234880" cy="1190880"/>
            <a:chOff x="3046320" y="4858920"/>
            <a:chExt cx="2234880" cy="1190880"/>
          </a:xfrm>
        </p:grpSpPr>
        <p:sp>
          <p:nvSpPr>
            <p:cNvPr id="521" name=""/>
            <p:cNvSpPr/>
            <p:nvPr/>
          </p:nvSpPr>
          <p:spPr>
            <a:xfrm flipH="1">
              <a:off x="4027320" y="6049800"/>
              <a:ext cx="125388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3209400" y="6049800"/>
              <a:ext cx="435960" cy="0"/>
            </a:xfrm>
            <a:prstGeom prst="line">
              <a:avLst/>
            </a:prstGeom>
            <a:ln w="38160">
              <a:solidFill>
                <a:srgbClr val="0066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046320" y="4858920"/>
              <a:ext cx="0" cy="595080"/>
            </a:xfrm>
            <a:prstGeom prst="line">
              <a:avLst/>
            </a:prstGeom>
            <a:ln w="38160">
              <a:solidFill>
                <a:srgbClr val="0066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O: Funzione di scarto per i pacchetti OU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117440" y="2044800"/>
            <a:ext cx="73836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valore medio stimato della lunghezza della c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 = 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) m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3A9-CC48-434E-95ED-8F349B05BD4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WP2 – Task 2</a:t>
            </a:r>
            <a:br>
              <a:rPr sz="3200"/>
            </a:b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i di aggregati di flussi TCP e flussi         real-time per il calcolo delle prestazioni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sa è stato fatto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ello fluidico sorgenti TCP greedy e non, in una rete di router AQM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.Barbera, A. Lombardo, G. Schembra “</a:t>
            </a:r>
            <a:r>
              <a:rPr b="0" i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luid-Based Model of Time-Limited TCP Flows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Submitted to Computer 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ello fluidico di sorgenti modellabili con processi di Markov su un router RI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.Barbera, A. Lombardo, G. Schembra, C. A. Trecarichi“A Fluid-Flow Model of RIO Routers Loaded by Markov Modulated Fluid Processes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Submitted to Infocom 2004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a f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ello fluidico di sorgenti sottoposte a tecniche di policing basate su Token Bu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ello fluidico di sorgenti TCP  e TCP-Friendly, in ambiente DiffServ (RIO  e WR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7BB-20E0-459D-A1F4-4ADFE13627B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895320" y="3098880"/>
            <a:ext cx="1676520" cy="2438280"/>
            <a:chOff x="895320" y="3098880"/>
            <a:chExt cx="1676520" cy="2438280"/>
          </a:xfrm>
        </p:grpSpPr>
        <p:grpSp>
          <p:nvGrpSpPr>
            <p:cNvPr id="527" name=""/>
            <p:cNvGrpSpPr/>
            <p:nvPr/>
          </p:nvGrpSpPr>
          <p:grpSpPr>
            <a:xfrm>
              <a:off x="895320" y="3098880"/>
              <a:ext cx="1066680" cy="838080"/>
              <a:chOff x="895320" y="3098880"/>
              <a:chExt cx="1066680" cy="838080"/>
            </a:xfrm>
          </p:grpSpPr>
          <p:sp>
            <p:nvSpPr>
              <p:cNvPr id="528" name=""/>
              <p:cNvSpPr/>
              <p:nvPr/>
            </p:nvSpPr>
            <p:spPr>
              <a:xfrm>
                <a:off x="895320" y="3098880"/>
                <a:ext cx="1066680" cy="83808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047600" y="3371760"/>
                <a:ext cx="685800" cy="33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895320" y="4699080"/>
              <a:ext cx="1066680" cy="838080"/>
              <a:chOff x="895320" y="4699080"/>
              <a:chExt cx="1066680" cy="838080"/>
            </a:xfrm>
          </p:grpSpPr>
          <p:sp>
            <p:nvSpPr>
              <p:cNvPr id="531" name=""/>
              <p:cNvSpPr/>
              <p:nvPr/>
            </p:nvSpPr>
            <p:spPr>
              <a:xfrm>
                <a:off x="895320" y="4699080"/>
                <a:ext cx="1066680" cy="8380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71640" y="4971960"/>
                <a:ext cx="914400" cy="336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1962000" y="3479760"/>
              <a:ext cx="60984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62000" y="4622760"/>
              <a:ext cx="60984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828800" y="5613480"/>
            <a:ext cx="2590920" cy="990360"/>
            <a:chOff x="1828800" y="5613480"/>
            <a:chExt cx="2590920" cy="990360"/>
          </a:xfrm>
        </p:grpSpPr>
        <p:sp>
          <p:nvSpPr>
            <p:cNvPr id="536" name=""/>
            <p:cNvSpPr/>
            <p:nvPr/>
          </p:nvSpPr>
          <p:spPr>
            <a:xfrm>
              <a:off x="1828800" y="5613480"/>
              <a:ext cx="2590920" cy="990360"/>
            </a:xfrm>
            <a:prstGeom prst="cloudCallout">
              <a:avLst>
                <a:gd name="adj1" fmla="val -43689"/>
                <a:gd name="adj2" fmla="val -5224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cc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7" name=""/>
                <p:cNvSpPr txBox="1"/>
                <p:nvPr/>
              </p:nvSpPr>
              <p:spPr>
                <a:xfrm>
                  <a:off x="2193840" y="5842080"/>
                  <a:ext cx="187668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Λ</m:t>
                                  </m:r>
                                </m:e>
                              </m:ba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8" name=""/>
          <p:cNvGrpSpPr/>
          <p:nvPr/>
        </p:nvGrpSpPr>
        <p:grpSpPr>
          <a:xfrm>
            <a:off x="1828800" y="1879560"/>
            <a:ext cx="2286000" cy="990720"/>
            <a:chOff x="1828800" y="1879560"/>
            <a:chExt cx="2286000" cy="990720"/>
          </a:xfrm>
        </p:grpSpPr>
        <p:sp>
          <p:nvSpPr>
            <p:cNvPr id="539" name=""/>
            <p:cNvSpPr/>
            <p:nvPr/>
          </p:nvSpPr>
          <p:spPr>
            <a:xfrm>
              <a:off x="1828800" y="1879560"/>
              <a:ext cx="2286000" cy="990720"/>
            </a:xfrm>
            <a:prstGeom prst="cloudCallout">
              <a:avLst>
                <a:gd name="adj1" fmla="val -43750"/>
                <a:gd name="adj2" fmla="val 6971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99cc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0" name=""/>
                <p:cNvSpPr txBox="1"/>
                <p:nvPr/>
              </p:nvSpPr>
              <p:spPr>
                <a:xfrm>
                  <a:off x="2165400" y="2095560"/>
                  <a:ext cx="16002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Λ</m:t>
                                  </m:r>
                                </m:e>
                              </m:ba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1" name=""/>
          <p:cNvGrpSpPr/>
          <p:nvPr/>
        </p:nvGrpSpPr>
        <p:grpSpPr>
          <a:xfrm>
            <a:off x="2879640" y="3860640"/>
            <a:ext cx="5502240" cy="762120"/>
            <a:chOff x="2879640" y="3860640"/>
            <a:chExt cx="5502240" cy="762120"/>
          </a:xfrm>
        </p:grpSpPr>
        <p:grpSp>
          <p:nvGrpSpPr>
            <p:cNvPr id="542" name=""/>
            <p:cNvGrpSpPr/>
            <p:nvPr/>
          </p:nvGrpSpPr>
          <p:grpSpPr>
            <a:xfrm>
              <a:off x="2879640" y="4121280"/>
              <a:ext cx="1676520" cy="304560"/>
              <a:chOff x="2879640" y="4121280"/>
              <a:chExt cx="1676520" cy="304560"/>
            </a:xfrm>
          </p:grpSpPr>
          <p:sp>
            <p:nvSpPr>
              <p:cNvPr id="543" name=""/>
              <p:cNvSpPr/>
              <p:nvPr/>
            </p:nvSpPr>
            <p:spPr>
              <a:xfrm>
                <a:off x="3489120" y="4121280"/>
                <a:ext cx="457200" cy="304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879640" y="4121280"/>
                <a:ext cx="457200" cy="3045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98960" y="4121280"/>
                <a:ext cx="457200" cy="30456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4781520" y="428004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5391000" y="3860640"/>
              <a:ext cx="2990880" cy="762120"/>
              <a:chOff x="5391000" y="3860640"/>
              <a:chExt cx="2990880" cy="762120"/>
            </a:xfrm>
          </p:grpSpPr>
          <p:sp>
            <p:nvSpPr>
              <p:cNvPr id="548" name=""/>
              <p:cNvSpPr/>
              <p:nvPr/>
            </p:nvSpPr>
            <p:spPr>
              <a:xfrm>
                <a:off x="6076800" y="3860640"/>
                <a:ext cx="1371600" cy="7621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5391000" y="3860640"/>
                <a:ext cx="2990880" cy="762120"/>
                <a:chOff x="5391000" y="3860640"/>
                <a:chExt cx="2990880" cy="76212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5391000" y="3860640"/>
                  <a:ext cx="2438280" cy="762120"/>
                  <a:chOff x="5391000" y="3860640"/>
                  <a:chExt cx="2438280" cy="76212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5391000" y="3860640"/>
                    <a:ext cx="205740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5391000" y="4622760"/>
                    <a:ext cx="205740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74484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65340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63054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67626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69912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72198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6076800" y="386064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7448400" y="4089240"/>
                    <a:ext cx="380880" cy="3812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28440">
                    <a:solidFill>
                      <a:srgbClr val="000099"/>
                    </a:solidFill>
                    <a:miter/>
                  </a:ln>
                  <a:effectLst>
                    <a:outerShdw dist="17819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" name=""/>
                <p:cNvSpPr/>
                <p:nvPr/>
              </p:nvSpPr>
              <p:spPr>
                <a:xfrm>
                  <a:off x="7848720" y="428004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2" name=""/>
          <p:cNvSpPr/>
          <p:nvPr/>
        </p:nvSpPr>
        <p:spPr>
          <a:xfrm>
            <a:off x="4343400" y="2031840"/>
            <a:ext cx="4619520" cy="15094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99"/>
                </a:solidFill>
                <a:latin typeface="Garamond"/>
              </a:rPr>
              <a:t>Modello usato per le Sorgen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lang="it-IT" sz="3600" spc="-1" strike="noStrike">
                <a:solidFill>
                  <a:srgbClr val="ff6600"/>
                </a:solidFill>
                <a:latin typeface="Garamond"/>
              </a:rPr>
              <a:t>MMFP</a:t>
            </a:r>
            <a:r>
              <a:rPr b="1" lang="it-IT" sz="3200" spc="-1" strike="noStrike">
                <a:solidFill>
                  <a:srgbClr val="333399"/>
                </a:solidFill>
                <a:latin typeface="Garamond"/>
              </a:rPr>
              <a:t> </a:t>
            </a:r>
            <a:br>
              <a:rPr sz="3200"/>
            </a:b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(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M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arkov 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M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odulated 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F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luid 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P</a:t>
            </a:r>
            <a:r>
              <a:rPr b="1" lang="it-IT" sz="2200" spc="-1" strike="noStrike">
                <a:solidFill>
                  <a:srgbClr val="333399"/>
                </a:solidFill>
                <a:latin typeface="Garamond"/>
              </a:rPr>
              <a:t>roc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ISTEMA ANALIZZATO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3E6-1E95-4DF7-8FBC-B2F3E5D8412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895480" y="3581280"/>
            <a:ext cx="5486400" cy="762120"/>
            <a:chOff x="2895480" y="3581280"/>
            <a:chExt cx="5486400" cy="762120"/>
          </a:xfrm>
        </p:grpSpPr>
        <p:grpSp>
          <p:nvGrpSpPr>
            <p:cNvPr id="565" name=""/>
            <p:cNvGrpSpPr/>
            <p:nvPr/>
          </p:nvGrpSpPr>
          <p:grpSpPr>
            <a:xfrm>
              <a:off x="2895480" y="3828960"/>
              <a:ext cx="1676520" cy="304920"/>
              <a:chOff x="2895480" y="3828960"/>
              <a:chExt cx="1676520" cy="304920"/>
            </a:xfrm>
          </p:grpSpPr>
          <p:sp>
            <p:nvSpPr>
              <p:cNvPr id="566" name=""/>
              <p:cNvSpPr/>
              <p:nvPr/>
            </p:nvSpPr>
            <p:spPr>
              <a:xfrm>
                <a:off x="3504960" y="3828960"/>
                <a:ext cx="457200" cy="304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95480" y="3828960"/>
                <a:ext cx="457200" cy="304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114800" y="3828960"/>
                <a:ext cx="457200" cy="304920"/>
              </a:xfrm>
              <a:prstGeom prst="ellipse">
                <a:avLst/>
              </a:prstGeom>
              <a:solidFill>
                <a:srgbClr val="008000"/>
              </a:soli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4781520" y="4000680"/>
              <a:ext cx="533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5391000" y="3581280"/>
              <a:ext cx="2990880" cy="762120"/>
              <a:chOff x="5391000" y="3581280"/>
              <a:chExt cx="2990880" cy="762120"/>
            </a:xfrm>
          </p:grpSpPr>
          <p:sp>
            <p:nvSpPr>
              <p:cNvPr id="571" name=""/>
              <p:cNvSpPr/>
              <p:nvPr/>
            </p:nvSpPr>
            <p:spPr>
              <a:xfrm>
                <a:off x="6076800" y="3581280"/>
                <a:ext cx="1371600" cy="762120"/>
              </a:xfrm>
              <a:prstGeom prst="rect">
                <a:avLst/>
              </a:prstGeom>
              <a:solidFill>
                <a:srgbClr val="3399ff"/>
              </a:solidFill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5391000" y="3581280"/>
                <a:ext cx="2990880" cy="762120"/>
                <a:chOff x="5391000" y="3581280"/>
                <a:chExt cx="2990880" cy="762120"/>
              </a:xfrm>
            </p:grpSpPr>
            <p:grpSp>
              <p:nvGrpSpPr>
                <p:cNvPr id="573" name=""/>
                <p:cNvGrpSpPr/>
                <p:nvPr/>
              </p:nvGrpSpPr>
              <p:grpSpPr>
                <a:xfrm>
                  <a:off x="5391000" y="3581280"/>
                  <a:ext cx="2438280" cy="762120"/>
                  <a:chOff x="5391000" y="3581280"/>
                  <a:chExt cx="2438280" cy="76212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>
                    <a:off x="5391000" y="3581280"/>
                    <a:ext cx="205740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5391000" y="4343400"/>
                    <a:ext cx="2057400" cy="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74484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65340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63054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67626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69912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72198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6076800" y="3581280"/>
                    <a:ext cx="0" cy="762120"/>
                  </a:xfrm>
                  <a:prstGeom prst="line">
                    <a:avLst/>
                  </a:prstGeom>
                  <a:ln w="28440">
                    <a:solidFill>
                      <a:srgbClr val="0000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7448400" y="3809880"/>
                    <a:ext cx="380880" cy="381240"/>
                  </a:xfrm>
                  <a:prstGeom prst="ellipse">
                    <a:avLst/>
                  </a:prstGeom>
                  <a:solidFill>
                    <a:srgbClr val="3399ff"/>
                  </a:solidFill>
                  <a:ln w="28440">
                    <a:solidFill>
                      <a:srgbClr val="000099"/>
                    </a:solidFill>
                    <a:miter/>
                  </a:ln>
                  <a:effectLst>
                    <a:outerShdw dist="17819" dir="2700000" blurRad="0" rotWithShape="0">
                      <a:srgbClr val="1c1c1c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7848720" y="4000680"/>
                  <a:ext cx="533160" cy="0"/>
                </a:xfrm>
                <a:prstGeom prst="line">
                  <a:avLst/>
                </a:prstGeom>
                <a:ln w="2844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5" name=""/>
          <p:cNvGrpSpPr/>
          <p:nvPr/>
        </p:nvGrpSpPr>
        <p:grpSpPr>
          <a:xfrm>
            <a:off x="1905120" y="2006640"/>
            <a:ext cx="3771720" cy="1270080"/>
            <a:chOff x="1905120" y="2006640"/>
            <a:chExt cx="3771720" cy="1270080"/>
          </a:xfrm>
        </p:grpSpPr>
        <p:sp>
          <p:nvSpPr>
            <p:cNvPr id="586" name=""/>
            <p:cNvSpPr/>
            <p:nvPr/>
          </p:nvSpPr>
          <p:spPr>
            <a:xfrm>
              <a:off x="1905120" y="2006640"/>
              <a:ext cx="3771720" cy="1270080"/>
            </a:xfrm>
            <a:prstGeom prst="cloudCallout">
              <a:avLst>
                <a:gd name="adj1" fmla="val -47097"/>
                <a:gd name="adj2" fmla="val 69249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cc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2266920" y="2303640"/>
                  <a:ext cx="29592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p>
                            <m:e>
                              <m:r>
                                <m:t xml:space="preserve">ℑ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Q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Λ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88" name=""/>
          <p:cNvGrpSpPr/>
          <p:nvPr/>
        </p:nvGrpSpPr>
        <p:grpSpPr>
          <a:xfrm>
            <a:off x="228600" y="3473280"/>
            <a:ext cx="2437920" cy="990360"/>
            <a:chOff x="228600" y="3473280"/>
            <a:chExt cx="2437920" cy="990360"/>
          </a:xfrm>
        </p:grpSpPr>
        <p:grpSp>
          <p:nvGrpSpPr>
            <p:cNvPr id="589" name=""/>
            <p:cNvGrpSpPr/>
            <p:nvPr/>
          </p:nvGrpSpPr>
          <p:grpSpPr>
            <a:xfrm>
              <a:off x="228600" y="3473280"/>
              <a:ext cx="1752480" cy="990360"/>
              <a:chOff x="228600" y="3473280"/>
              <a:chExt cx="1752480" cy="990360"/>
            </a:xfrm>
          </p:grpSpPr>
          <p:sp>
            <p:nvSpPr>
              <p:cNvPr id="590" name=""/>
              <p:cNvSpPr/>
              <p:nvPr/>
            </p:nvSpPr>
            <p:spPr>
              <a:xfrm>
                <a:off x="228600" y="3473280"/>
                <a:ext cx="1752480" cy="9903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008000"/>
                  </a:gs>
                </a:gsLst>
                <a:lin ang="10800000"/>
              </a:gradFill>
              <a:ln w="9360">
                <a:solidFill>
                  <a:srgbClr val="000099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04560" y="3616200"/>
                <a:ext cx="1599840" cy="738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Aggregat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IN/OU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981080" y="4006440"/>
              <a:ext cx="6854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80880" y="5257800"/>
            <a:ext cx="83822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’insieme delle due sorgenti può essere sostituito da un unico blocco che ne rappresenta l’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aggreg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ISTEMA ANALIZZATO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EAD-4458-484F-98D8-63D25A81A4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406520" y="2259000"/>
                <a:ext cx="6885000" cy="436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q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"/>
                            </m:dPr>
                            <m:e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</m:t>
                                    </m:r>
                                  </m:e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r>
                                      <m:t xml:space="preserve">&lt;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  <m:e>
                                    <m:r>
                                      <m:t xml:space="preserve">e</m:t>
                                    </m:r>
                                  </m:e>
                                  <m:e>
                                    <m:r>
                                      <m:t xml:space="preserve">q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p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</m:d>
                                      </m:e>
                                    </m:d>
                                    <m:r>
                                      <m:t xml:space="preserve">⋅</m:t>
                                    </m:r>
                                    <m:r>
                                      <m:t xml:space="preserve">λ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ltrimenti</m:t>
                                    </m:r>
                                  </m:e>
                                  <m:e/>
                                  <m:e/>
                                </m:mr>
                              </m:m>
                            </m:e>
                          </m:d>
                        </m:e>
                      </m:mr>
                      <m:mr>
                        <m:e/>
                      </m:mr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m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 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den>
                          </m:f>
                          <m:r>
                            <m:t xml:space="preserve">C</m:t>
                          </m:r>
                        </m:e>
                      </m:mr>
                      <m:mr>
                        <m:e/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λ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α</m:t>
                              </m:r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</m:e>
                      </m:mr>
                      <m:mr>
                        <m:e/>
                      </m:mr>
                      <m:mr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⋅</m:t>
                          </m:r>
                          <m:sSubSup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  <m:sup>
                              <m:r>
                                <m:t xml:space="preserve">e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acc>
                                <m:accPr>
                                  <m:chr m:val="^"/>
                                </m:accPr>
                                <m:e>
                                  <m:r>
                                    <m:t xml:space="preserve">p</m:t>
                                  </m:r>
                                </m:e>
                              </m:acc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m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  <m:sup>
                                  <m:r>
                                    <m:t xml:space="preserve">e</m:t>
                                  </m:r>
                                </m:sup>
                              </m:sSub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d>
                          <m:r>
                            <m:t xml:space="preserve"> </m:t>
                          </m:r>
                          <m:sSubSup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  <m:sup>
                              <m:r>
                                <m:t xml:space="preserve">e</m:t>
                              </m:r>
                            </m:sup>
                          </m:sSub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t</m:t>
                                  </m:r>
                                </m:e>
                              </m:d>
                            </m:num>
                            <m:den>
                              <m:r>
                                <m:t xml:space="preserve">λ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596" name=""/>
          <p:cNvGrpSpPr/>
          <p:nvPr/>
        </p:nvGrpSpPr>
        <p:grpSpPr>
          <a:xfrm>
            <a:off x="1346040" y="1765440"/>
            <a:ext cx="6260760" cy="4775040"/>
            <a:chOff x="1346040" y="1765440"/>
            <a:chExt cx="6260760" cy="4775040"/>
          </a:xfrm>
        </p:grpSpPr>
        <p:grpSp>
          <p:nvGrpSpPr>
            <p:cNvPr id="597" name=""/>
            <p:cNvGrpSpPr/>
            <p:nvPr/>
          </p:nvGrpSpPr>
          <p:grpSpPr>
            <a:xfrm>
              <a:off x="1346040" y="2270160"/>
              <a:ext cx="851040" cy="4270320"/>
              <a:chOff x="1346040" y="2270160"/>
              <a:chExt cx="851040" cy="4270320"/>
            </a:xfrm>
          </p:grpSpPr>
          <p:sp>
            <p:nvSpPr>
              <p:cNvPr id="598" name=""/>
              <p:cNvSpPr/>
              <p:nvPr/>
            </p:nvSpPr>
            <p:spPr>
              <a:xfrm>
                <a:off x="1479600" y="2270160"/>
                <a:ext cx="457200" cy="38088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346040" y="6095880"/>
                <a:ext cx="495360" cy="44460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486080" y="4140360"/>
                <a:ext cx="711000" cy="41904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488960" y="3203640"/>
                <a:ext cx="466920" cy="38088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498680" y="5041800"/>
                <a:ext cx="685800" cy="432000"/>
              </a:xfrm>
              <a:prstGeom prst="ellipse">
                <a:avLst/>
              </a:prstGeom>
              <a:noFill/>
              <a:ln w="28440">
                <a:solidFill>
                  <a:srgbClr val="ff6600"/>
                </a:solidFill>
                <a:miter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1778040" y="1765440"/>
              <a:ext cx="5828760" cy="4406400"/>
              <a:chOff x="1778040" y="1765440"/>
              <a:chExt cx="5828760" cy="4406400"/>
            </a:xfrm>
          </p:grpSpPr>
          <p:sp>
            <p:nvSpPr>
              <p:cNvPr id="604" name=""/>
              <p:cNvSpPr/>
              <p:nvPr/>
            </p:nvSpPr>
            <p:spPr>
              <a:xfrm flipV="1">
                <a:off x="1931040" y="1997280"/>
                <a:ext cx="2607480" cy="4636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1931040" y="1996920"/>
                <a:ext cx="2607480" cy="139140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084760" y="1997280"/>
                <a:ext cx="2454120" cy="224208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2161080" y="1996920"/>
                <a:ext cx="2377440" cy="324684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1778040" y="1997280"/>
                <a:ext cx="2760840" cy="417456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538880" y="1765440"/>
                <a:ext cx="3067920" cy="3848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6600"/>
                    </a:solidFill>
                    <a:latin typeface="Tahoma"/>
                  </a:rPr>
                  <a:t>Processi Stocastic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CARATTERISTICHE RIO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04C-5A62-4F86-93C1-986E8337719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ESCRIZIONE STATISTIC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028880" y="2108160"/>
            <a:ext cx="7416720" cy="1495440"/>
            <a:chOff x="1028880" y="2108160"/>
            <a:chExt cx="7416720" cy="1495440"/>
          </a:xfrm>
        </p:grpSpPr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1214280" y="2822400"/>
                  <a:ext cx="6913800" cy="7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s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e>
                      </m:d>
                      <m:r>
                        <m:rPr>
                          <m:lit/>
                          <m:nor/>
                        </m:rPr>
                        <m:t xml:space="preserve">Prob</m:t>
                      </m:r>
                      <m:eqArr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r>
                                <m:t xml:space="preserve">y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  <m:e/>
                          </m:d>
                        </m:e>
                      </m:eqArr>
                      <m:d>
                        <m:dPr>
                          <m:begChr m:val="{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"/>
            <p:cNvSpPr/>
            <p:nvPr/>
          </p:nvSpPr>
          <p:spPr>
            <a:xfrm>
              <a:off x="1028880" y="2108160"/>
              <a:ext cx="741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 descrizione statistica completa del sistema si può avere se si conosc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041480" y="3886200"/>
            <a:ext cx="7429320" cy="1960920"/>
            <a:chOff x="1041480" y="3886200"/>
            <a:chExt cx="7429320" cy="1960920"/>
          </a:xfrm>
        </p:grpSpPr>
        <p:sp>
          <p:nvSpPr>
            <p:cNvPr id="616" name=""/>
            <p:cNvSpPr/>
            <p:nvPr/>
          </p:nvSpPr>
          <p:spPr>
            <a:xfrm>
              <a:off x="1054080" y="3886200"/>
              <a:ext cx="74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 definizione si h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2433600" y="4511520"/>
              <a:ext cx="4448160" cy="7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1041480" y="5448240"/>
              <a:ext cx="74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sse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2104920" y="5478480"/>
                  <a:ext cx="21322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bot"/>
                        </m:barPr>
                        <m:e>
                          <m:r>
                            <m:t xml:space="preserve">w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N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7F8-857C-4F93-B4EA-7852BB6275B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ESCRIZIONE STATISTIC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224000" y="1981080"/>
            <a:ext cx="7058160" cy="1008720"/>
            <a:chOff x="1224000" y="1981080"/>
            <a:chExt cx="7058160" cy="1008720"/>
          </a:xfrm>
        </p:grpSpPr>
        <p:sp>
          <p:nvSpPr>
            <p:cNvPr id="622" name=""/>
            <p:cNvSpPr/>
            <p:nvPr/>
          </p:nvSpPr>
          <p:spPr>
            <a:xfrm>
              <a:off x="3581280" y="1981080"/>
              <a:ext cx="2298960" cy="1008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Equazioni caratteristiche router R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3" name=""/>
                <p:cNvSpPr txBox="1"/>
                <p:nvPr/>
              </p:nvSpPr>
              <p:spPr>
                <a:xfrm>
                  <a:off x="1224000" y="2295360"/>
                  <a:ext cx="14828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s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+</m:t>
                          </m:r>
                          <m:r>
                            <m:t xml:space="preserve">Δt</m:t>
                          </m:r>
                          <m:r>
                            <m:t xml:space="preserve">,</m:t>
                          </m:r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4" name=""/>
            <p:cNvSpPr/>
            <p:nvPr/>
          </p:nvSpPr>
          <p:spPr>
            <a:xfrm>
              <a:off x="2806560" y="2349360"/>
              <a:ext cx="774720" cy="279720"/>
            </a:xfrm>
            <a:prstGeom prst="rightArrow">
              <a:avLst>
                <a:gd name="adj1" fmla="val 50000"/>
                <a:gd name="adj2" fmla="val 6924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5" name=""/>
                <p:cNvSpPr txBox="1"/>
                <p:nvPr/>
              </p:nvSpPr>
              <p:spPr>
                <a:xfrm>
                  <a:off x="6799320" y="2295360"/>
                  <a:ext cx="14828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s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bar>
                            <m:barPr>
                              <m:pos m:val="bot"/>
                            </m:barP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bar>
                          <m:r>
                            <m:t xml:space="preserve">(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"/>
            <p:cNvSpPr/>
            <p:nvPr/>
          </p:nvSpPr>
          <p:spPr>
            <a:xfrm>
              <a:off x="5880240" y="2349360"/>
              <a:ext cx="774720" cy="279720"/>
            </a:xfrm>
            <a:prstGeom prst="rightArrow">
              <a:avLst>
                <a:gd name="adj1" fmla="val 50000"/>
                <a:gd name="adj2" fmla="val 69241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65200" y="3479760"/>
            <a:ext cx="7569000" cy="800280"/>
            <a:chOff x="565200" y="3479760"/>
            <a:chExt cx="7569000" cy="800280"/>
          </a:xfrm>
        </p:grpSpPr>
        <mc:AlternateContent>
          <mc:Choice xmlns:a14="http://schemas.microsoft.com/office/drawing/2010/main" Requires="a14">
            <p:sp>
              <p:nvSpPr>
                <p:cNvPr id="628" name=""/>
                <p:cNvSpPr txBox="1"/>
                <p:nvPr/>
              </p:nvSpPr>
              <p:spPr>
                <a:xfrm>
                  <a:off x="565200" y="3521160"/>
                  <a:ext cx="310356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lim>
                      </m:limLow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bar>
                                <m:barPr>
                                  <m:pos m:val="bot"/>
                                </m:barPr>
                                <m:e>
                                  <m:sSup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bar>
                              <m:r>
                                <m:t xml:space="preserve">(</m:t>
                              </m:r>
                              <m:r>
                                <m:t xml:space="preserve">Δ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</m:e>
                          </m:d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9" name=""/>
            <p:cNvSpPr/>
            <p:nvPr/>
          </p:nvSpPr>
          <p:spPr>
            <a:xfrm>
              <a:off x="3809880" y="3479760"/>
              <a:ext cx="1968480" cy="800280"/>
            </a:xfrm>
            <a:prstGeom prst="rightArrow">
              <a:avLst>
                <a:gd name="adj1" fmla="val 50000"/>
                <a:gd name="adj2" fmla="val 61493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De L’Hop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5802480" y="3479760"/>
                  <a:ext cx="2331720" cy="74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dΔt</m:t>
                          </m:r>
                        </m:den>
                      </m:f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s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bar>
                            <m:barPr>
                              <m:pos m:val="bot"/>
                            </m:barP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bar>
                          <m:r>
                            <m:t xml:space="preserve">(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</m:d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Δt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1" name=""/>
          <p:cNvGrpSpPr/>
          <p:nvPr/>
        </p:nvGrpSpPr>
        <p:grpSpPr>
          <a:xfrm>
            <a:off x="674640" y="4648320"/>
            <a:ext cx="5199120" cy="1295280"/>
            <a:chOff x="674640" y="4648320"/>
            <a:chExt cx="5199120" cy="1295280"/>
          </a:xfrm>
        </p:grpSpPr>
        <p:sp>
          <p:nvSpPr>
            <p:cNvPr id="632" name=""/>
            <p:cNvSpPr/>
            <p:nvPr/>
          </p:nvSpPr>
          <p:spPr>
            <a:xfrm>
              <a:off x="698400" y="4686480"/>
              <a:ext cx="2590920" cy="1257120"/>
            </a:xfrm>
            <a:prstGeom prst="rightArrowCallout">
              <a:avLst>
                <a:gd name="adj1" fmla="val 25002"/>
                <a:gd name="adj2" fmla="val 25000"/>
                <a:gd name="adj3" fmla="val 34350"/>
                <a:gd name="adj4" fmla="val 66667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74640" y="4648320"/>
              <a:ext cx="1727280" cy="1229760"/>
              <a:chOff x="674640" y="4648320"/>
              <a:chExt cx="1727280" cy="1229760"/>
            </a:xfrm>
          </p:grpSpPr>
          <p:sp>
            <p:nvSpPr>
              <p:cNvPr id="634" name=""/>
              <p:cNvSpPr/>
              <p:nvPr/>
            </p:nvSpPr>
            <p:spPr>
              <a:xfrm>
                <a:off x="674640" y="4648320"/>
                <a:ext cx="172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A reg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5" name=""/>
                  <p:cNvSpPr txBox="1"/>
                  <p:nvPr/>
                </p:nvSpPr>
                <p:spPr>
                  <a:xfrm>
                    <a:off x="780840" y="5167080"/>
                    <a:ext cx="1513080" cy="711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636" name=""/>
                <p:cNvSpPr txBox="1"/>
                <p:nvPr/>
              </p:nvSpPr>
              <p:spPr>
                <a:xfrm>
                  <a:off x="3311640" y="4913280"/>
                  <a:ext cx="256212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</m:num>
                        <m:den>
                          <m:r>
                            <m:t xml:space="preserve">dΔt</m:t>
                          </m:r>
                        </m:den>
                      </m:f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sSub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s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bar>
                            <m:barPr>
                              <m:pos m:val="bot"/>
                            </m:barPr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bar>
                          <m:r>
                            <m:t xml:space="preserve">(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</m:e>
                      </m:d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t xml:space="preserve">Δt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7" name=""/>
          <p:cNvGrpSpPr/>
          <p:nvPr/>
        </p:nvGrpSpPr>
        <p:grpSpPr>
          <a:xfrm>
            <a:off x="4622760" y="5530680"/>
            <a:ext cx="4343400" cy="969480"/>
            <a:chOff x="4622760" y="5530680"/>
            <a:chExt cx="4343400" cy="969480"/>
          </a:xfrm>
        </p:grpSpPr>
        <p:sp>
          <p:nvSpPr>
            <p:cNvPr id="638" name=""/>
            <p:cNvSpPr/>
            <p:nvPr/>
          </p:nvSpPr>
          <p:spPr>
            <a:xfrm>
              <a:off x="5689440" y="5530680"/>
              <a:ext cx="3276720" cy="96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ahoma"/>
                </a:rPr>
                <a:t>Sistema di N equazioni integro-differenzi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4622760" y="5549760"/>
              <a:ext cx="1054080" cy="254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B10-BAC3-4E70-A35D-EC15E198EA4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673200" y="2158920"/>
                <a:ext cx="8229600" cy="410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j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i</m:t>
                                        </m:r>
                                      </m:e>
                                    </m:d>
                                  </m:sub>
                                </m:sSub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m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sepChr m:val="∞"/>
                                        <m:endChr m:val=")"/>
                                      </m:dPr>
                                    </m:d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</m:e>
                        </m:d>
                        <m:f>
                          <m:num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m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sepChr m:val="∞"/>
                                    <m:endChr m:val=")"/>
                                  </m:dPr>
                                </m:d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f>
                          <m:num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m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sepChr m:val="∞"/>
                                    <m:endChr m:val=")"/>
                                  </m:dPr>
                                </m:d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  <m:f>
                          <m:num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m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sepChr m:val="∞"/>
                                    <m:endChr m:val=")"/>
                                  </m:dPr>
                                </m:d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∂</m:t>
                            </m:r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mq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i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sepChr m:val="∞"/>
                                    <m:endChr m:val=")"/>
                                  </m:dPr>
                                </m:d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m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sepChr m:val="∞"/>
                                        <m:endChr m:val=")"/>
                                      </m:dPr>
                                    </m:d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nary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e>
                        </m:d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m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sepChr m:val="∞"/>
                                        <m:endChr m:val=")"/>
                                      </m:dPr>
                                    </m:d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C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den>
                            </m:f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m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sepChr m:val="∞"/>
                                        <m:endChr m:val=")"/>
                                      </m:dPr>
                                    </m:d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p>
                        </m:sSub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qmq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sepChr m:val="∞"/>
                                        <m:endChr m:val=")"/>
                                      </m:dPr>
                                    </m:d>
                                  </m:sup>
                                </m:sSub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e>
                                </m:d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∂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qmq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sepChr m:val="∞"/>
                                            <m:endChr m:val=")"/>
                                          </m:dPr>
                                        </m:d>
                                      </m:sup>
                                    </m:sSub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acc>
                                          <m:accPr>
                                            <m:chr m:val="~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acc>
                                              <m:accPr>
                                                <m:chr m:val="~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∂</m:t>
                                    </m:r>
                                    <m:r>
                                      <m:t xml:space="preserve">y</m:t>
                                    </m:r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  <m:r>
                          <m:t xml:space="preserve">d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d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41" name=""/>
          <p:cNvGrpSpPr/>
          <p:nvPr/>
        </p:nvGrpSpPr>
        <p:grpSpPr>
          <a:xfrm>
            <a:off x="1362240" y="2050920"/>
            <a:ext cx="6041880" cy="3915000"/>
            <a:chOff x="1362240" y="2050920"/>
            <a:chExt cx="6041880" cy="3915000"/>
          </a:xfrm>
        </p:grpSpPr>
        <p:sp>
          <p:nvSpPr>
            <p:cNvPr id="642" name=""/>
            <p:cNvSpPr/>
            <p:nvPr/>
          </p:nvSpPr>
          <p:spPr>
            <a:xfrm>
              <a:off x="1676520" y="281952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33600" y="225756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00880" y="281952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91320" y="349236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62240" y="348624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203560" y="4162320"/>
              <a:ext cx="83808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245280" y="4178160"/>
              <a:ext cx="84780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175440" y="4844880"/>
              <a:ext cx="84780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71720" y="4819680"/>
              <a:ext cx="84780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95680" y="5508720"/>
              <a:ext cx="847800" cy="45720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1720" y="2050920"/>
              <a:ext cx="3362400" cy="38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6600"/>
                  </a:solidFill>
                  <a:latin typeface="Tahoma"/>
                </a:rPr>
                <a:t>Funzione Incogn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247480" y="2459160"/>
              <a:ext cx="3202200" cy="3222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50040" y="2459160"/>
              <a:ext cx="361800" cy="3333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SISTEMA DI EQUAZIONI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C2F-3631-4637-A14C-35C1BE35D80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876240" y="2476440"/>
            <a:ext cx="7925040" cy="67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sistema di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equazioni integro-differenziali alle derivate parziali in 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 incog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76240" y="3844800"/>
            <a:ext cx="3200400" cy="677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ahoma"/>
              </a:rPr>
              <a:t>Condizioni al Con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626000" y="3772080"/>
            <a:ext cx="685800" cy="457200"/>
            <a:chOff x="4626000" y="3772080"/>
            <a:chExt cx="685800" cy="457200"/>
          </a:xfrm>
        </p:grpSpPr>
        <p:sp>
          <p:nvSpPr>
            <p:cNvPr id="659" name=""/>
            <p:cNvSpPr/>
            <p:nvPr/>
          </p:nvSpPr>
          <p:spPr>
            <a:xfrm>
              <a:off x="4746960" y="3772080"/>
              <a:ext cx="457200" cy="45720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626000" y="3772080"/>
              <a:ext cx="685800" cy="43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4184640" y="3238560"/>
            <a:ext cx="1035000" cy="1022400"/>
            <a:chOff x="4184640" y="3238560"/>
            <a:chExt cx="1035000" cy="1022400"/>
          </a:xfrm>
        </p:grpSpPr>
        <p:sp>
          <p:nvSpPr>
            <p:cNvPr id="662" name=""/>
            <p:cNvSpPr/>
            <p:nvPr/>
          </p:nvSpPr>
          <p:spPr>
            <a:xfrm>
              <a:off x="4762440" y="3238560"/>
              <a:ext cx="457200" cy="441360"/>
            </a:xfrm>
            <a:prstGeom prst="downArrow">
              <a:avLst>
                <a:gd name="adj1" fmla="val 50000"/>
                <a:gd name="adj2" fmla="val 2822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6200000">
              <a:off x="4176360" y="3811680"/>
              <a:ext cx="457200" cy="441000"/>
            </a:xfrm>
            <a:prstGeom prst="downArrow">
              <a:avLst>
                <a:gd name="adj1" fmla="val 50000"/>
                <a:gd name="adj2" fmla="val 28222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876240" y="3772080"/>
            <a:ext cx="8076960" cy="2059560"/>
            <a:chOff x="876240" y="3772080"/>
            <a:chExt cx="8076960" cy="2059560"/>
          </a:xfrm>
        </p:grpSpPr>
        <p:grpSp>
          <p:nvGrpSpPr>
            <p:cNvPr id="665" name=""/>
            <p:cNvGrpSpPr/>
            <p:nvPr/>
          </p:nvGrpSpPr>
          <p:grpSpPr>
            <a:xfrm>
              <a:off x="876240" y="3879360"/>
              <a:ext cx="8076960" cy="1952280"/>
              <a:chOff x="876240" y="3879360"/>
              <a:chExt cx="8076960" cy="195228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876240" y="4890600"/>
                <a:ext cx="8076960" cy="941040"/>
                <a:chOff x="876240" y="4890600"/>
                <a:chExt cx="8076960" cy="9410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876240" y="4890600"/>
                  <a:ext cx="8076960" cy="94104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7819" dir="2700000" blurRad="0" rotWithShape="0">
                    <a:srgbClr val="1c1c1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68" name=""/>
                    <p:cNvSpPr txBox="1"/>
                    <p:nvPr/>
                  </p:nvSpPr>
                  <p:spPr>
                    <a:xfrm>
                      <a:off x="1014120" y="5098320"/>
                      <a:ext cx="7775640" cy="4647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qmq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sepChr m:val="∞"/>
                                            <m:endChr m:val=")"/>
                                          </m:dPr>
                                        </m:d>
                                      </m:sup>
                                    </m:sSub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,y,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qmq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sepChr m:val="∞"/>
                                            <m:endChr m:val=")"/>
                                          </m:dPr>
                                        </m:d>
                                      </m:sup>
                                    </m:sSub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,y,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qmq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d>
                                          <m:dPr>
                                            <m:begChr m:val="("/>
                                            <m:sepChr m:val="∞"/>
                                            <m:endChr m:val=")"/>
                                          </m:dPr>
                                        </m:d>
                                      </m:sup>
                                    </m:sSub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,y,x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,y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mr>
                              </m:m>
                            </m:e>
                          </m:d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669" name=""/>
              <p:cNvSpPr/>
              <p:nvPr/>
            </p:nvSpPr>
            <p:spPr>
              <a:xfrm flipV="1">
                <a:off x="5343480" y="3879000"/>
                <a:ext cx="990360" cy="837720"/>
              </a:xfrm>
              <a:custGeom>
                <a:avLst/>
                <a:gdLst>
                  <a:gd name="textAreaLeft" fmla="*/ 339480 w 990360"/>
                  <a:gd name="textAreaRight" fmla="*/ 861840 w 990360"/>
                  <a:gd name="textAreaTop" fmla="*/ 470880 h 837720"/>
                  <a:gd name="textAreaBottom" fmla="*/ 729000 h 83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948"/>
                    </a:moveTo>
                    <a:lnTo>
                      <a:pt x="12144" y="14948"/>
                    </a:lnTo>
                    <a:lnTo>
                      <a:pt x="12144" y="7404"/>
                    </a:lnTo>
                    <a:lnTo>
                      <a:pt x="9340" y="7404"/>
                    </a:lnTo>
                    <a:lnTo>
                      <a:pt x="15470" y="0"/>
                    </a:lnTo>
                    <a:lnTo>
                      <a:pt x="21600" y="7404"/>
                    </a:lnTo>
                    <a:lnTo>
                      <a:pt x="18796" y="7404"/>
                    </a:lnTo>
                    <a:lnTo>
                      <a:pt x="18796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1c1c1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6210000" y="3772080"/>
              <a:ext cx="2210040" cy="67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99"/>
                  </a:solidFill>
                  <a:latin typeface="Tahoma"/>
                </a:rPr>
                <a:t>Metodo degli Elementi Fini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multimediali in un   router RIO</a:t>
            </a:r>
            <a:r>
              <a:rPr b="1" lang="it-IT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20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RISOLUZIONE SISTEMA DI EQUAZIONI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ACC-CEC9-4CA9-B08E-2FA4C6A5FB2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WP2 – Task 3</a:t>
            </a:r>
            <a:br>
              <a:rPr sz="3200"/>
            </a:br>
            <a:r>
              <a:rPr b="1" lang="ar-SA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i di controllo del traffico ad anello chiuso</a:t>
            </a:r>
            <a:endParaRPr b="1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a f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li analitici di sorgenti di traffico multimediale e dati con retroazione end-to-end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lo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BBP 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er la banda disponibile alla sorgente, legato ai feedback che la sorgente riceve dal suo destinatario in base alle condizioni di congestione che il flusso dati trova in r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e modello verrà utilizzato come modello del servente della coda di trasmissione della sorgente video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dell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 SBBP retroazionato (rSBBP) per</a:t>
            </a:r>
            <a:r>
              <a:rPr b="0" lang="ar-S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la sorgente video retroazionata dallo stato del buffer di trasmissione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539-A4C0-4398-BFB4-24A35B34261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WP2 – Task 4</a:t>
            </a:r>
            <a:br>
              <a:rPr sz="3200"/>
            </a:br>
            <a:r>
              <a:rPr b="1" lang="ar-SA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i per la simulazione di reti IP multiservizio</a:t>
            </a:r>
            <a:r>
              <a:rPr b="1" lang="it-IT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182600" y="2233080"/>
            <a:ext cx="7772400" cy="38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sa è stato fatto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u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sorgenti video MPEG (adattative e n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u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sorgenti video H263+ non adatta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u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controllo di congestione RAP e TFRC che possono essere pilotati da moduli sorgente autono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www.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diit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unict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.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it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/arti/NS2-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modules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.</a:t>
            </a:r>
            <a:r>
              <a:rPr b="0" lang="it-IT" sz="20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ht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a f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u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nuove tecniche AQM sviluppate in WP1-task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Modulo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n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 algoritmi di scheduling con curve di serviz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B143-21EE-4A7A-A00C-0E4E14B22C7E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CARATTERISTICHE SALIENTI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240" y="2238120"/>
            <a:ext cx="733428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stema di equazioni differenziali che legano i valori medi nel tempo dei processi presi in considerazione (window length, queue size, …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ermette di valutare le performance sia in transitorio che steady-st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eparabilità tra il modello delle sorgenti ed il modello della re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dotto carico computaziona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8AC-CBA2-4061-98A3-576CBCAA04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OTENZIALIT</a:t>
            </a: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ahoma"/>
              </a:rPr>
              <a:t>À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240" y="2238120"/>
            <a:ext cx="733428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orgenti TC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ggregati e singoli flus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verse versioni TCP (Tahoe, Reno, NewRen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orgenti greedy e sorgenti a durata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lgoritmo di Slow St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e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opologie comunque comples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ink bottleneck e n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fferenti politiche di AQ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B310-2978-43BA-98A2-E77919F778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NOTAZION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35040" y="2044800"/>
            <a:ext cx="8166240" cy="2790360"/>
            <a:chOff x="635040" y="2044800"/>
            <a:chExt cx="8166240" cy="279036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1357200" y="2481120"/>
                  <a:ext cx="46044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357200" y="2836800"/>
                  <a:ext cx="39528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1357200" y="3368520"/>
                  <a:ext cx="446040" cy="279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1357200" y="3722400"/>
                  <a:ext cx="4352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"/>
                <p:cNvSpPr txBox="1"/>
                <p:nvPr/>
              </p:nvSpPr>
              <p:spPr>
                <a:xfrm>
                  <a:off x="1357200" y="4024080"/>
                  <a:ext cx="55080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"/>
            <p:cNvSpPr/>
            <p:nvPr/>
          </p:nvSpPr>
          <p:spPr>
            <a:xfrm>
              <a:off x="635040" y="2044800"/>
              <a:ext cx="8166240" cy="27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Si considerino N flussi TCP per i = 1,2,…,N e sian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inestra di congestione del flusso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all’istante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valore della soglia che separa la regione di Slow Start da quella di 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Congestion Avoidance all’istante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ero di pacchetti trasmessi con successo fino all’istante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er il flusso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ound-trip time del flusso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ll’istante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babilità di perdita dei pacchetti del flusso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lungo il loro path  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all’istante </a:t>
              </a:r>
              <a:r>
                <a:rPr b="0" i="1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35040" y="4613400"/>
            <a:ext cx="8166240" cy="2048760"/>
            <a:chOff x="635040" y="4613400"/>
            <a:chExt cx="8166240" cy="2048760"/>
          </a:xfrm>
        </p:grpSpPr>
        <p:sp>
          <p:nvSpPr>
            <p:cNvPr id="117" name=""/>
            <p:cNvSpPr/>
            <p:nvPr/>
          </p:nvSpPr>
          <p:spPr>
            <a:xfrm>
              <a:off x="635040" y="4613400"/>
              <a:ext cx="8166240" cy="20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Detto inoltre L l’insieme dei buffer sulle porte dei router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it-IT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per ogni </a:t>
              </a:r>
              <a:r>
                <a:rPr b="1" lang="it-IT" sz="20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</a:t>
              </a:r>
              <a:r>
                <a:rPr b="1" lang="it-IT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</a:t>
              </a:r>
              <a:r>
                <a:rPr b="1" lang="it-IT" sz="2000" spc="-1" strike="noStrike">
                  <a:solidFill>
                    <a:srgbClr val="000000"/>
                  </a:solidFill>
                  <a:latin typeface="Tahoma"/>
                </a:rPr>
                <a:t>L, si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apacità del buffer </a:t>
              </a:r>
              <a:r>
                <a:rPr b="0" lang="it-IT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itardo di propagazione sul link in uscita al buffer </a:t>
              </a:r>
              <a:r>
                <a:rPr b="0" lang="it-IT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lunghezza della coda nel buffer </a:t>
              </a:r>
              <a:r>
                <a:rPr b="0" lang="it-IT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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  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babilità di perdita dei pacchetti nel buffer </a:t>
              </a:r>
              <a:r>
                <a:rPr b="0" lang="it-IT" sz="1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</a:t>
              </a:r>
              <a:r>
                <a:rPr b="0" lang="it-IT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1357200" y="5405400"/>
                  <a:ext cx="2304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1357200" y="5721480"/>
                  <a:ext cx="20340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357200" y="6024600"/>
                  <a:ext cx="39708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1357200" y="6351480"/>
                  <a:ext cx="55080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D5FD-EFB5-4319-8079-2C147339BC6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SORGENT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35040" y="2044800"/>
            <a:ext cx="8166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tto 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l’insieme dei buffer attraversati dal fluss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854360" y="2519280"/>
                <a:ext cx="543528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35200" y="3645000"/>
                <a:ext cx="5673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l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77920" y="4591080"/>
                <a:ext cx="498960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1460520" y="5191200"/>
            <a:ext cx="2146320" cy="1491120"/>
            <a:chOff x="1460520" y="5191200"/>
            <a:chExt cx="2146320" cy="1491120"/>
          </a:xfrm>
        </p:grpSpPr>
        <p:sp>
          <p:nvSpPr>
            <p:cNvPr id="128" name=""/>
            <p:cNvSpPr/>
            <p:nvPr/>
          </p:nvSpPr>
          <p:spPr>
            <a:xfrm>
              <a:off x="1460520" y="5978520"/>
              <a:ext cx="1981080" cy="703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cremento addi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7760" y="5191200"/>
              <a:ext cx="559080" cy="787320"/>
            </a:xfrm>
            <a:prstGeom prst="upArrow">
              <a:avLst>
                <a:gd name="adj1" fmla="val 40907"/>
                <a:gd name="adj2" fmla="val 53376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36960" y="5162400"/>
            <a:ext cx="2145960" cy="1491480"/>
            <a:chOff x="3936960" y="5162400"/>
            <a:chExt cx="2145960" cy="1491480"/>
          </a:xfrm>
        </p:grpSpPr>
        <p:sp>
          <p:nvSpPr>
            <p:cNvPr id="131" name=""/>
            <p:cNvSpPr/>
            <p:nvPr/>
          </p:nvSpPr>
          <p:spPr>
            <a:xfrm flipH="1">
              <a:off x="4101480" y="5950080"/>
              <a:ext cx="1981080" cy="7038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cremento moltiplica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936960" y="5162400"/>
              <a:ext cx="558720" cy="952560"/>
            </a:xfrm>
            <a:prstGeom prst="upArrow">
              <a:avLst>
                <a:gd name="adj1" fmla="val 40907"/>
                <a:gd name="adj2" fmla="val 6462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BBA-B932-4978-B268-DA5EB273CB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SORGENT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35040" y="2044800"/>
            <a:ext cx="8166240" cy="767160"/>
            <a:chOff x="635040" y="2044800"/>
            <a:chExt cx="8166240" cy="767160"/>
          </a:xfrm>
        </p:grpSpPr>
        <p:sp>
          <p:nvSpPr>
            <p:cNvPr id="135" name=""/>
            <p:cNvSpPr/>
            <p:nvPr/>
          </p:nvSpPr>
          <p:spPr>
            <a:xfrm>
              <a:off x="635040" y="2044800"/>
              <a:ext cx="816624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Indicato con            il rate di arrivo degli ACK alla sorg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he produce il flusso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i 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" name=""/>
                <p:cNvSpPr txBox="1"/>
                <p:nvPr/>
              </p:nvSpPr>
              <p:spPr>
                <a:xfrm>
                  <a:off x="2695680" y="2073240"/>
                  <a:ext cx="811080" cy="4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14480" y="2774880"/>
                <a:ext cx="432252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)</m:t>
                                  </m:r>
                                </m:sup>
                              </m:sSub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    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Sup>
                                    <m:e>
                                      <m:r>
                                        <m:t xml:space="preserve">λ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A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     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5397480" y="3035160"/>
            <a:ext cx="3517920" cy="495360"/>
          </a:xfrm>
          <a:prstGeom prst="leftArrowCallout">
            <a:avLst>
              <a:gd name="adj1" fmla="val 25002"/>
              <a:gd name="adj2" fmla="val 25000"/>
              <a:gd name="adj3" fmla="val 118362"/>
              <a:gd name="adj4" fmla="val 6667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7480" y="3835440"/>
            <a:ext cx="3517920" cy="482400"/>
          </a:xfrm>
          <a:prstGeom prst="leftArrowCallout">
            <a:avLst>
              <a:gd name="adj1" fmla="val 25002"/>
              <a:gd name="adj2" fmla="val 25000"/>
              <a:gd name="adj3" fmla="val 121542"/>
              <a:gd name="adj4" fmla="val 6667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llision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90560" y="5167440"/>
                <a:ext cx="32385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 rot="2115000">
            <a:off x="1544760" y="3878280"/>
            <a:ext cx="218880" cy="1457280"/>
          </a:xfrm>
          <a:prstGeom prst="downArrow">
            <a:avLst>
              <a:gd name="adj1" fmla="val 50000"/>
              <a:gd name="adj2" fmla="val 16644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662440" y="5270400"/>
                <a:ext cx="2130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flipH="1">
            <a:off x="3340080" y="4902120"/>
            <a:ext cx="2603520" cy="470160"/>
          </a:xfrm>
          <a:custGeom>
            <a:avLst/>
            <a:gdLst>
              <a:gd name="textAreaLeft" fmla="*/ 525240 w 2603520"/>
              <a:gd name="textAreaRight" fmla="*/ 1830600 w 2603520"/>
              <a:gd name="textAreaTop" fmla="*/ 63000 h 470160"/>
              <a:gd name="textAreaBottom" fmla="*/ 407160 h 470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9" hR="21600" stAng="10800000" swAng="5400000"/>
                <a:lnTo>
                  <a:pt x="10826" y="0"/>
                </a:lnTo>
                <a:arcTo wR="8719" hR="21600" stAng="-5400000" swAng="1297157"/>
                <a:lnTo>
                  <a:pt x="18989" y="6187"/>
                </a:lnTo>
                <a:lnTo>
                  <a:pt x="18492" y="21600"/>
                </a:lnTo>
                <a:lnTo>
                  <a:pt x="12772" y="6187"/>
                </a:lnTo>
                <a:lnTo>
                  <a:pt x="14827" y="6187"/>
                </a:lnTo>
                <a:arcTo wR="8719" hR="21600" stAng="-4102843" swAng="-1128385"/>
                <a:lnTo>
                  <a:pt x="9773" y="158"/>
                </a:lnTo>
                <a:arcTo wR="8719" hR="21600" stAng="-5568772" swAng="-5231228"/>
                <a:close/>
              </a:path>
              <a:path fill="darkenLess" w="21600" h="21600">
                <a:moveTo>
                  <a:pt x="0" y="21600"/>
                </a:moveTo>
                <a:arcTo wR="8719" hR="21600" stAng="10800000" swAng="5400000"/>
                <a:lnTo>
                  <a:pt x="8719" y="0"/>
                </a:lnTo>
                <a:arcTo wR="8719" hR="21600" stAng="-5400000" swAng="168772"/>
                <a:lnTo>
                  <a:pt x="9773" y="158"/>
                </a:lnTo>
                <a:arcTo wR="8719" hR="21600" stAng="-5568772" swAng="-5231228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7AA-0002-42B2-84F7-FAC6C4BACA0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35040" y="2044800"/>
            <a:ext cx="8166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er il calcolo di          occorre definire la versione del T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it-IT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potizziamo di considerare sorgenti TCP-NewRe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054240" y="2077920"/>
                <a:ext cx="65268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SORGENT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65160" y="2870280"/>
            <a:ext cx="7569360" cy="1839960"/>
            <a:chOff x="965160" y="2870280"/>
            <a:chExt cx="7569360" cy="1839960"/>
          </a:xfrm>
        </p:grpSpPr>
        <p:sp>
          <p:nvSpPr>
            <p:cNvPr id="148" name=""/>
            <p:cNvSpPr/>
            <p:nvPr/>
          </p:nvSpPr>
          <p:spPr>
            <a:xfrm>
              <a:off x="965160" y="2870280"/>
              <a:ext cx="7569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Definiamo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la probabilità che, quando la finestra di trasmissione vale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, dato per certo che sia avvenuta una perdita, essa sia rilevata attraverso la scadenza di un timeout. Si trova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3300480" y="3914640"/>
                  <a:ext cx="2187360" cy="79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  <m:r>
                        <m:t xml:space="preserve">≃</m:t>
                      </m:r>
                      <m:r>
                        <m:rPr>
                          <m:lit/>
                          <m:nor/>
                        </m:rPr>
                        <m:t xml:space="preserve">min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w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0" name=""/>
          <p:cNvGrpSpPr/>
          <p:nvPr/>
        </p:nvGrpSpPr>
        <p:grpSpPr>
          <a:xfrm>
            <a:off x="444600" y="4572000"/>
            <a:ext cx="8402400" cy="1084320"/>
            <a:chOff x="444600" y="4572000"/>
            <a:chExt cx="8402400" cy="1084320"/>
          </a:xfrm>
        </p:grpSpPr>
        <mc:AlternateContent>
          <mc:Choice xmlns:a14="http://schemas.microsoft.com/office/drawing/2010/main" Requires="a14">
            <p:sp>
              <p:nvSpPr>
                <p:cNvPr id="151" name=""/>
                <p:cNvSpPr txBox="1"/>
                <p:nvPr/>
              </p:nvSpPr>
              <p:spPr>
                <a:xfrm>
                  <a:off x="444600" y="4952880"/>
                  <a:ext cx="8402400" cy="70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Q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d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⋅</m:t>
                          </m:r>
                          <m:r>
                            <m:t xml:space="preserve">Q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d>
                      <m:r>
                        <m:t xml:space="preserve">⋅</m:t>
                      </m:r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2" name=""/>
            <p:cNvSpPr/>
            <p:nvPr/>
          </p:nvSpPr>
          <p:spPr>
            <a:xfrm>
              <a:off x="444600" y="4572000"/>
              <a:ext cx="24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 questo cas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63480" y="5498280"/>
            <a:ext cx="6080400" cy="1172520"/>
            <a:chOff x="663480" y="5498280"/>
            <a:chExt cx="6080400" cy="117252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63480" y="5904000"/>
                  <a:ext cx="2859120" cy="76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λ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L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5" name=""/>
            <p:cNvSpPr/>
            <p:nvPr/>
          </p:nvSpPr>
          <p:spPr>
            <a:xfrm flipV="1" rot="5400000">
              <a:off x="5810040" y="5605560"/>
              <a:ext cx="1041480" cy="825840"/>
            </a:xfrm>
            <a:custGeom>
              <a:avLst/>
              <a:gdLst>
                <a:gd name="textAreaLeft" fmla="*/ 585720 w 1041480"/>
                <a:gd name="textAreaRight" fmla="*/ 890640 w 1041480"/>
                <a:gd name="textAreaTop" fmla="*/ 584640 h 825840"/>
                <a:gd name="textAreaBottom" fmla="*/ 706680 h 82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8407"/>
                  </a:moveTo>
                  <a:lnTo>
                    <a:pt x="15278" y="18407"/>
                  </a:lnTo>
                  <a:lnTo>
                    <a:pt x="15278" y="12149"/>
                  </a:lnTo>
                  <a:lnTo>
                    <a:pt x="12149" y="12149"/>
                  </a:lnTo>
                  <a:lnTo>
                    <a:pt x="16875" y="0"/>
                  </a:lnTo>
                  <a:lnTo>
                    <a:pt x="21600" y="12149"/>
                  </a:lnTo>
                  <a:lnTo>
                    <a:pt x="18471" y="12149"/>
                  </a:lnTo>
                  <a:lnTo>
                    <a:pt x="1847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22760" y="5931000"/>
              <a:ext cx="1295280" cy="70380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Packet loss r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81280" y="6121440"/>
              <a:ext cx="1041480" cy="330120"/>
            </a:xfrm>
            <a:prstGeom prst="leftArrow">
              <a:avLst>
                <a:gd name="adj1" fmla="val 42306"/>
                <a:gd name="adj2" fmla="val 9041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132-6588-4B24-8BA1-AB9590B9E1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35040" y="2044800"/>
            <a:ext cx="81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po qualche operazione algeb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odello fluidico sorgenti TCP in una rete di router AQM</a:t>
            </a:r>
            <a:br>
              <a:rPr sz="2400"/>
            </a:br>
            <a:r>
              <a:rPr b="1" lang="it-IT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EQUAZIONI DELLA SORGENTE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692280" y="2629080"/>
                <a:ext cx="7761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≃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d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P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W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i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  <m:r>
                                        <m:t xml:space="preserve">⋅</m:t>
                                      </m:r>
                                      <m:r>
                                        <m:t xml:space="preserve">Q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W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d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W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&lt;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sSubSup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  <m:sup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P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sup>
                                          </m:sSubSup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d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r>
                                        <m:t xml:space="preserve">t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⋅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sSub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(</m:t>
                                      </m:r>
                                      <m:r>
                                        <m:t xml:space="preserve">P</m:t>
                                      </m:r>
                                      <m:r>
                                        <m:t xml:space="preserve">)</m:t>
                                      </m:r>
                                    </m:sup>
                                  </m:sSubSup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τ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τ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r>
                                        <m:t xml:space="preserve">)</m:t>
                                      </m:r>
                                    </m:den>
                                  </m:f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−</m:t>
                                          </m:r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W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i</m:t>
                                                  </m:r>
                                                </m:sub>
                                              </m:sSub>
                                              <m:r>
                                                <m:t xml:space="preserve">(</m:t>
                                              </m:r>
                                              <m:r>
                                                <m:t xml:space="preserve">t</m:t>
                                              </m:r>
                                              <m:r>
                                                <m:t xml:space="preserve">)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2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  <m:r>
                                        <m:t xml:space="preserve">⋅</m:t>
                                      </m:r>
                                      <m:r>
                                        <m:t xml:space="preserve">Q</m:t>
                                      </m:r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W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sSub>
                                            <m:e>
                                              <m:r>
                                                <m:t xml:space="preserve">τ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)</m:t>
                                          </m:r>
                                        </m:e>
                                      </m:d>
                                      <m:r>
                                        <m:t xml:space="preserve">−</m:t>
                                      </m:r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W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(</m:t>
                                          </m:r>
                                          <m:r>
                                            <m:t xml:space="preserve">t</m:t>
                                          </m:r>
                                          <m:r>
                                            <m:t xml:space="preserve">)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f </m:t>
                                  </m:r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≥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66760" y="5767560"/>
                <a:ext cx="69454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2" name=""/>
          <p:cNvGrpSpPr/>
          <p:nvPr/>
        </p:nvGrpSpPr>
        <p:grpSpPr>
          <a:xfrm>
            <a:off x="635040" y="4341960"/>
            <a:ext cx="7551720" cy="1303200"/>
            <a:chOff x="635040" y="4341960"/>
            <a:chExt cx="7551720" cy="1303200"/>
          </a:xfrm>
        </p:grpSpPr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1166760" y="4921200"/>
                  <a:ext cx="70200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  <m:r>
                        <m:t xml:space="preserve">⋅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sSubSup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,2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64" name=""/>
            <p:cNvGrpSpPr/>
            <p:nvPr/>
          </p:nvGrpSpPr>
          <p:grpSpPr>
            <a:xfrm>
              <a:off x="635040" y="4341960"/>
              <a:ext cx="7099200" cy="430200"/>
              <a:chOff x="635040" y="4341960"/>
              <a:chExt cx="7099200" cy="430200"/>
            </a:xfrm>
          </p:grpSpPr>
          <p:sp>
            <p:nvSpPr>
              <p:cNvPr id="165" name=""/>
              <p:cNvSpPr/>
              <p:nvPr/>
            </p:nvSpPr>
            <p:spPr>
              <a:xfrm>
                <a:off x="635040" y="4341960"/>
                <a:ext cx="709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3333cc"/>
                  </a:buClr>
                  <a:buSzPct val="6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  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Le equazioni relative ai processi          e          sono: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6" name=""/>
                  <p:cNvSpPr txBox="1"/>
                  <p:nvPr/>
                </p:nvSpPr>
                <p:spPr>
                  <a:xfrm>
                    <a:off x="5227560" y="4386240"/>
                    <a:ext cx="59796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67" name=""/>
                  <p:cNvSpPr txBox="1"/>
                  <p:nvPr/>
                </p:nvSpPr>
                <p:spPr>
                  <a:xfrm>
                    <a:off x="6080040" y="4386240"/>
                    <a:ext cx="671040" cy="385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305-D9A7-47B2-9AE0-01B46E7B447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44:40Z</dcterms:created>
  <dc:creator>Gio</dc:creator>
  <dc:description/>
  <dc:language>en-US</dc:language>
  <cp:lastModifiedBy>Università di Catania</cp:lastModifiedBy>
  <dcterms:modified xsi:type="dcterms:W3CDTF">2003-09-17T09:36:22Z</dcterms:modified>
  <cp:revision>120</cp:revision>
  <dc:subject/>
  <dc:title>Presentazione di PowerPoint</dc:title>
</cp:coreProperties>
</file>